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2F67-9F79-410D-9F20-1C6EF2948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18F8-499C-45FE-9EBE-F9F937A2B46A}" type="slidenum">
              <a:rPr b="0" lang="en-US" sz="1200" spc="-1" strike="noStrike">
                <a:solidFill>
                  <a:srgbClr val="336666"/>
                </a:solidFill>
                <a:latin typeface="Arial"/>
              </a:rPr>
              <a:t>&lt;number&gt;</a:t>
            </a:fld>
            <a:endParaRPr b="0" lang="en-US" sz="1200" spc="-1" strike="noStrike">
              <a:solidFill>
                <a:srgbClr val="336666"/>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076B4-BC20-42B2-9A6D-2E75DB96E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B5958-C89F-4116-A284-0415903FB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C42BB-EA47-4559-9F6E-F7433ED43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CF308-2ACF-433E-BAAB-486CC9318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C9DE5-FE21-4A47-AF57-CE2253FA7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4E95F-B47E-4E08-8ABB-1BEF9904E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1414B-05B7-4693-9236-AFC78FE24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AF8CE-E97B-4BD4-B46D-3D7AE3AEB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36F30-13F2-4F9C-9C78-862F1A0F8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128FF-E233-4556-8305-BC5CD73B1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E10ED-FC9C-4484-8B19-0CE0BAE6A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E1632-B906-40A3-AB53-DB3AF030C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093C8-6148-4D84-AFE9-22A891F38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60D71-3589-48FD-B481-367E4E8DC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3A6C7-CB61-4ADB-A640-1EBE763DD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ABD92-EC69-4E28-89D6-F1C49CDC2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77422-136A-4F82-966F-DACA46BF5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34CC2-5A7A-4EF6-950D-F59F82881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5AD0-3410-48E0-A682-FD0B5461C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3A19C-A32E-4282-B2DD-4F664505C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0EC61-7649-44DB-9363-7D1103B4E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7E2A-21DB-4C49-BE68-ACFEB5874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3E51-B9D1-4804-8621-3E844F199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8DC58-EA6F-4D9B-AB01-73C64FF25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64C1-E6DF-41FF-BD13-D085456C0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5B5D-26F3-457E-867B-F401A3A8685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30 de marzo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30"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2F20-E2F0-4039-AEE2-25AE50D2DF0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3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975E-AE33-4C79-9532-92C521AD713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551D-445E-4F74-9C3A-081CA6389DC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792F-B15F-46E6-9B4C-EB37913C2AA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01A8-5BEB-4B30-8DD1-5F6E2A011C2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BC0E-ED0A-4ED5-B0F8-9977B3E3197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5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B442-5462-476F-9623-58F0C6FBF28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BC4E-AB83-4456-881E-CC333D70DE9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io de subsidiari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negativa</a:t>
            </a:r>
            <a:r>
              <a:rPr b="0" lang="en-US" sz="2400" spc="-1" strike="noStrike">
                <a:solidFill>
                  <a:srgbClr val="000000"/>
                </a:solidFill>
                <a:latin typeface="Arial"/>
              </a:rPr>
              <a:t>, el Estado "</a:t>
            </a:r>
            <a:r>
              <a:rPr b="1" lang="en-US" sz="2400" spc="-1" strike="noStrike">
                <a:solidFill>
                  <a:srgbClr val="000000"/>
                </a:solidFill>
                <a:latin typeface="Arial"/>
              </a:rPr>
              <a:t>no debe intervenir en las actividades de las sociedades intermedias cuando desarrollan su actividad y fines real y eficazmente dentro del bien común</a:t>
            </a:r>
            <a:r>
              <a:rPr b="0" lang="en-US" sz="2400" spc="-1" strike="noStrike">
                <a:solidFill>
                  <a:srgbClr val="000000"/>
                </a:solidFill>
                <a:latin typeface="Arial"/>
              </a:rPr>
              <a:t>;...". (“</a:t>
            </a:r>
            <a:r>
              <a:rPr b="0" i="1" lang="en-US" sz="2400" spc="-1" strike="noStrike">
                <a:solidFill>
                  <a:srgbClr val="000000"/>
                </a:solidFill>
                <a:latin typeface="Arial"/>
              </a:rPr>
              <a:t>Autonomí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EE87-3FE3-48D0-BFC2-DC8726F795D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mensión positiva</a:t>
            </a:r>
            <a:r>
              <a:rPr b="0" lang="en-US" sz="2400" spc="-1" strike="noStrike">
                <a:solidFill>
                  <a:srgbClr val="000000"/>
                </a:solidFill>
                <a:latin typeface="Arial"/>
              </a:rPr>
              <a:t> ...implica una </a:t>
            </a:r>
            <a:r>
              <a:rPr b="1" lang="en-US" sz="2400" spc="-1" strike="noStrike">
                <a:solidFill>
                  <a:srgbClr val="000000"/>
                </a:solidFill>
                <a:latin typeface="Arial"/>
              </a:rPr>
              <a:t>protección de las sociedades o grupos intermedios menores </a:t>
            </a:r>
            <a:r>
              <a:rPr b="1" lang="en-US" sz="2400" spc="-1" strike="noStrike" u="sng">
                <a:solidFill>
                  <a:srgbClr val="000000"/>
                </a:solidFill>
                <a:uFillTx/>
                <a:latin typeface="Arial"/>
              </a:rPr>
              <a:t>frente a los mayores</a:t>
            </a:r>
            <a:r>
              <a:rPr b="1" lang="en-US" sz="2400" spc="-1" strike="noStrike">
                <a:solidFill>
                  <a:srgbClr val="000000"/>
                </a:solidFill>
                <a:latin typeface="Arial"/>
              </a:rPr>
              <a:t>, como asimismo un derecho de intervenir del Estado, cuando las sociedades intermedias no sean capaces de realizar su actividad </a:t>
            </a:r>
            <a:r>
              <a:rPr b="1" lang="en-US" sz="2400" spc="-1" strike="noStrike" u="sng">
                <a:solidFill>
                  <a:srgbClr val="000000"/>
                </a:solidFill>
                <a:uFillTx/>
                <a:latin typeface="Arial"/>
              </a:rPr>
              <a:t>real o eficazmente</a:t>
            </a:r>
            <a:r>
              <a:rPr b="1" lang="en-US" sz="2400" spc="-1" strike="noStrike">
                <a:solidFill>
                  <a:srgbClr val="000000"/>
                </a:solidFill>
                <a:latin typeface="Arial"/>
              </a:rPr>
              <a:t> o cuando ellas atenten </a:t>
            </a:r>
            <a:r>
              <a:rPr b="1" lang="en-US" sz="2400" spc="-1" strike="noStrike" u="sng">
                <a:solidFill>
                  <a:srgbClr val="000000"/>
                </a:solidFill>
                <a:uFillTx/>
                <a:latin typeface="Arial"/>
              </a:rPr>
              <a:t>contra el bien común</a:t>
            </a:r>
            <a:r>
              <a:rPr b="0" lang="en-US" sz="2400" spc="-1" strike="noStrike">
                <a:solidFill>
                  <a:srgbClr val="000000"/>
                </a:solidFill>
                <a:latin typeface="Arial"/>
              </a:rPr>
              <a:t>. En tal caso, el Estado debe suplir su tarea, removiendo los obstáculos y restableciendo, </a:t>
            </a:r>
            <a:r>
              <a:rPr b="0" lang="en-US" sz="2400" spc="-1" strike="noStrike" u="sng">
                <a:solidFill>
                  <a:srgbClr val="000000"/>
                </a:solidFill>
                <a:uFillTx/>
                <a:latin typeface="Arial"/>
              </a:rPr>
              <a:t>una vez superados estos últimos, la autonomía de las sociedades intermedias afectadas</a:t>
            </a:r>
            <a:r>
              <a:rPr b="0" lang="en-US" sz="2400" spc="-1" strike="noStrike">
                <a:solidFill>
                  <a:srgbClr val="000000"/>
                </a:solidFill>
                <a:latin typeface="Arial"/>
              </a:rPr>
              <a:t>" (</a:t>
            </a:r>
            <a:r>
              <a:rPr b="0" i="1" lang="en-US" sz="2400" spc="-1" strike="noStrike">
                <a:solidFill>
                  <a:srgbClr val="000000"/>
                </a:solidFill>
                <a:latin typeface="Arial"/>
              </a:rPr>
              <a:t>Asistencia Subsidiari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0D2D-9AC1-4220-BA06-EA6EF50FADA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u="sng">
                <a:solidFill>
                  <a:srgbClr val="000000"/>
                </a:solidFill>
                <a:uFillTx/>
                <a:latin typeface="Arial"/>
              </a:rPr>
              <a:t>no se puede quitar a los individuos</a:t>
            </a:r>
            <a:r>
              <a:rPr b="0" lang="en-US" sz="2400" spc="-1" strike="noStrike">
                <a:solidFill>
                  <a:srgbClr val="000000"/>
                </a:solidFill>
                <a:latin typeface="Arial"/>
              </a:rPr>
              <a:t> y dar a la comunidad lo que ellos pueden realizar con su </a:t>
            </a:r>
            <a:r>
              <a:rPr b="0" lang="en-US" sz="2400" spc="-1" strike="noStrike" u="sng">
                <a:solidFill>
                  <a:srgbClr val="000000"/>
                </a:solidFill>
                <a:uFillTx/>
                <a:latin typeface="Arial"/>
              </a:rPr>
              <a:t>propio esfuerzo e industria</a:t>
            </a:r>
            <a:r>
              <a:rPr b="0" lang="en-US" sz="2400" spc="-1" strike="noStrike">
                <a:solidFill>
                  <a:srgbClr val="000000"/>
                </a:solidFill>
                <a:latin typeface="Arial"/>
              </a:rPr>
              <a:t>, así tampoco es justo, constituyendo un grave perjuicio y perturbación del recto orden, </a:t>
            </a:r>
            <a:r>
              <a:rPr b="0" lang="en-US" sz="2400" spc="-1" strike="noStrike" u="sng">
                <a:solidFill>
                  <a:srgbClr val="000000"/>
                </a:solidFill>
                <a:uFillTx/>
                <a:latin typeface="Arial"/>
              </a:rPr>
              <a:t>quitar a las comunidades menores e inferiores lo que ellas pueden hacer y proporcionar y dárselo a una sociedad mayor</a:t>
            </a:r>
            <a:r>
              <a:rPr b="0" lang="en-U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1EAD-9250-487A-AD3C-2FCCD8CED74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DC7E-538E-47BE-AD62-395B6499211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5277-FEAB-4DE3-B9E1-23CD5174D0C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Santiago Montt</cp:lastModifiedBy>
  <dcterms:modified xsi:type="dcterms:W3CDTF">2010-04-06T01:19:58Z</dcterms:modified>
  <cp:revision>20</cp:revision>
  <dc:subject/>
  <dc:title>Derecho Constitucional Económico</dc:title>
</cp:coreProperties>
</file>