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AF56-A887-47E3-9336-EDF20437D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EF42-2EBD-43D5-9D93-FA2E2A8F8879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6C8C-D840-4FF7-BD47-9906C91E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328C-71F1-4594-ABC5-8919A5B9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133B-179E-40DF-813C-88BCEC23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5782-5F46-4578-8E40-680E3175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8A06-0ECD-4531-B48E-7E39E50E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9AD4-973F-4F64-824D-015A4AE6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7ED1-0D43-4BB3-B250-9966BCDF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2B04-0093-485E-BAE9-04FCC763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95E4-813B-443A-94E1-3F0CC326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5015-853D-4526-9C3A-2D7DC771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0B0C-6464-40D2-B0C1-A9743C6B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AFCB-EFFD-48B9-A7FF-8D252B0F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D14F-0B4B-4883-89C1-5345C9F6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E8BB-92E7-4EE8-93D8-ABF0DF37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E9C1-DD78-4FA3-A418-168296FE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95E5-F418-4DCE-BD1D-7CD80057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FF96-7B6B-4D91-9E7F-DC821D70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1E14-C523-42BC-A9FE-C85C94C1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01FE-6514-4958-985E-EAFF5405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7BA6-0FD2-42CB-9B54-5D1A27F0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D3CA-7CC4-49F2-8831-0864A303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8061-3376-42FD-AFC5-2F3179CC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8F59-F778-4158-9335-EC648BE2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3125-CFB4-47C7-80D6-E1593785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B060-0E49-4EB6-9C8B-8F096B369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EA5F-4F82-4B7D-860E-70C187F9CD73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Apli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ntiago Montt O. / 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ño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7263-BF9F-414F-8DA1-98CB0902C3CF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¿Mercado de la Salu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3962520" y="2286000"/>
            <a:ext cx="2133360" cy="60948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4267080" y="2506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estado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1828800" y="4648320"/>
            <a:ext cx="1752480" cy="68580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981080" y="4800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acient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5943600" y="4572000"/>
            <a:ext cx="1752480" cy="68580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943600" y="4724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Asegurado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 flipV="1">
            <a:off x="2971800" y="2971440"/>
            <a:ext cx="144792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Line 11"/>
          <p:cNvSpPr/>
          <p:nvPr/>
        </p:nvSpPr>
        <p:spPr>
          <a:xfrm flipH="1" flipV="1">
            <a:off x="5714640" y="2971440"/>
            <a:ext cx="68580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3581280" y="5029200"/>
            <a:ext cx="205740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248520" y="31240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úblicos vs. Privado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 flipH="1">
            <a:off x="2743200" y="2971800"/>
            <a:ext cx="1371600" cy="1523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AutoShape 15"/>
          <p:cNvSpPr/>
          <p:nvPr/>
        </p:nvSpPr>
        <p:spPr>
          <a:xfrm>
            <a:off x="3657600" y="5562720"/>
            <a:ext cx="2133720" cy="38088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4038480" y="5562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Regulado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 flipV="1">
            <a:off x="5791320" y="5334120"/>
            <a:ext cx="838080" cy="380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 flipV="1">
            <a:off x="4724280" y="2971440"/>
            <a:ext cx="0" cy="25909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628D-F1C3-4ABA-8731-51291D583A4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puede ser maximizado el “bien salud” teniendo como base la “dinámica constitucional” y un mercado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típ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ientes tendencias jurispruden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evisión del precio base; inciso 3° del art. 197 del D.F.L. N° 1 de 2005 (19 N° 24 CPR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bla de factores”; art. 199 del D.F.L. N° 1 de 2005 (19 N°s 9 y 24 CPR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7CA2-019B-4DD7-BA7F-D96178F440FE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ientes tendencias jurispruden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clerosis Múltiple”; art. 19 N°s 1 y 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áncer de Mamas”; art. 19 N°1 + tratados inter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mbios en las relaciones de intercambio del “bien salud”. ¿Quién paga el costo fi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D18F-5017-4F2F-ABB8-BD723B5AC94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 protección de la salud y a la seguridad social son d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turaleza prestacional o de la segunda generació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involucrando conductas activas de lo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órganos estatal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de lo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ticular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ara materializarlos en la práctica, habida consideración de que la satisfacción de tales exigencias representa un rasgo distintivo de la legitimidad sustantiva del Estado Social en la democracia constitucional contemporán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TC – Rol N° 1287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C64D-1D0D-4784-9EE9-977F7D8EAEC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egunta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Lleva la “dinámica constitucional” necesariamente a maximizar el “bien salud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afecta al “mercado de la salud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elementos juegan en contra y cuáles a fav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CBCA-75BD-44F7-8B3E-AFDB9324E6A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egunta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procesos son “forzados” por esta dinám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Se encuentran los incentivos bien pues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Se realiza “políticas públicas” a través de los fallos en materias constitucional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363D-84F4-4EDC-AA64-0770F976F73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nder qué fenómenos desencadena la “dinámica constitucional” en los mer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mo se desencadenan dichos fenóme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754F-54AC-4BCD-8BAF-87906FBB3D2F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arrollar una “mirada crítica” a estos fenómenos, desde el punto de vista de la “economía del bienestar” (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welfare economic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: Eficiencia productiva y efectos (re)distributivo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FE3F-95AE-40A5-B5EA-1B8F4F249DDF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ases expositivas fundamen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álisis de lecturas y estudios de casos conocidos en la práctica por nuestros tribunales de justicia. Se efectuarán discusiones en torno a los mismos y trabajos en grupos de alum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ementos interdisciplinarios: participación de no abogados para ciertas mate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ortancia del ingl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C82A-E9A8-4BE6-9FD6-A651A932A11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isceláne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asistencia será obligatoria en un 70% y será controlada en forma efectiv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ción se efectuará de la siguiente forma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ontrol de lectura : 30%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rabajo de investigación : 30%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xamen final : 40%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 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214 recursos presentados contra Isapres durante el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apres perdieron el 96% de esos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58 durante el primer semestre del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s de 3 mil millones de pesos pagados a abogados en co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inaplicabilidad perdidas en el TC relativas a la tabla de f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 esto no obstante una gran reforma a la salud del año 2005 (GES o AU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501F-91EC-4394-BF62-5BEBE264BC16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4667-671A-4D55-A562-7690FCB1C6DA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isceláne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:http://web.derecho.uchile.cl/pregrado/2010_1/pro_d.php?recordID=8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 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ili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19 No. 1,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cto Internacional de Derechos Económicos, Sociales y Cultura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tículo 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a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19 No. 21, 22 y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C539-9290-48E2-A912-78C9DE5F5E9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5C50-6334-481B-BA5B-47745E08F27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 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eciente importancia del derecho constitucional en la estructuración de las relaciones económ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ol catalizador de las nuevas facultadas del TC, tras reforma de 2005 (Ley N° 20.05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erimientos de inaplicabilidad por inconstitucionalidad + declaraciones de inconstitucionalidad (art. 93 N°s 6 y 7 CP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59EE-8398-4B7D-94E0-145636A2B7A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ecto relativo vs.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erga om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ursos de Protección (art. 20 CP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an parte de los conflictos de connotación pública terminan directa o indirectamente en el 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B410-E111-4C23-81C2-D7555F3510F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laciones Bi-direccion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4114800" y="2286000"/>
            <a:ext cx="1600200" cy="685800"/>
          </a:xfrm>
          <a:prstGeom prst="flowChart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4343400" y="2514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2209680" y="4495680"/>
            <a:ext cx="1752840" cy="457200"/>
          </a:xfrm>
          <a:prstGeom prst="flowChartTerminator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5791320" y="4495680"/>
            <a:ext cx="1676160" cy="457200"/>
          </a:xfrm>
          <a:prstGeom prst="flowChartTerminator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438280" y="45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ivad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5943600" y="4572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ivad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 flipV="1">
            <a:off x="3048120" y="3124080"/>
            <a:ext cx="1600200" cy="13716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 flipH="1" flipV="1">
            <a:off x="5105160" y="3124080"/>
            <a:ext cx="1523880" cy="13716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 flipH="1">
            <a:off x="2819160" y="3048120"/>
            <a:ext cx="1523880" cy="12952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5410080" y="3124080"/>
            <a:ext cx="1371600" cy="12193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3962520" y="4724280"/>
            <a:ext cx="17524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Line 16"/>
          <p:cNvSpPr/>
          <p:nvPr/>
        </p:nvSpPr>
        <p:spPr>
          <a:xfrm flipH="1">
            <a:off x="3962520" y="4876920"/>
            <a:ext cx="167616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3048120" y="2971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Regulador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2286000" y="3429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restacional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3657600" y="39625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Acc. Const.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3886200" y="510552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Intereses C° relevante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Line 21"/>
          <p:cNvSpPr/>
          <p:nvPr/>
        </p:nvSpPr>
        <p:spPr>
          <a:xfrm flipV="1">
            <a:off x="4876920" y="3123720"/>
            <a:ext cx="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7010280" y="4114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restadore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6019920" y="2971800"/>
            <a:ext cx="2057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seudo-regulador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osición dominante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BFAE-743A-4B85-9740-0F241CBB3DF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fectos (Re-)Estructurant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ntes: Control preventivo de constitucionalidad art. 93 N°s 1 y 3 CP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estructurantes: Control correctivo (art. 93 N°s 6 y 7 CP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lación dinámica con influencia en oferta, demanda, bienes y servic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4980-7E84-4015-ADDB-E62DA76422C2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Libertades, D°s &amp; Garantí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iamente Económicos: Art. 19 N° 2, 20, 21, 22, 23, 24 y 25 (influyen y sustentan directamente producción, intercambio, distribución y consum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 “potencialidades” económicas: pueden implicar costos o beneficios. Art. 19 N°s 1, 8, 9, 11, 15, 16, 18, 19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cepto de Orden Públic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E10B-C97E-48F4-A09F-AA5C4FCB81CD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¿Mercado de la Salu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ta connotac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rcado “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típ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” (presenta numerosas “falla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tervención regulatoria correctiva ¿nuevas fall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4:35:34Z</dcterms:created>
  <dc:creator>jlcarden</dc:creator>
  <dc:description/>
  <dc:language>en-US</dc:language>
  <cp:lastModifiedBy>Santiago Montt</cp:lastModifiedBy>
  <dcterms:modified xsi:type="dcterms:W3CDTF">2010-03-23T22:27:01Z</dcterms:modified>
  <cp:revision>11</cp:revision>
  <dc:subject/>
  <dc:title>Derecho Constitucional Económico</dc:title>
</cp:coreProperties>
</file>