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3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whoosh.wav" ContentType="audio/x-wav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8.jpeg" ContentType="image/jpeg"/>
  <Override PartName="/ppt/media/image24.jpeg" ContentType="image/jpeg"/>
  <Override PartName="/ppt/media/image22.png" ContentType="image/png"/>
  <Override PartName="/ppt/media/image57.jpeg" ContentType="image/jpeg"/>
  <Override PartName="/ppt/media/image19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49.jpeg" ContentType="image/jpeg"/>
  <Override PartName="/ppt/media/image20.jpeg" ContentType="image/jpeg"/>
  <Override PartName="/ppt/media/image18.jpeg" ContentType="image/jpeg"/>
  <Override PartName="/ppt/media/image2.gif" ContentType="image/gif"/>
  <Override PartName="/ppt/media/image1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3.gif" ContentType="image/gif"/>
  <Override PartName="/ppt/media/image8.jpeg" ContentType="image/jpeg"/>
  <Override PartName="/ppt/media/image1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2.jpeg" ContentType="image/jpeg"/>
  <Override PartName="/ppt/media/image6.png" ContentType="image/png"/>
  <Override PartName="/ppt/media/image59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4444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4444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7E1F-4C39-4296-AFEA-0ED671B9A6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37E-ED6F-482D-ADB9-81788FE509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FD1-BC80-4E54-A52C-D046F56717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793E-E281-415B-9908-0C5655A966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2D76-E42E-43D8-8C33-8958B967CB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F3E8-23DB-477F-AE69-6BA13B171F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C41-2CD9-451F-8689-F259F99B27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D91-B146-4473-8A87-05898C80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20C-9679-4EB2-B739-3D430B5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BEA72-D6F5-4F4F-858E-048A8FAD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3A34-F020-41FD-B479-1842251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33C2E-85AF-407B-A43C-5E1734F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5435-E638-4404-B7E5-D646156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350E-8F4D-4EC0-9313-737A450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A57D1-E860-4796-813A-D88379F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21052-5A1C-4431-AD1E-2B00D10B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A8763-2EDB-4C68-A4FC-93499ED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8BBEB-8A61-435B-B9BF-25950B83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58F9C-29D4-4D7E-A580-F343295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D80-C573-4D45-8337-AA025673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D0697-609E-4068-8623-68542F1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C57F0-363C-42A7-8556-C17EF334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15136-7AE3-40D8-B4EF-E5B07105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5B0BD-477D-4D5E-B40A-7572839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ADA2-2935-4E90-B011-C4E539BD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FCC1D-138F-490F-A3BE-B06C860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AC1A6-3581-4D1A-B351-5741AA2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A5D0A-5C8F-443E-941F-061EF93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DD90F-51C6-405B-918B-641CAD2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0E6C0-D65F-4AB9-9B55-7A694A36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CBC-0188-416A-A41F-09728234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40302-BA9E-45B6-9CCF-E508FC93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1BEC1-B351-4C0E-B398-11BD5E1F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D2FA0-4D54-4F86-916E-2C457597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3FBE0-A6A1-4D95-A7B5-5D8D7B61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739BA-9D8C-4F34-AE29-2AE19D2D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59EC2-773D-46FC-897A-AA2E731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441EA-5F76-494C-8CAA-837D83D5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45228-F5B3-4781-9F8A-687D30EF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63662-A2D3-48EB-8CA9-347C109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39C3C-2224-4521-A2C3-E3C4B0C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C956-4B26-4F74-959E-49F17B1B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801AB-77D5-4F74-8FDF-6BC4C15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239EC-EACD-4FE2-BEEF-A4606FAE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88D42-09B1-4A72-8FB9-5B36400A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B7137-771B-4053-ABC2-66F7EAE0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562E4-5881-4318-93FF-379BCEA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B2F65-5090-4779-A2C6-CFB3C65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46BA0-1F5E-4D06-B7D7-0897135E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15829-86BB-41CA-8A2A-FA4C8A4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557C-12D6-4FC1-A46B-B52B974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D4DF3-DD5A-46B5-BEC0-82A22D4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3017-BBB8-4EEA-B886-8F2A28E6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D064E-BDB0-48EE-842A-EE6ABED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AF184-43B8-4660-ABB1-E16D69D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1C86F-F2B2-4A58-8511-F8B9BB48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CCD02-5544-422F-AC22-748922A2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2B15D-DF18-49BB-9E34-30573FF5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F2DFF-4B40-44C8-9095-47B019F7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6767C-95BC-4F20-8D1C-56FAF60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8D04A-7DDA-4D8A-B26E-314FE3D3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14277-7C53-453C-8D72-35F0463F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E9D34-B437-4F3C-BFAD-B32B775B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F7A9-32C8-44C8-B405-F15D0E57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9CD55-0D6D-422D-96C5-ACACB24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5575F-48EF-4191-AF5A-5AC1998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84F5D-DD94-430D-9170-3720298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77948-A9AB-4953-846D-AE9D709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1142C-5C93-456F-9F10-FD8F85B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40573-D0DD-4321-8038-549EC143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9BC4F-8403-404C-B791-4159CA70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599-12FF-4D91-BDC9-DC1ACB92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C90-6699-4FF0-B7A2-E00B8245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DF4-4C94-4637-9C20-36BEC9A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D124-DFF2-4710-AFB5-2C128E09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1E2-2838-440F-9296-8B01054A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5CA-C574-4739-9562-A4C0ADA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254A-DF8E-450E-B214-E654DB4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1698-2E34-40BC-80F5-5E374A3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16BE-F812-4845-B91A-E78E782F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E2D1-CAA4-4F2E-BE1A-3F98ED94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3A05-B010-4996-B77D-158779ED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B947-2B69-440E-BD60-0EC1B36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5966-37D7-4B42-B67E-B7936AC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AD3D-CAD0-48A2-BCB4-318E441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33E4-15C4-41C8-AF3C-3782CFB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5DF-A38A-456F-AFB2-03413C49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841C-E968-44C6-A932-304CB55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B15E-BF70-41B0-B697-17DF296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0F53-ABB4-442B-8289-B12E36DA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67E0-912A-47E6-BAE1-B457F8C3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EF3E-D303-4FAB-8DFA-47318FA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4818-7791-42B0-AA11-AA35D7E4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A02A-992E-4A69-B23B-167822E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F6F6-7697-4E35-9067-1FB462F9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AA6D-2C82-405B-8B1F-721EE7B2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E7F9-2E76-4532-871F-88856AF9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BF9-2C91-4FD7-86AC-B63D121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16BB-CFF2-452F-8216-F1D4EB35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3372-A6E6-4130-987D-45A04B57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470E8-C678-4BD1-B324-189DC731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A0D7-64E6-4F33-B70D-CCB002E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A2A3-F5A0-49E4-A1C4-1875AAE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83EA-4791-428A-964C-07F2FC2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6EA0-8915-44EC-9EB1-E2CF11D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74C7-A8A8-43AD-A997-47F0FB5A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B4CF-85D9-402C-9E67-629F5E10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9A6C-13E2-4B5D-9F6B-0ED331CD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09F-8C76-40CB-8323-99C15441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B196-16C4-4B44-966C-68E10C4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4FB1-C71C-49C4-BDE3-D002F88E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AF5C-F42B-4276-9255-BAAF95B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83E9-3379-490B-92ED-4B4F39D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833C-A472-4242-A9F8-6E86CA9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3107-D093-4C89-964D-AA9F52C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B865-4BAD-4563-BE06-9323D8E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CDA6-0FE6-4879-897C-728BADD7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C1FC-AF5F-49C0-BE72-006DE5A4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AFAD-DC30-4F10-9399-36DBCC26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BC0-F967-48D5-BA39-18C7FD2E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05964-7E55-4042-9B88-542C509A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7957C-0CF8-410D-B696-BDDD83D8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76EF6-E73D-4342-B740-CF1357F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70409-343F-455E-8A0B-22B4D11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B6D65-2AF5-4C4F-82E1-04AA2D69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1952-7E44-43E6-B70A-8F1740B1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31F9-BAAA-49AE-B120-7D3A496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DC6D-7B43-433A-89F5-D2E7804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4522D-7870-4BA1-BEBE-59457F7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9643-52D7-4BCF-AF51-7F70173E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B3A-A295-4FFA-83B3-0CEC966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C716F-55B7-4938-A7CC-FFD305E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09656-FEC7-4A65-A3CB-A0365F9C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58C6-3C28-4A45-BB16-B22AEDB7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D5F6-0339-45AF-B9AF-E07E4C26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B67A2-7327-426C-AE15-F8D9077D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C33A-C535-4DDA-A94F-E6C76B2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7C45-71CC-4B87-BD79-26F0E8C6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94E0-191F-4804-ACD9-D81067A0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E2091-0587-4AC3-B995-D8CEE8DB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4CF62-D029-47C9-86BC-AB59D1B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39F-5CE0-4644-9A20-0A82244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CBF2-B145-4527-A998-77B1345A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57B53-420D-4774-A78C-7171856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FF3FE-87A6-4721-A0FC-07FBDB29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44B7D-8A85-4DF3-9060-F3A5F424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BACE-DC35-44E8-A823-6D3E50FB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F95D4-EF1F-4B47-AC4A-0B86719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388A7-896C-405A-A013-C6B98493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8810B-1C94-49B2-890B-CFEB80E8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7A1B8-A254-474D-A2A8-6B0686D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00AD8-CAEC-4979-9920-EA90DE8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A86-7949-42F6-9F61-284D5B5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91F24-A684-4CC3-99EC-1D732FA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C46F-A61F-4877-A30C-A84AF51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49217-A45B-4770-B3F4-613797E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1C45E-B57E-421C-8D42-D4170FB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5B233-69A7-483C-AC5B-0669DF3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F18C-494C-4104-86D0-1859AEC4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0347-57CD-4ECB-BA79-A5FB7474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8D642-89E7-46CC-88C4-C7F3C136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53EEA-69C3-4DE1-A2DA-E6301273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A62E-D71B-46C3-80AF-3B81587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B4C-C111-4124-81ED-EC2FD7DC6C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432E-4A7E-4878-8E39-BA0C373FFE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0461-0E24-473D-B02D-CE7E3AD499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66D-54A5-4D3E-A5D7-CDC1B7CE12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479-B7B7-4E25-AB20-89B6764ACF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2CC7-7BB8-4BB0-A45C-103BDA53E2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76B7-5D20-44CD-A251-45A1B576DE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2FE8-1C00-4CBF-A6E8-ED00403B60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765-DAC0-4DBC-A55E-377C6802EA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0592-BE32-485E-A7B7-CC05609F2A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B6FE-E2B7-4D29-842E-660EFAB932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FD0B-8CE3-477D-8DA2-72C74415BF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2CA-BB0B-45BA-A670-301FD0E828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gatopardo.blogia.com/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40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hyperlink" Target="http://gatopardo.blogia.com/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447920" y="36572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rgio Mi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mela Calde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ía de los Ángele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arendt4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637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0068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6"/>
          <p:cNvPicPr/>
          <p:nvPr/>
        </p:nvPicPr>
        <p:blipFill>
          <a:blip r:embed="rId4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nah Arendt nos introducirá en la condición humana presentándonos las distintas actividades de esta: labor, trabajo y acción. Veremos que la esfera privada está marcada por la necesidad y la jerarquía, en contra d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bert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gual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acio públ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l ideal antiguo de la vida activa, muerto tras la caída de la Atenas democrática y la R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public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el ascenso d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da contemplat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volverá a regir en las revoluciones liberales y republicanas de 1776, 1789, 1804 y 1810. Sin embargo, en los tiempos modernos volverá a primar, sobr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imal laboran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omo fab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Demostración de ello en la frenética vida del estudio, el trabajo y el consumo que nos rige, a despecho del ciudadano. El curso defenderá la necesidad de la política como actividad destinada a cuidar a la polis entendida como orden pluralista y pacífico, libre e iguali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5" descr="bb93e6_sena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curso busca desarrollar tres competencias en los alumnos. La primera – cognitiva - es transmitir los conceptos y teorías centrales del debate republicano contemporáne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4" descr="republica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24000" y="549000"/>
            <a:ext cx="45306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En segundo lugar busca promover las habilidades de la deliberación y la participación en clas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5" descr="Tertulia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388296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Finalmente, se busca promover a un líder activo en la reivindicación de lo público y en la transformación de la democracia chilena y latinoamericana del bicentena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7" descr="liderazgoPinguinos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cart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9" descr="sPBvpHWhvRqPySCDnaidyZiLTWOWWzqTVtQdiKju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39" name="AutoShape 14"/>
          <p:cNvSpPr/>
          <p:nvPr/>
        </p:nvSpPr>
        <p:spPr>
          <a:xfrm>
            <a:off x="0" y="1341360"/>
            <a:ext cx="1835280" cy="1727280"/>
          </a:xfrm>
          <a:prstGeom prst="wedgeRoundRectCallout">
            <a:avLst>
              <a:gd name="adj1" fmla="val 22060"/>
              <a:gd name="adj2" fmla="val 78861"/>
              <a:gd name="adj3" fmla="val 1666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5"/>
          <p:cNvSpPr/>
          <p:nvPr/>
        </p:nvSpPr>
        <p:spPr>
          <a:xfrm>
            <a:off x="2089080" y="0"/>
            <a:ext cx="7054920" cy="1440000"/>
          </a:xfrm>
          <a:prstGeom prst="wedgeRoundRectCallout">
            <a:avLst>
              <a:gd name="adj1" fmla="val 30018"/>
              <a:gd name="adj2" fmla="val 196967"/>
              <a:gd name="adj3" fmla="val 1666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WordArt 16"/>
          <p:cNvSpPr txBox="1"/>
          <p:nvPr/>
        </p:nvSpPr>
        <p:spPr>
          <a:xfrm>
            <a:off x="2268360" y="404640"/>
            <a:ext cx="687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!! Yo soy el profesor Micco ¡¡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42" name="WordArt 17"/>
          <p:cNvSpPr txBox="1"/>
          <p:nvPr/>
        </p:nvSpPr>
        <p:spPr>
          <a:xfrm>
            <a:off x="0" y="1989000"/>
            <a:ext cx="15238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 soy M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3" name="AutoShape 20"/>
          <p:cNvSpPr/>
          <p:nvPr/>
        </p:nvSpPr>
        <p:spPr>
          <a:xfrm>
            <a:off x="684360" y="2492280"/>
            <a:ext cx="772920" cy="936720"/>
          </a:xfrm>
          <a:prstGeom prst="downArrow">
            <a:avLst>
              <a:gd name="adj1" fmla="val 50000"/>
              <a:gd name="adj2" fmla="val 30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1"/>
          <p:cNvSpPr/>
          <p:nvPr/>
        </p:nvSpPr>
        <p:spPr>
          <a:xfrm>
            <a:off x="7236000" y="4941720"/>
            <a:ext cx="846000" cy="1768680"/>
          </a:xfrm>
          <a:prstGeom prst="upArrow">
            <a:avLst>
              <a:gd name="adj1" fmla="val 50000"/>
              <a:gd name="adj2" fmla="val 522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3" descr="gorillabrain"/>
          <p:cNvPicPr/>
          <p:nvPr/>
        </p:nvPicPr>
        <p:blipFill>
          <a:blip r:embed="rId2"/>
          <a:stretch/>
        </p:blipFill>
        <p:spPr>
          <a:xfrm>
            <a:off x="6408720" y="3573360"/>
            <a:ext cx="27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5" descr="Gatopar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eptos cent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 final del curso el alumno deberá dominar los conceptos de política, democracia, labor, trabajo, acción, contemplación, violencia, libertad, igualdad, esfera pública, participación, república, estado, liderazgo adaptativo y capital so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-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revoluciones republicanas de 1776, 1789, 1804 y 18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ynch, John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s revoluciones hispanoamericanas: 1808-182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el; Barcelona; España; capítulos primero y décimo; pp. 9-43 y 336-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revolucioneshispanoamericanas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" descr="mensaje_bote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575316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- La excepcionalidad chil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turo y Samuel Valenzuela.  “Los orígenes de la democracia en Chile”. en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vista de Estudios Públic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Centro de Estudios Públicos. Santiago de Chile. 19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Chili"/>
          <p:cNvPicPr/>
          <p:nvPr/>
        </p:nvPicPr>
        <p:blipFill>
          <a:blip r:embed="rId4"/>
          <a:stretch/>
        </p:blipFill>
        <p:spPr>
          <a:xfrm>
            <a:off x="1071720" y="571680"/>
            <a:ext cx="1325520" cy="100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- El discurso republicano chileno  entre 1810 y 18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** Castillo, Vasco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reación de la república;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m Ediciones, Santiago de Chile; 2009; pp. 15-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http://www.memoriachilena.cl/archivos2/cronoim/camiloaurora.jpg"/>
          <p:cNvPicPr/>
          <p:nvPr/>
        </p:nvPicPr>
        <p:blipFill>
          <a:blip r:embed="rId3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44720" y="1483920"/>
            <a:ext cx="4498920" cy="537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La decepción con la democracia latinoamericana post 1979: democracia electoral con pobreza y desigual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 de las Naciones Unidas para el Desarrollo;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democracia en América Latin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Hacia una democracia de ciudadanos y ciudadanas; Santiago de Chile; 2004; pp. 33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8" descr="www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1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- La política como arte del cuidado pacífico del orden pl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cía-Huidobro, Joaquín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mpatía por la polí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Centro de Estudios del Bicentenario; Santiago de Chile; 2007; pp. 11-75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8" descr="plato_aristoteles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Gatopardo"/>
          <p:cNvPicPr/>
          <p:nvPr/>
        </p:nvPicPr>
        <p:blipFill>
          <a:blip r:embed="rId2"/>
          <a:stretch/>
        </p:blipFill>
        <p:spPr>
          <a:xfrm>
            <a:off x="450072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49892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6.- El retorno de la política: la pa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ck, Bernard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defensa de la polí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Tusquets editores; Barcelona; España; 2001; pp.15-36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6" descr="Bernard%20Crick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0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644720" y="260280"/>
            <a:ext cx="4498920" cy="633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7.- El republicanismo anti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ld, David,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elos de democra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Alianza Ensayo, Madrid, Ensayo, 2001, pp. 55-90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4" descr="logo_republica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3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ón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olencia y arbitrariedad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ótele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particular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ón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z y Derech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ótele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Común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ranía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arquí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garquí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ocraci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ch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locraci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epública o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emocracia rect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56000" y="609120"/>
            <a:ext cx="440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4498920" cy="4616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8.- La gran dicotomía público/pr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bbio, Norberto;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do, gobierno y sociedad;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ndo de Cultura Económica; México; 1996; pp. 11-38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9" descr="493852_normal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1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995280" y="1980720"/>
            <a:ext cx="514836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7" descr="arendt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6" descr="45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85480" y="549000"/>
            <a:ext cx="578628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memoramos el bicentenario del inicio de la independencia hispanoamericana. Nos liberamos de España para sentar repúblicas prósper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sanmartin"/>
          <p:cNvPicPr/>
          <p:nvPr/>
        </p:nvPicPr>
        <p:blipFill>
          <a:blip r:embed="rId3"/>
          <a:stretch/>
        </p:blipFill>
        <p:spPr>
          <a:xfrm>
            <a:off x="607212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44989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La búsqueda de la inmortalidad en l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 activ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dt, Hanna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Paidos; Barcelona; España; 1993; pp. 21 – 36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Arendt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4" descr="Gatopardo"/>
          <p:cNvPicPr/>
          <p:nvPr/>
        </p:nvPicPr>
        <p:blipFill>
          <a:blip r:embed="rId2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44989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0.- Vida activa moderna: la labor de nuestro cuerpo y el trabajo de nuestr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endt, Hanna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la historia a la a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5; pp. 89- 107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7" descr="arendt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9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067280" y="198072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- La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vita activa,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 esfera privada y pública: libertad e 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3; pp. 37-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9" descr="arendt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00320" y="428760"/>
            <a:ext cx="514332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.- Diversidad y pluralismo</a:t>
            </a:r>
            <a:br>
              <a:rPr sz="2800"/>
            </a:b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rtori, Giovanni; Los fundamentos del pluralismo; en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ista La Polít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; Número 1; Liberalismo, comunitarismo y democracia; Paidós; Barcelona; España; 1996; pp. 107-122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6" descr="SartoriMaquiavelo"/>
          <p:cNvPicPr/>
          <p:nvPr/>
        </p:nvPicPr>
        <p:blipFill>
          <a:blip r:embed="rId1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423684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2.- El drama de un pacif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908000" y="4436640"/>
            <a:ext cx="511200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bbio, Norberto; Autobiografía, Taurus, Madrid, 199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11" descr="ihycm-p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de4176c9b1964af1c641c90c671bfc4f"/>
          <p:cNvPicPr/>
          <p:nvPr/>
        </p:nvPicPr>
        <p:blipFill>
          <a:blip r:embed="rId2"/>
          <a:stretch/>
        </p:blipFill>
        <p:spPr>
          <a:xfrm>
            <a:off x="5786280" y="0"/>
            <a:ext cx="3357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3.- ¿Qué es el espacio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** 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3; pp. 37-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5" descr="ojos%20verdes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4000" y="1916280"/>
            <a:ext cx="8080200" cy="1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arendtIII"/>
          <p:cNvPicPr/>
          <p:nvPr/>
        </p:nvPicPr>
        <p:blipFill>
          <a:blip r:embed="rId1"/>
          <a:stretch/>
        </p:blipFill>
        <p:spPr>
          <a:xfrm>
            <a:off x="5435640" y="0"/>
            <a:ext cx="1454040" cy="17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1" name=""/>
          <p:cNvGraphicFramePr/>
          <p:nvPr/>
        </p:nvGraphicFramePr>
        <p:xfrm>
          <a:off x="0" y="2205000"/>
          <a:ext cx="9144000" cy="4537080"/>
        </p:xfrm>
        <a:graphic>
          <a:graphicData uri="http://schemas.openxmlformats.org/drawingml/2006/table">
            <a:tbl>
              <a:tblPr/>
              <a:tblGrid>
                <a:gridCol w="2987640"/>
                <a:gridCol w="2987640"/>
                <a:gridCol w="316872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a contemplativ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mplación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sa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e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zga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da activ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da Públic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cción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da Privad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abajo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da Privad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bo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12" name="Picture 42" descr="Arendt1"/>
          <p:cNvPicPr/>
          <p:nvPr/>
        </p:nvPicPr>
        <p:blipFill>
          <a:blip r:embed="rId2"/>
          <a:stretch/>
        </p:blipFill>
        <p:spPr>
          <a:xfrm>
            <a:off x="0" y="0"/>
            <a:ext cx="1835280" cy="22766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4" descr="arendt"/>
          <p:cNvPicPr/>
          <p:nvPr/>
        </p:nvPicPr>
        <p:blipFill>
          <a:blip r:embed="rId3"/>
          <a:stretch/>
        </p:blipFill>
        <p:spPr>
          <a:xfrm>
            <a:off x="2484360" y="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5" descr="Hannah%20Arendt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4.- La libertad republicana: ¿Qué es la libert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tre el pasado y el futu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enínsula; Barcelona; España; pp. 155-184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6" descr="Paloma en LIBERTAD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572000" y="1177920"/>
            <a:ext cx="423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5.-  ¿Por qué la igualdad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ahl, Robert;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mocracia. Una guía para los ciudadano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; Taurus; Madrid; España; 1999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title"/>
          </p:nvPr>
        </p:nvSpPr>
        <p:spPr>
          <a:xfrm>
            <a:off x="682200" y="464040"/>
            <a:ext cx="34606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igualdad"/>
          <p:cNvPicPr/>
          <p:nvPr/>
        </p:nvPicPr>
        <p:blipFill>
          <a:blip r:embed="rId1"/>
          <a:stretch/>
        </p:blipFill>
        <p:spPr>
          <a:xfrm>
            <a:off x="0" y="46080"/>
            <a:ext cx="4524480" cy="6811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3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644720" y="-360"/>
            <a:ext cx="4498920" cy="659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6.- El republicanismo contemporáneo: autogobierno, deliberación y vir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vejero, Félix y otros: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as ideas republicanas. Autogobierno y libert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 Paidós; Barcelona; España; 2003; pp. 11-58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iguiendo la inscripción que aparece en la parte superior del lienzo -"EX PRAETERITO - PRAESENS PRUDENTER AGIT - NI FUTURU(M)./ACTIONEM DETURPET", "del pasado al presente es preciso actuar con prudencia para no arruinar la acción futura"- Panofsky ha interpretado esta obra como una alegoría del Tiempo gobernado por la Prudencia.Las tres cabezas humanas -que se interpretan como las tres edades del hombre- se asocian con tres cabezas de animales que se asocian con la memoria, la inteligencia y la providencia: el lobo -que devora la memoria de las cosas como el pasado-, el león -que se agita como el presente- y el perro -que apacigua en la esperanza, el futuro-. Panofsky ha reconocido en las cabezas humanas al anciano Tiziano, a su hijo Orazio y su nieto Marco, surgiendo poco a poco de las tinieblas del pasado (el pintor), recibiendo la luminosa transparencia del presente (Orazio) y resplandeciendo con la luz del futuro (Marco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Alegoría del Tiempo gobernado por la Prudencia"/>
          <p:cNvPicPr/>
          <p:nvPr/>
        </p:nvPicPr>
        <p:blipFill>
          <a:blip r:embed="rId1"/>
          <a:stretch/>
        </p:blipFill>
        <p:spPr>
          <a:xfrm>
            <a:off x="0" y="0"/>
            <a:ext cx="4641840" cy="68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8" name="Picture 6" descr="Republica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Gatopardo"/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23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s una larga historia de caudillos y democracias inestables, América Latina vive desde 1979 un período marcado por democracias electorales, pobreza y desigualdad (PNUD, 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68256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es-revo390"/>
          <p:cNvPicPr/>
          <p:nvPr/>
        </p:nvPicPr>
        <p:blipFill>
          <a:blip r:embed="rId4"/>
          <a:stretch/>
        </p:blipFill>
        <p:spPr>
          <a:xfrm>
            <a:off x="0" y="278604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067280" y="1412640"/>
            <a:ext cx="507672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4788000" y="696240"/>
            <a:ext cx="435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7.- El retorno del Estado: poner fin a la guerra, al terrorismo, al crimen organizado y otras pandemias glob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kuyama, Francis;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construcción del Estad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 Ediciones B; Barcelona; España; 2005; pp. 9-7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82200" y="464040"/>
            <a:ext cx="34606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11" descr="Tapa1_estado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3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7"/>
          <p:cNvSpPr/>
          <p:nvPr/>
        </p:nvSpPr>
        <p:spPr>
          <a:xfrm>
            <a:off x="4859280" y="189000"/>
            <a:ext cx="428472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.- El retorno  de la comunidad en las teorías del desarrollo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ria, Raúl y Siles, Marcelo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pital social y reducción de la pobreza en América Latina y el Caribe: en búsqueda de un nuevo paradig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CEPAL; Santiago de Chile; 2003. Primera Parte, capítulos 1 y 2, pp. 25-48 (*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9" descr="590850581_818df878f9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1" descr="Gatopardo"/>
          <p:cNvPicPr/>
          <p:nvPr/>
        </p:nvPicPr>
        <p:blipFill>
          <a:blip r:embed="rId2"/>
          <a:stretch/>
        </p:blipFill>
        <p:spPr>
          <a:xfrm>
            <a:off x="3995640" y="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4644720" y="260280"/>
            <a:ext cx="3809880" cy="583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9.-La necesidad del liderazgo adaptativo en las democracias y Estados latinoameric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ifetz Ronald; Liderazgo sin respuestas fáciles; Paidós; Barcelona; España; 1997; pp. 33-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13" descr="gandhiabogado"/>
          <p:cNvPicPr/>
          <p:nvPr/>
        </p:nvPicPr>
        <p:blipFill>
          <a:blip r:embed="rId1"/>
          <a:stretch/>
        </p:blipFill>
        <p:spPr>
          <a:xfrm>
            <a:off x="0" y="46080"/>
            <a:ext cx="4572000" cy="6811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5" descr="080130-gandhi-vmed-1030a"/>
          <p:cNvPicPr/>
          <p:nvPr/>
        </p:nvPicPr>
        <p:blipFill>
          <a:blip r:embed="rId2"/>
          <a:stretch/>
        </p:blipFill>
        <p:spPr>
          <a:xfrm>
            <a:off x="0" y="0"/>
            <a:ext cx="4500720" cy="6676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7" descr="Gandhi-funeral2"/>
          <p:cNvPicPr/>
          <p:nvPr/>
        </p:nvPicPr>
        <p:blipFill>
          <a:blip r:embed="rId3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9" descr="Gatopardo"/>
          <p:cNvPicPr/>
          <p:nvPr/>
        </p:nvPicPr>
        <p:blipFill>
          <a:blip r:embed="rId4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8" descr="story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" descr="051107viroli_2"/>
          <p:cNvPicPr/>
          <p:nvPr/>
        </p:nvPicPr>
        <p:blipFill>
          <a:blip r:embed="rId2"/>
          <a:stretch/>
        </p:blipFill>
        <p:spPr>
          <a:xfrm>
            <a:off x="7556400" y="5589720"/>
            <a:ext cx="1587600" cy="12682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2"/>
          <p:cNvSpPr/>
          <p:nvPr/>
        </p:nvSpPr>
        <p:spPr>
          <a:xfrm>
            <a:off x="4500720" y="731880"/>
            <a:ext cx="464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0.- El amor por lo público y el retorno del patriotismo cívic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bbio, Norberto y Viroli, Mauricio;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álogo en torno a la repúbl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 Tusquets Editores; Barcelona; España; 2002. (*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15" descr="Gatopardo"/>
          <p:cNvPicPr/>
          <p:nvPr/>
        </p:nvPicPr>
        <p:blipFill>
          <a:blip r:embed="rId3"/>
          <a:stretch/>
        </p:blipFill>
        <p:spPr>
          <a:xfrm>
            <a:off x="442764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302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rán dos pruebas escritas el jueves 22 de abril y el27 de mayo a las 8.30 horas. Ella versará sobre los contenidos entregados en clases y la bibliografía obligatoria pasada hasta ese momento. Cada una de estas pruebas tendrá una ponderación de un 30% de la nota fin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4" descr="consum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Gatopardo"/>
          <p:cNvPicPr/>
          <p:nvPr/>
        </p:nvPicPr>
        <p:blipFill>
          <a:blip r:embed="rId2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071600" y="198108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rá un examen final el 8 de julio tendrá una ponderación del 40% de la nota fi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6" descr="bebeyperro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Gatopardo"/>
          <p:cNvPicPr/>
          <p:nvPr/>
        </p:nvPicPr>
        <p:blipFill>
          <a:blip r:embed="rId2"/>
          <a:stretch/>
        </p:blipFill>
        <p:spPr>
          <a:xfrm>
            <a:off x="468360" y="105264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Wonder_Woman_1_800x600"/>
          <p:cNvPicPr/>
          <p:nvPr/>
        </p:nvPicPr>
        <p:blipFill>
          <a:blip r:embed="rId1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0" descr="superman"/>
          <p:cNvPicPr/>
          <p:nvPr/>
        </p:nvPicPr>
        <p:blipFill>
          <a:blip r:embed="rId2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es y jueves 4 hor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sesión se iniciará con el planteamiento del tema y de los problemas centrales. Luego se dará curso a deliberación de los alumnos fundada en las lecturas fijadas para cada clase. Los alumnos deberán haber leído la bibliografía obligatoria. Tras la exposición se procederá a debatir el tema propuesto y los problemas contemporáneos relativos a e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53-peregr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problema pedag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n joven chileno nacido en 1989, al igual que un número importante de los niños del mundo moderno, son parte de una generación que -  nos guste o no - antes de entrar a la universidad habrán experimentado más de 10 mil horas de videojuego, 20 mil mails mandados y recibidos,  10 mil horas de uso de celular y otro tanto de chat, 20 mil horas de TV y finalmente, 5 mil horas de lectura.  Es decir, una generación capaz de absorber información y tomar decisiones muy rápido, con procesamiento paralelo, que aprende de manera diferente, que salta de un tema a otro con gran rapidez, generación que ha sido bautizada por algunos como la "Net Generation", o incluso "homo zappiens" por sus habilidades para controlar simultáneamente diferentes fuentes de información digital. No son pocos los  científicos del área de la neuro-cognición que sostienen que los cambios son tan profundos que están modificando su estructura cereb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Gatopardo"/>
          <p:cNvPicPr/>
          <p:nvPr/>
        </p:nvPicPr>
        <p:blipFill>
          <a:blip r:embed="rId1"/>
          <a:stretch/>
        </p:blipFill>
        <p:spPr>
          <a:xfrm>
            <a:off x="0" y="55897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7" descr="miles-de-lib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" descr="204975001_d659f2b160"/>
          <p:cNvPicPr/>
          <p:nvPr/>
        </p:nvPicPr>
        <p:blipFill>
          <a:blip r:embed="rId2"/>
          <a:stretch/>
        </p:blipFill>
        <p:spPr>
          <a:xfrm>
            <a:off x="0" y="386064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9" descr="Gatopardo"/>
          <p:cNvPicPr/>
          <p:nvPr/>
        </p:nvPicPr>
        <p:blipFill>
          <a:blip r:embed="rId3"/>
          <a:stretch/>
        </p:blipFill>
        <p:spPr>
          <a:xfrm>
            <a:off x="0" y="39337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2560" y="3500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, por el contrario, asentó tempranamente una república comparativamente más estable y desde allí avanzó en la democratización. Hoy exhibe un vigoroso crecimiento económico desde 1984 y una democracia consolidada desde 1989 que reduce drásticamente la pobreza, pero mantiene la desigualdad (Ocde, Chile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" descr="http://www.elmorrocotudo.cl/tmp_images/497/noticia_24820_norm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24289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Still%20Life%20with%20Books%20Naturaleza%20muerta%20con%20lib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Gatopardo"/>
          <p:cNvPicPr/>
          <p:nvPr/>
        </p:nvPicPr>
        <p:blipFill>
          <a:blip r:embed="rId2"/>
          <a:stretch/>
        </p:blipFill>
        <p:spPr>
          <a:xfrm>
            <a:off x="7812000" y="407664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2560" y="45720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, su democracia resulta ser de baja intensidad y no logra siquiera la inscripción de los jóvenes en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2" descr="http://wrue.iespana.es/foro/kamurr/kamaradas/aleullota_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00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9080" y="3429000"/>
            <a:ext cx="486000" cy="1104840"/>
          </a:xfrm>
          <a:prstGeom prst="rect">
            <a:avLst/>
          </a:prstGeom>
          <a:ln w="0">
            <a:noFill/>
          </a:ln>
        </p:spPr>
      </p:pic>
      <p:sp>
        <p:nvSpPr>
          <p:cNvPr id="604" name="8 Rectángulo"/>
          <p:cNvSpPr/>
          <p:nvPr/>
        </p:nvSpPr>
        <p:spPr>
          <a:xfrm>
            <a:off x="357120" y="0"/>
            <a:ext cx="2786040" cy="42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929040" y="214200"/>
            <a:ext cx="513864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ntro desde este contexto histórico, el curso tiene como objetivo explicarnos la crisis de la democracia contemporánea y proponer un pensamiento que podría ayudarnos a superarla. Nos servirán como perspectiva teórica el renacimiento del ideal republicano y el pensamiento de Hannah Arend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Arendt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6" descr="arendt4"/>
          <p:cNvPicPr/>
          <p:nvPr/>
        </p:nvPicPr>
        <p:blipFill>
          <a:blip r:embed="rId2"/>
          <a:stretch/>
        </p:blipFill>
        <p:spPr>
          <a:xfrm>
            <a:off x="2286000" y="4221000"/>
            <a:ext cx="1619280" cy="2637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Gatopar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2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28400" y="214200"/>
            <a:ext cx="863892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Se analizarán las razones por las cuales vivimos tiempos de declive del espacio público y de privatización de nuestras vidas. Se terminará proponiendo la necesidad de un liderazgo adaptativo que fortalezca lo público, la comunidad y la ciudadanía acti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8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58120" y="5753160"/>
            <a:ext cx="486000" cy="1104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VIOLENCI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5" descr="mensaje_recibido_telefono_mov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</cp:lastModifiedBy>
  <dcterms:modified xsi:type="dcterms:W3CDTF">2010-03-23T22:35:34Z</dcterms:modified>
  <cp:revision>139</cp:revision>
  <dc:subject/>
  <dc:title>Presentación de PowerPoint</dc:title>
</cp:coreProperties>
</file>