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3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whoosh.wav" ContentType="audio/x-wav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8.jpeg" ContentType="image/jpeg"/>
  <Override PartName="/ppt/media/image24.jpeg" ContentType="image/jpeg"/>
  <Override PartName="/ppt/media/image22.png" ContentType="image/png"/>
  <Override PartName="/ppt/media/image57.jpeg" ContentType="image/jpeg"/>
  <Override PartName="/ppt/media/image19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49.jpeg" ContentType="image/jpeg"/>
  <Override PartName="/ppt/media/image20.jpeg" ContentType="image/jpeg"/>
  <Override PartName="/ppt/media/image18.jpeg" ContentType="image/jpeg"/>
  <Override PartName="/ppt/media/image2.gif" ContentType="image/gif"/>
  <Override PartName="/ppt/media/image1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3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2.jpeg" ContentType="image/jpeg"/>
  <Override PartName="/ppt/media/image6.png" ContentType="image/png"/>
  <Override PartName="/ppt/media/image59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4444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4444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3F6-2178-46F9-BB62-7C7542EAE6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70DF-5649-4AA9-AC86-178073B3ED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170-3E7C-495F-ADE0-A0C249EC96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621-E599-417E-9A21-CA9B469D86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13BE-2720-4EBA-985D-1AF82C4AE2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B80-A6C5-4D41-81F8-EE41404C21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90B8-B843-4732-BF64-B6A11A2BC0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EAB-532B-4316-AFCF-62E8DC19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AF4-D545-4A57-8181-B58B670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65229-99BB-4350-B48D-1F8150E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D5078-8CB1-47C6-89A8-8ABF29A7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29821-7FF9-4CCE-918F-F39281F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28675-A322-41FD-94BC-2FB7CC0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773D-9B1D-4FAC-8C8F-7ADE85E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6277-FC08-4BF0-9A58-FAF6FF8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84983-4372-498B-B706-65AD837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328A7-8010-483B-B512-160C59EF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BA9F5-1338-4F0D-A517-8548D0CB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0E7A7-79FF-4AA3-BA10-35689326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12F-D3A3-453E-88B6-40FAD8A8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FA839-F45F-4EB5-8A23-2C5FBA2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6D0B4-098D-4A9F-909D-539C04D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C01B1-C407-4C1F-9142-BA80039C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7430-61F9-42F3-9421-66B13AA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E73CC-0B15-4D3F-ACED-0A6C1645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18B7B-C224-4239-8E15-AEDAD504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3BF6-6DBC-43F7-A79D-FE05C40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EEA34-DF3A-43B8-86B1-1EF0B35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DE6D1-AB42-4BDD-A304-08C2696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50F23-9721-4C04-A330-D3894F77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428-3451-4CBF-9834-D1E93DE1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6BCE0-F0B9-47CF-A20E-33B51220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F8EC-2203-4B5B-A78B-F93C342F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E739-D57B-42EC-9C15-E66083EB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C9B8-A758-4B57-A826-5683265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49B7-AE4A-4F24-B8E3-94A7F88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8E0E-54D1-4170-AAE2-DFA34E5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80D39-AAF8-4C9C-AEFA-60AA57F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F4DA-4DDA-488D-935D-68A24AC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7583-9B2E-4ABC-92E4-34ABB30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8F0B4-0CFA-498F-8723-2C519D0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475-E443-485A-9439-ABCDD2AB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17D50-AB91-44FF-9F72-7041EE3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3E5D7-62FF-4D01-A007-FBE5BB55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4517-B4F0-4397-B072-A0946EF9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2AC61-7FEF-4FD6-8900-DDCD7C40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530E-F003-43DB-A8B1-62D9CE76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A26CB-6CF6-4319-96F4-8FBCAC04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49690-AE45-43A6-86B4-6EA7671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902C3-4833-404D-BAC7-37C1C25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3BC4-E030-466B-97F7-EADB3CA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84C72-A65F-47F1-B686-2F1ADD3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D9B-32D2-4206-ACD0-31BF6F6B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52B94-3A22-49A7-93B3-5925AC2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45EDE-02C4-4A1C-A604-2F281F9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D6479-FFDC-44F2-BA38-75CBCE8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432CD-5CBC-4F6E-857D-61C030CE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53A66-68CE-4A38-94DF-4BF9BD4F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19AA4-55C3-4AEC-B16D-5C51FCE5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F9D97-F4C5-4176-8CF7-8AF041B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27879-B3BB-4C04-BF45-A92C3051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681CB-867C-405F-8387-F450A3D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CCF8E-494B-4FAC-9E5A-2C13716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6A4-649C-45E4-B390-87A40F47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6B6D0-8658-4026-A8A6-CF2B0688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50205-449B-44F0-B1CB-C4A1976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1EBB2-AD4A-4FAA-9EC3-D6AFA20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D7AE9-FB9A-4B30-9ADE-CA5314A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1EA33-20DC-448D-A2AE-ABE6D0D2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46E52-9A8A-4023-885A-6EFA65F0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13C99-BEC3-46AB-9BF9-8327CB6B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5E65-1DAF-4EE6-8F12-C4DF9329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7DF-899D-4AE7-A063-325C1DD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224C-65A9-4007-9A34-D3FC6F9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2C0-33C1-438A-9CA4-466DC71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0E3-A848-482C-8ED3-4A86FE29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1D2-60DE-4215-94BB-9593199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2E8A-0D1D-4F92-8C68-6D753B6A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125-4BBA-4E14-A4CB-3E9F5F2E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A0E-6955-4660-BF5C-4B672434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E93A-C323-479D-A358-C718C25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B893-98CC-40DC-9AF3-6E0608F1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2DE0-1671-4DC5-8CEE-29FC93E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1607-BC44-4707-9E57-FD9F697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6A2C-0E5C-466B-B720-9A593130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2B61-B75C-4A64-8868-BFF381CB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F2D-6CA1-4F7C-A76A-349E11D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8EE2-FC0B-4830-B21F-CAA6FB2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A9BD-B25A-40F4-AB5F-2AE9EA0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7800-BCE3-4B36-ABA5-6A8DD07B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B96A-FA73-4A48-8D44-9D30BC7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4147-A936-4A37-86BC-239C5EC1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3539-AF94-4989-9ECB-698F8C1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21B5-FBF2-40CD-9149-CEA1F376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9CA9-29D9-4F6A-A38E-AE1737AE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5571-4A32-4190-B148-71F6028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4B41-B1AA-46D2-8875-0C66138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E4A-FBB3-46DA-955F-43D9ADC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9BCC-7205-4DC3-ACB4-791B7F8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A41E-BC41-4A99-924E-2512A33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D643-A93B-41B8-AB8A-306C97F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3C86-810C-4F1F-9D96-2C60981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E5DF-A402-4215-AC24-A98D9E5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2DFE-23CB-4C76-82EA-684DAB9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7167-07B7-4695-A42E-AB0E58D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D69A-40F7-4CF1-B43B-05982A18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951E-5982-482F-BBB6-24CAB337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C31B-2FB0-41EB-AE02-479ECF94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D07-9FC4-4C25-B672-BB17553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C671-6309-4CCF-834E-CE93C4DA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136F-5606-4F45-823A-5D078C7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8DB4-9864-4B3D-B5E9-03E9D31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E9CD-2869-4204-8071-1186ECD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E966-79AE-4FBA-81EC-52363F4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A1CC-674A-4A54-9523-576C892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CA46-D3F5-42AE-80D6-1888162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06DC-564F-4696-AE35-C767F93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CE04-1D77-49D8-9D82-AC713FE6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22D4-08CC-4E93-A9A6-7BFF9F82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94E-1F1A-4D14-9A0F-D400CB9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65514-6048-4092-B6D5-86615D3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AE34-0EB0-4F4A-A472-ADB91A7D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D069-F0D0-4674-8FD5-8506350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4539-73F6-4338-BEF7-0AFB3E0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2C78-97A2-499C-9C37-9F7B8CC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A8F1-8BD6-4CF6-8446-BECA371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E5BD-8B0F-4639-9131-A5C379E8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6231-6F0A-45AF-B4A3-CA9E6D8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5718-141B-4201-9848-39F1E00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5346-7EF3-4169-AC31-563C5EB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408-E013-4297-8A83-A3AC443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D1DA-50B4-4BB4-BC31-25B2B33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E09C-038E-437B-9D39-BC953612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D6E0-54A7-46A3-B40C-CD85FCE0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22A8-86B1-43AC-9AA0-7F5CE1D0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8494-F858-4950-BD07-7DC076F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74D9-8ED3-44E4-9ACB-A2A17C1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9671A-55E7-481C-82C2-5BF52614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519A5-1329-4499-8254-6AC6D3A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494E-7428-4E9B-9183-AB0FFC2D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E455-1FEF-475F-AE1B-08227C8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E2E-A4FD-419B-9AA6-43A2878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BFC8-70CB-4027-A77F-9C097B7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8346B-1DAC-4464-A08C-03B15B7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F7781-DD8F-4280-99A3-F884CF1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AE41-E67C-4C78-818E-982FD16E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325EA-6B7B-4E82-B37C-2D01DAC9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C6EB-2155-439C-9B9D-F66CDE40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1E98-BEE5-4CD3-BAFF-2D46752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9E07-B597-4351-AD5C-F0F86887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96EA-177E-40A1-B5EB-19162F61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9F6F-6ADE-49FA-8EB8-24D0B873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3A3-94D1-41EA-9406-6B521EB7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53B9-FDD3-4A2F-8210-34A7AC7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E8863-CFA6-46A7-8B50-1FAA678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BC6C-48A4-4C5D-B37D-0F3A767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BC3F-0E87-4F47-A1FC-729DA2D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590B-9CE3-4A76-826C-6B10655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7D2C-890F-4A0A-9C94-6101523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0807F-B093-4D02-A075-FA310DC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EC93B-55AC-4C9B-8496-359C8B0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0D0F-19EE-4773-BDC5-7B61307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F426A-6C27-438C-8307-A04F7A5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CC3-E412-4804-AD26-8E8C1F3345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C77-5975-4F34-AEAD-B0C3CCB8C3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3BD-0F6E-4250-B93F-44E42C3532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C357-3A1F-4483-889B-BAD9155712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B3D-BE0A-40F7-A5BE-58C0D7A172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CA36-059B-4AA8-B404-C1A3AFA2EA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BA56-C170-4073-90FE-D65D6486A4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9586-5887-4D4A-AE8A-8B1256B1BA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93C7-6936-4D04-9C82-2D32156373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40F-8DD7-46FD-AF28-AE189D07A6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1AE6-8B4D-421F-BB6F-9AB41D9425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EFF-4D1F-4748-A5F2-DEA2985733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49C-E077-4B19-A45F-7FE9809E58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40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447920" y="36572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rgio Mi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mela Calde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ía de los Ángele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arendt4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6"/>
          <p:cNvPicPr/>
          <p:nvPr/>
        </p:nvPicPr>
        <p:blipFill>
          <a:blip r:embed="rId4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nah Arendt nos introducirá en la condición humana presentándonos las distintas actividades de esta: labor, trabajo y acción. Veremos que la esfera privada está marcada por la necesidad y la jerarquía, en contra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bert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gual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acio públ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l ideal antiguo de la vida activa, muerto tras la caída de la Atenas democrática y la R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public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ascenso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da contempl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volverá a regir en las revoluciones liberales y republicanas de 1776, 1789, 1804 y 1810. Sin embargo, en los tiempos modernos volverá a primar, sobr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imal laboran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omo fab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Demostración de ello en la frenética vida del estudio, el trabajo y el consumo que nos rige, a despecho del ciudadano. El curso defenderá la necesidad de la política como actividad destinada a cuidar a la polis entendida como orden pluralista y pacífico, libre e iguali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5" descr="bb93e6_sena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curso busca desarrollar tres competencias en los alumnos. La primera – cognitiva - es transmitir los conceptos y teorías centrales del debate republicano contemporáne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4" descr="republica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24000" y="549000"/>
            <a:ext cx="45306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En segundo lugar busca promover las habilidades de la deliberación y la participación en clas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5" descr="Tertulia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388296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Finalmente, se busca promover a un líder activo en la reivindicación de lo público y en la transformación de la democracia chilena y latinoamericana del bicentena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7" descr="liderazgoPinguinos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cart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9" descr="sPBvpHWhvRqPySCDnaidyZiLTWOWWzqTVtQdiKju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39" name="AutoShape 14"/>
          <p:cNvSpPr/>
          <p:nvPr/>
        </p:nvSpPr>
        <p:spPr>
          <a:xfrm>
            <a:off x="0" y="1341360"/>
            <a:ext cx="1835280" cy="1727280"/>
          </a:xfrm>
          <a:prstGeom prst="wedgeRoundRectCallout">
            <a:avLst>
              <a:gd name="adj1" fmla="val 22060"/>
              <a:gd name="adj2" fmla="val 78861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5"/>
          <p:cNvSpPr/>
          <p:nvPr/>
        </p:nvSpPr>
        <p:spPr>
          <a:xfrm>
            <a:off x="2089080" y="0"/>
            <a:ext cx="7054920" cy="1440000"/>
          </a:xfrm>
          <a:prstGeom prst="wedgeRoundRectCallout">
            <a:avLst>
              <a:gd name="adj1" fmla="val 30018"/>
              <a:gd name="adj2" fmla="val 196967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WordArt 16"/>
          <p:cNvSpPr txBox="1"/>
          <p:nvPr/>
        </p:nvSpPr>
        <p:spPr>
          <a:xfrm>
            <a:off x="2268360" y="404640"/>
            <a:ext cx="687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!! Yo soy el profesor Micco ¡¡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2" name="WordArt 17"/>
          <p:cNvSpPr txBox="1"/>
          <p:nvPr/>
        </p:nvSpPr>
        <p:spPr>
          <a:xfrm>
            <a:off x="0" y="1989000"/>
            <a:ext cx="15238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 soy M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3" name="AutoShape 20"/>
          <p:cNvSpPr/>
          <p:nvPr/>
        </p:nvSpPr>
        <p:spPr>
          <a:xfrm>
            <a:off x="684360" y="2492280"/>
            <a:ext cx="772920" cy="936720"/>
          </a:xfrm>
          <a:prstGeom prst="downArrow">
            <a:avLst>
              <a:gd name="adj1" fmla="val 50000"/>
              <a:gd name="adj2" fmla="val 30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1"/>
          <p:cNvSpPr/>
          <p:nvPr/>
        </p:nvSpPr>
        <p:spPr>
          <a:xfrm>
            <a:off x="7236000" y="4941720"/>
            <a:ext cx="846000" cy="1768680"/>
          </a:xfrm>
          <a:prstGeom prst="upArrow">
            <a:avLst>
              <a:gd name="adj1" fmla="val 50000"/>
              <a:gd name="adj2" fmla="val 522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3" descr="gorillabrain"/>
          <p:cNvPicPr/>
          <p:nvPr/>
        </p:nvPicPr>
        <p:blipFill>
          <a:blip r:embed="rId2"/>
          <a:stretch/>
        </p:blipFill>
        <p:spPr>
          <a:xfrm>
            <a:off x="6408720" y="3573360"/>
            <a:ext cx="27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5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eptos cent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 final del curso el alumno deberá dominar los conceptos de política, democracia, labor, trabajo, acción, contemplación, violencia, libertad, igualdad, esfera pública, participación, república, estado, liderazgo adaptativo y capital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-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revoluciones republicanas de 1776, 1789, 1804 y 18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ynch, John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s revoluciones hispanoamericanas: 1808-182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el; Barcelona; España; capítulos primero y décimo; pp. 9-43 y 336-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revolucioneshispanoamericanas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mensaje_bote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575316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- La excepcionalidad chil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turo y Samuel Valenzuela.  “Los orígenes de la democracia en Chile”. en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vista de Estudios Públic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Centro de Estudios Públicos. Santiago de Chile. 19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Chili"/>
          <p:cNvPicPr/>
          <p:nvPr/>
        </p:nvPicPr>
        <p:blipFill>
          <a:blip r:embed="rId4"/>
          <a:stretch/>
        </p:blipFill>
        <p:spPr>
          <a:xfrm>
            <a:off x="1071720" y="571680"/>
            <a:ext cx="1325520" cy="100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- El discurso republicano chileno  entre 1810 y 18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Castillo, Vasc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reación de la república;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m Ediciones, Santiago de Chile; 2009; pp. 15-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http://www.memoriachilena.cl/archivos2/cronoim/camiloaurora.jpg"/>
          <p:cNvPicPr/>
          <p:nvPr/>
        </p:nvPicPr>
        <p:blipFill>
          <a:blip r:embed="rId3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44720" y="1483920"/>
            <a:ext cx="449892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La decepción con la democracia latinoamericana post 1979: democracia electoral con pobreza y desigual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 las Naciones Unidas para el Desarrollo;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democracia en América Latin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Hacia una democracia de ciudadanos y ciudadanas; Santiago de Chile; 2004; pp. 33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8" descr="www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1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- La política como arte del cuidado pacífico del orden pl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cía-Huidobro, Joaquín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mpatía por la polí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ntro de Estudios del Bicentenario; Santiago de Chile; 2007; pp. 11-75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8" descr="plato_aristoteles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Gatopardo"/>
          <p:cNvPicPr/>
          <p:nvPr/>
        </p:nvPicPr>
        <p:blipFill>
          <a:blip r:embed="rId2"/>
          <a:stretch/>
        </p:blipFill>
        <p:spPr>
          <a:xfrm>
            <a:off x="450072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49892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.- El retorno de la política: la p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ck, Bernard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defensa de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Tusquets editores; Barcelona; España; 2001; pp.15-36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6" descr="Bernard%20Crick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0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4498920" cy="633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7.- El republicanismo anti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ld, David,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s de democra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Alianza Ensayo, Madrid, Ensayo, 2001, pp. 55-90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4" descr="logo_republica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olencia y arbitrariedad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particular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z y Derech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Común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ranía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g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ch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l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epública 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emocracia rect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56000" y="609120"/>
            <a:ext cx="440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4498920" cy="461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8.- La gran dicotomía público/pr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bbio, Norberto;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do, gobierno y sociedad;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ndo de Cultura Económica; México; 1996; pp. 11-38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9" descr="493852_normal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1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95280" y="1980720"/>
            <a:ext cx="51483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7" descr="arendt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6" descr="45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5480" y="549000"/>
            <a:ext cx="578628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memoramos el bicentenario del inicio de la independencia hispanoamericana. Nos liberamos de España para sentar repúblicas prósper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sanmartin"/>
          <p:cNvPicPr/>
          <p:nvPr/>
        </p:nvPicPr>
        <p:blipFill>
          <a:blip r:embed="rId3"/>
          <a:stretch/>
        </p:blipFill>
        <p:spPr>
          <a:xfrm>
            <a:off x="607212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La búsqueda de la inmortalidad en l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 activ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dt, Hanna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Paidos; Barcelona; España; 1993; pp. 21 – 36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Arendt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4" descr="Gatopardo"/>
          <p:cNvPicPr/>
          <p:nvPr/>
        </p:nvPicPr>
        <p:blipFill>
          <a:blip r:embed="rId2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0.- Vida activa moderna: la labor de nuestro cuerpo y el trabajo de nuestr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endt, Hanna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la historia a la a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5; pp. 89- 107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7" descr="arendt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9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067280" y="198072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- La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vita activa,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esfera privada y pública: libertad e 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9" descr="arendt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00320" y="428760"/>
            <a:ext cx="514332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.- Diversidad y pluralismo</a:t>
            </a:r>
            <a:br>
              <a:rPr sz="2800"/>
            </a:b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rtori, Giovanni; Los fundamentos del pluralismo; en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ista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; Número 1; Liberalismo, comunitarismo y democracia; Paidós; Barcelona; España; 1996; pp. 107-122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SartoriMaquiavelo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42368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2.- El drama de un pacif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908000" y="4436640"/>
            <a:ext cx="511200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bbio, Norberto; Autobiografía, Taurus, Madrid, 199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11" descr="ihycm-p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de4176c9b1964af1c641c90c671bfc4f"/>
          <p:cNvPicPr/>
          <p:nvPr/>
        </p:nvPicPr>
        <p:blipFill>
          <a:blip r:embed="rId2"/>
          <a:stretch/>
        </p:blipFill>
        <p:spPr>
          <a:xfrm>
            <a:off x="5786280" y="0"/>
            <a:ext cx="335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3.- ¿Qué es el espacio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5" descr="ojos%20verdes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000" y="1916280"/>
            <a:ext cx="8080200" cy="1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arendtIII"/>
          <p:cNvPicPr/>
          <p:nvPr/>
        </p:nvPicPr>
        <p:blipFill>
          <a:blip r:embed="rId1"/>
          <a:stretch/>
        </p:blipFill>
        <p:spPr>
          <a:xfrm>
            <a:off x="5435640" y="0"/>
            <a:ext cx="1454040" cy="17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"/>
          <p:cNvGraphicFramePr/>
          <p:nvPr/>
        </p:nvGraphicFramePr>
        <p:xfrm>
          <a:off x="0" y="2205000"/>
          <a:ext cx="9144000" cy="4537080"/>
        </p:xfrm>
        <a:graphic>
          <a:graphicData uri="http://schemas.openxmlformats.org/drawingml/2006/table">
            <a:tbl>
              <a:tblPr/>
              <a:tblGrid>
                <a:gridCol w="2987640"/>
                <a:gridCol w="2987640"/>
                <a:gridCol w="316872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a contempla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mpla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s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e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zg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ac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Públic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c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baj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bo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12" name="Picture 42" descr="Arendt1"/>
          <p:cNvPicPr/>
          <p:nvPr/>
        </p:nvPicPr>
        <p:blipFill>
          <a:blip r:embed="rId2"/>
          <a:stretch/>
        </p:blipFill>
        <p:spPr>
          <a:xfrm>
            <a:off x="0" y="0"/>
            <a:ext cx="1835280" cy="2276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4" descr="arendt"/>
          <p:cNvPicPr/>
          <p:nvPr/>
        </p:nvPicPr>
        <p:blipFill>
          <a:blip r:embed="rId3"/>
          <a:stretch/>
        </p:blipFill>
        <p:spPr>
          <a:xfrm>
            <a:off x="2484360" y="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5" descr="Hannah%20Arendt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4.- La libertad republicana: ¿Qué es la libert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tre el pasado y el futu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enínsula; Barcelona; España; pp. 155-184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6" descr="Paloma en LIBERTAD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572000" y="1177920"/>
            <a:ext cx="423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5.-  ¿Por qué la igualdad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ahl, Robert;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mocracia. Una guía para los ciudadano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; Taurus; Madrid; España; 1999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igualdad"/>
          <p:cNvPicPr/>
          <p:nvPr/>
        </p:nvPicPr>
        <p:blipFill>
          <a:blip r:embed="rId1"/>
          <a:stretch/>
        </p:blipFill>
        <p:spPr>
          <a:xfrm>
            <a:off x="0" y="46080"/>
            <a:ext cx="4524480" cy="6811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644720" y="-360"/>
            <a:ext cx="4498920" cy="659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6.- El republicanismo contemporáneo: autogobierno, deliberación y vir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vejero, Félix y otros: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as ideas republicanas. Autogobierno y libert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Paidós; Barcelona; España; 2003; pp. 11-58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iguiendo la inscripción que aparece en la parte superior del lienzo -"EX PRAETERITO - PRAESENS PRUDENTER AGIT - NI FUTURU(M)./ACTIONEM DETURPET", "del pasado al presente es preciso actuar con prudencia para no arruinar la acción futura"- Panofsky ha interpretado esta obra como una alegoría del Tiempo gobernado por la Prudencia.Las tres cabezas humanas -que se interpretan como las tres edades del hombre- se asocian con tres cabezas de animales que se asocian con la memoria, la inteligencia y la providencia: el lobo -que devora la memoria de las cosas como el pasado-, el león -que se agita como el presente- y el perro -que apacigua en la esperanza, el futuro-. Panofsky ha reconocido en las cabezas humanas al anciano Tiziano, a su hijo Orazio y su nieto Marco, surgiendo poco a poco de las tinieblas del pasado (el pintor), recibiendo la luminosa transparencia del presente (Orazio) y resplandeciendo con la luz del futuro (Marco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Alegoría del Tiempo gobernado por la Prudencia"/>
          <p:cNvPicPr/>
          <p:nvPr/>
        </p:nvPicPr>
        <p:blipFill>
          <a:blip r:embed="rId1"/>
          <a:stretch/>
        </p:blipFill>
        <p:spPr>
          <a:xfrm>
            <a:off x="0" y="0"/>
            <a:ext cx="4641840" cy="68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8" name="Picture 6" descr="Republica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Gatopardo"/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23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s una larga historia de caudillos y democracias inestables, América Latina vive desde 1979 un período marcado por democracias electorales, pobreza y desigualdad (PNUD, 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8256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es-revo390"/>
          <p:cNvPicPr/>
          <p:nvPr/>
        </p:nvPicPr>
        <p:blipFill>
          <a:blip r:embed="rId4"/>
          <a:stretch/>
        </p:blipFill>
        <p:spPr>
          <a:xfrm>
            <a:off x="0" y="278604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067280" y="1412640"/>
            <a:ext cx="507672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4788000" y="696240"/>
            <a:ext cx="435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7.- El retorno del Estado: poner fin a la guerra, al terrorismo, al crimen organizado y otras pandemias glob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kuyama, Francis;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Ediciones B; Barcelona; España; 2005; pp. 9-7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11" descr="Tapa1_estado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7"/>
          <p:cNvSpPr/>
          <p:nvPr/>
        </p:nvSpPr>
        <p:spPr>
          <a:xfrm>
            <a:off x="4859280" y="189000"/>
            <a:ext cx="42847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.- El retorno  de la comunidad en las teorías del desarrollo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ria, Raúl y Siles, Marcel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pital social y reducción de la pobreza en América Latina y el Caribe: en búsqueda de un nuevo paradig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PAL; Santiago de Chile; 2003. Primera Parte, capítulos 1 y 2, pp. 25-48 (*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9" descr="590850581_818df878f9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1" descr="Gatopardo"/>
          <p:cNvPicPr/>
          <p:nvPr/>
        </p:nvPicPr>
        <p:blipFill>
          <a:blip r:embed="rId2"/>
          <a:stretch/>
        </p:blipFill>
        <p:spPr>
          <a:xfrm>
            <a:off x="3995640" y="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3809880" cy="583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9.-La necesidad del liderazgo adaptativo en las democracias y Estados latinoameric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ifetz Ronald; Liderazgo sin respuestas fáciles; Paidós; Barcelona; España; 1997; pp. 33-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13" descr="gandhiabogado"/>
          <p:cNvPicPr/>
          <p:nvPr/>
        </p:nvPicPr>
        <p:blipFill>
          <a:blip r:embed="rId1"/>
          <a:stretch/>
        </p:blipFill>
        <p:spPr>
          <a:xfrm>
            <a:off x="0" y="46080"/>
            <a:ext cx="4572000" cy="6811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5" descr="080130-gandhi-vmed-1030a"/>
          <p:cNvPicPr/>
          <p:nvPr/>
        </p:nvPicPr>
        <p:blipFill>
          <a:blip r:embed="rId2"/>
          <a:stretch/>
        </p:blipFill>
        <p:spPr>
          <a:xfrm>
            <a:off x="0" y="0"/>
            <a:ext cx="4500720" cy="6676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7" descr="Gandhi-funeral2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9" descr="Gatopardo"/>
          <p:cNvPicPr/>
          <p:nvPr/>
        </p:nvPicPr>
        <p:blipFill>
          <a:blip r:embed="rId4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8" descr="story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" descr="051107viroli_2"/>
          <p:cNvPicPr/>
          <p:nvPr/>
        </p:nvPicPr>
        <p:blipFill>
          <a:blip r:embed="rId2"/>
          <a:stretch/>
        </p:blipFill>
        <p:spPr>
          <a:xfrm>
            <a:off x="7556400" y="5589720"/>
            <a:ext cx="1587600" cy="12682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2"/>
          <p:cNvSpPr/>
          <p:nvPr/>
        </p:nvSpPr>
        <p:spPr>
          <a:xfrm>
            <a:off x="4500720" y="731880"/>
            <a:ext cx="464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0.- El amor por lo público y el retorno del patriotismo cívic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bbio, Norberto y Viroli, Mauricio;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álogo en torno a la repúbl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Tusquets Editores; Barcelona; España; 2002. (*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15" descr="Gatopardo"/>
          <p:cNvPicPr/>
          <p:nvPr/>
        </p:nvPicPr>
        <p:blipFill>
          <a:blip r:embed="rId3"/>
          <a:stretch/>
        </p:blipFill>
        <p:spPr>
          <a:xfrm>
            <a:off x="442764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302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n dos pruebas escritas el jueves 22 de abril y el27 de mayo a las 8.30 horas. Ella versará sobre los contenidos entregados en clases y la bibliografía obligatoria pasada hasta ese momento. Cada una de estas pruebas tendrá una ponderación de un 30% de la nota fin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4" descr="consum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Gatopardo"/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071600" y="198108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 un examen final el 8 de julio tendrá una ponderación del 40% de la nota fi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6" descr="bebeyperro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Gatopardo"/>
          <p:cNvPicPr/>
          <p:nvPr/>
        </p:nvPicPr>
        <p:blipFill>
          <a:blip r:embed="rId2"/>
          <a:stretch/>
        </p:blipFill>
        <p:spPr>
          <a:xfrm>
            <a:off x="468360" y="105264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Wonder_Woman_1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superman"/>
          <p:cNvPicPr/>
          <p:nvPr/>
        </p:nvPicPr>
        <p:blipFill>
          <a:blip r:embed="rId2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es y jueves 4 hor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sesión se iniciará con el planteamiento del tema y de los problemas centrales. Luego se dará curso a deliberación de los alumnos fundada en las lecturas fijadas para cada clase. Los alumnos deberán haber leído la bibliografía obligatoria. Tras la exposición se procederá a debatir el tema propuesto y los problemas contemporáneos relativos a e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53-peregr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pedag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 joven chileno nacido en 1989, al igual que un número importante de los niños del mundo moderno, son parte de una generación que -  nos guste o no - antes de entrar a la universidad habrán experimentado más de 10 mil horas de videojuego, 20 mil mails mandados y recibidos,  10 mil horas de uso de celular y otro tanto de chat, 20 mil horas de TV y finalmente, 5 mil horas de lectura.  Es decir, una generación capaz de absorber información y tomar decisiones muy rápido, con procesamiento paralelo, que aprende de manera diferente, que salta de un tema a otro con gran rapidez, generación que ha sido bautizada por algunos como la "Net Generation", o incluso "homo zappiens" por sus habilidades para controlar simultáneamente diferentes fuentes de información digital. No son pocos los  científicos del área de la neuro-cognición que sostienen que los cambios son tan profundos que están modificando su estructura cereb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Gatopardo"/>
          <p:cNvPicPr/>
          <p:nvPr/>
        </p:nvPicPr>
        <p:blipFill>
          <a:blip r:embed="rId1"/>
          <a:stretch/>
        </p:blipFill>
        <p:spPr>
          <a:xfrm>
            <a:off x="0" y="5589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7" descr="miles-de-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" descr="204975001_d659f2b160"/>
          <p:cNvPicPr/>
          <p:nvPr/>
        </p:nvPicPr>
        <p:blipFill>
          <a:blip r:embed="rId2"/>
          <a:stretch/>
        </p:blipFill>
        <p:spPr>
          <a:xfrm>
            <a:off x="0" y="386064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9" descr="Gatopardo"/>
          <p:cNvPicPr/>
          <p:nvPr/>
        </p:nvPicPr>
        <p:blipFill>
          <a:blip r:embed="rId3"/>
          <a:stretch/>
        </p:blipFill>
        <p:spPr>
          <a:xfrm>
            <a:off x="0" y="3933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2560" y="3500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, por el contrario, asentó tempranamente una república comparativamente más estable y desde allí avanzó en la democratización. Hoy exhibe un vigoroso crecimiento económico desde 1984 y una democracia consolidada desde 1989 que reduce drásticamente la pobreza, pero mantiene la desigualdad (Ocde, Chile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" descr="http://www.elmorrocotudo.cl/tmp_images/497/noticia_24820_norm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24289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Still%20Life%20with%20Books%20Naturaleza%20muerta%20con%20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Gatopardo"/>
          <p:cNvPicPr/>
          <p:nvPr/>
        </p:nvPicPr>
        <p:blipFill>
          <a:blip r:embed="rId2"/>
          <a:stretch/>
        </p:blipFill>
        <p:spPr>
          <a:xfrm>
            <a:off x="7812000" y="407664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2560" y="45720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, su democracia resulta ser de baja intensidad y no logra siquiera la inscripción de los jóvenes en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2" descr="http://wrue.iespana.es/foro/kamurr/kamaradas/aleullota_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00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9080" y="3429000"/>
            <a:ext cx="486000" cy="1104840"/>
          </a:xfrm>
          <a:prstGeom prst="rect">
            <a:avLst/>
          </a:prstGeom>
          <a:ln w="0">
            <a:noFill/>
          </a:ln>
        </p:spPr>
      </p:pic>
      <p:sp>
        <p:nvSpPr>
          <p:cNvPr id="604" name="8 Rectángulo"/>
          <p:cNvSpPr/>
          <p:nvPr/>
        </p:nvSpPr>
        <p:spPr>
          <a:xfrm>
            <a:off x="357120" y="0"/>
            <a:ext cx="2786040" cy="42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929040" y="214200"/>
            <a:ext cx="513864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ntro desde este contexto histórico, el curso tiene como objetivo explicarnos la crisis de la democracia contemporánea y proponer un pensamiento que podría ayudarnos a superarla. Nos servirán como perspectiva teórica el renacimiento del ideal republicano y el pensamiento de Hannah Arend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Arendt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arendt4"/>
          <p:cNvPicPr/>
          <p:nvPr/>
        </p:nvPicPr>
        <p:blipFill>
          <a:blip r:embed="rId2"/>
          <a:stretch/>
        </p:blipFill>
        <p:spPr>
          <a:xfrm>
            <a:off x="2286000" y="422100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2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28400" y="214200"/>
            <a:ext cx="863892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Se analizarán las razones por las cuales vivimos tiempos de declive del espacio público y de privatización de nuestras vidas. Se terminará proponiendo la necesidad de un liderazgo adaptativo que fortalezca lo público, la comunidad y la ciudadanía acti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8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8120" y="5753160"/>
            <a:ext cx="486000" cy="1104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VIOLENCI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5" descr="mensaje_recibido_telefono_mov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</cp:lastModifiedBy>
  <dcterms:modified xsi:type="dcterms:W3CDTF">2010-03-23T22:35:34Z</dcterms:modified>
  <cp:revision>139</cp:revision>
  <dc:subject/>
  <dc:title>Presentación de PowerPoint</dc:title>
</cp:coreProperties>
</file>