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3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whoosh.wav" ContentType="audio/x-wav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8.jpeg" ContentType="image/jpeg"/>
  <Override PartName="/ppt/media/image24.jpeg" ContentType="image/jpeg"/>
  <Override PartName="/ppt/media/image22.png" ContentType="image/png"/>
  <Override PartName="/ppt/media/image57.jpeg" ContentType="image/jpeg"/>
  <Override PartName="/ppt/media/image19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49.jpeg" ContentType="image/jpeg"/>
  <Override PartName="/ppt/media/image20.jpeg" ContentType="image/jpeg"/>
  <Override PartName="/ppt/media/image18.jpeg" ContentType="image/jpeg"/>
  <Override PartName="/ppt/media/image2.gif" ContentType="image/gif"/>
  <Override PartName="/ppt/media/image1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3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2.jpeg" ContentType="image/jpeg"/>
  <Override PartName="/ppt/media/image6.png" ContentType="image/png"/>
  <Override PartName="/ppt/media/image59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4444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4444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E32-93BB-4B41-B688-3731FC76D0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56B-1266-435A-8797-49C5D3B6BF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66E9-0FE1-4C5E-92FE-96F2D333EE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AD60-AC53-4DE1-8AED-4C1E1D43EB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C18-6D23-4D40-A5F7-FACA4A44F4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D56-539B-47E6-B093-3A358FDA0C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4800" y="94107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D22-680E-4D4D-A957-8F47988EC1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442-C1A5-4342-9869-77250ACD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56B-82B3-4C7B-83A6-B641E6E0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4F927-F260-4404-8C7D-70CD446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3F96E-93D8-4E29-821D-7D18FFE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E955-59E0-4B13-B613-637ADA8A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E7AA-F908-44DA-A071-6B1E270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7EBEE-8CA2-4405-81EA-6F93DBB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C42D-AEFB-479A-A7C6-ABD9CD7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D072-A85D-4C04-A585-4DAFC21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9DDDC-E543-4AEB-A0D7-36179542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FAA3-B6D0-4A6C-BDCA-7EFA5858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F223D-CBD9-4D14-9154-63E74885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C97-93EC-4463-802E-0F632F11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9B54-54E7-4CE5-834B-419CEFA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09F3-D832-49C3-A41B-852329A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2D79A-FF40-4CC4-B3B4-4E5912D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30991-A622-4677-85D3-BF5DE618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2D8B-8D99-4BEF-912B-38EB28E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FF21A-BD6D-41C1-B366-A645D80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E90D9-EAD0-4BDA-AFB0-F90DD4C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C31B4-1D23-484D-AE53-7F5E91C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A9C0-4DC5-491E-BCED-32A06C98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ADD9A-A8D4-48A1-8A0A-CE6A6356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DBC-9A83-43AA-9FA7-91775045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B9423-E8B8-40BA-B426-D29AF115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5D29B-87EA-4FCF-BDD9-D84C409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4226-BE6C-4A65-980C-484146C7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EBD5-08FE-4970-BF9B-629B3D3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7118E-4B37-4E0E-A6B4-2C41D661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7B7D5-6FB3-450F-8481-7DAD3D4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253B-EB60-4BBF-A41B-D0B504C1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FE71D-35F9-45A0-941E-1CE9A74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40EE-E9B3-4C1F-9C4B-A5564DD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AD3AB-0BC0-4132-9348-364DA3EB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E685-CB17-442E-948F-99A2AD06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D4190-D3FD-4FC0-BD48-BBCFDB2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2A291-E60C-4BFE-990C-B628634A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F49BA-4825-4796-8B34-B0B65BFB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1EAAF-C5F5-4D7E-93D0-93AF2285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29408-AB59-47E3-A29D-32A5AB45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6535E-3073-4F9C-B6AB-871C21E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69BE4-319D-488B-816F-613002A9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E9D7B-3016-43C0-ADFB-74D1C6A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F0FD-8056-4BA2-8F09-80BF648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13FB8-973A-4131-89E2-FF0B3C4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D87-6945-45AC-B021-C70B0D6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84FC3-7B8A-473E-B66D-A67B141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80A08-4F03-4238-9E19-4AC2D0D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A2E17-65D7-47E9-BB29-E380BE17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64460-8507-4A64-85D6-C4F8E965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518C6-D1C5-4F66-946E-3972A312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7F135-F555-4A4D-AA50-5943D18F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E1554-519A-47E6-A2A2-E6EA7CC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18E96-84FA-490E-99D2-8DD07FA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80D57-A656-4951-AA32-1A304C8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26FD5-80BD-4A2F-A06F-30E59FD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587D-257F-4EE0-A5BD-B7C22D1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A4558-ECC2-417E-AEBF-9228A53B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AE2C7-06FB-4626-A8C4-5F88DA9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9CE90-FF89-4765-93C1-3FC16C5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F5AF8-B786-47E9-B9CC-814A112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238AB-6C54-4092-A8E5-02E36D3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4CA97-3089-426E-AA6E-5C5C508D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18C0C-F6F8-4B56-96F2-E49CD08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A50A-065F-4AF2-B915-77661A3E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B01F-F9DD-4AB5-B416-97ADB532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F56B-D631-4365-BB80-09E99D7F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A13A-E56D-4EFC-9A5C-DC4A67F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367-2DC8-4228-82AB-BDA3311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CC3-5E9F-4391-98D8-DF5C2367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0CF1-2180-498B-8531-F806150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68F-C63F-499C-BA59-B43AA937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FD0-2698-4A75-B43C-0DC0CD1C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86F-55A8-4754-84DD-7D851A9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A14C-1EBC-40FC-B96E-649043AD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A5F4-F261-49B6-8691-518A24EB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EA11-4754-4A4B-AE45-14D6C62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C913-7D86-4C4B-8A09-DBA497F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0809-3CE2-4663-8862-A57BAAF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C41-EDFC-4F7A-9D80-51F5715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D7B7-66C2-4499-B574-BFA4FC1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AE20-5D44-4325-9B82-BF28FE1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4E2A-E8D6-4C73-BCA8-9342422D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ADFE-7AF3-41A0-8DB5-98D6A64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FB1F-7598-4CAE-91AF-AD21333C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D643-8BF4-42F8-AD6B-A3317B7A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0019-39E1-4F79-B535-B8CB5B1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4B62-2099-4651-806F-42BE9EE1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A0C1-5E36-46BF-825E-339BBE14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7F33-AF55-4C07-819B-C673047E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AEB-DB20-4B1E-ADFB-74C1A0D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C0A6-FA49-4BAB-B2A7-CD0A57F8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BC7F-6180-4A77-A3B0-B6EC5B7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BC69-365E-4A63-AF74-398CEDDF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82DF-8F19-49E0-999C-50BE1DE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AFDE-819B-4A6B-8904-2341FFA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7F0A-5F79-4932-89C0-148B5EF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30F4-AFE3-400A-AE29-048FAE1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794F-0AB4-4EB9-938C-7B215850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7B08-C5C6-4456-92F0-BC17F682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0AE7-A701-4594-B63D-ACEC8FD4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6A9-B551-4FE0-B0B4-DD8F6495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0082-054A-40B8-A5FD-46831DBF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2258-E866-4B98-A21F-325FE6B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A0E50-8792-48FD-8A49-231EE70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11FE9-48E1-4C53-8A6D-C7AD10AB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8856-5023-4DCD-8762-2F1799A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A8E7F-2887-47A7-9349-C46BBA6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3189E-A8DD-47AB-BEF4-558BDB3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9D57-ECEB-45F0-BC84-2EADF70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E110-FA2B-4FD5-8201-09F2E16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5CAA-1C65-4567-B3B1-0C0C2A2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87A-7F49-4968-9794-ABCB207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48FA-42F4-43EA-9D89-B2640D44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3F0AD-0ABB-4315-A716-6C2A7EEC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4C0A7-4166-48E9-9DEF-E2587F60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7ED7-41EB-4BDA-B033-BABDF098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C746-6D85-4D50-B6EA-1D69D83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BB18-631C-42AF-B144-A1884E2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EA1C-5576-4F13-8055-19B1443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398B-F5D7-4B18-9D00-78FE109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018E-CA8B-469E-9E8E-34F9785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64F6-6083-49E4-BD26-792D859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06F-CA8C-45A6-BFE8-9A8384D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AAEF-97A8-447E-954A-67E42EC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68F8-DCAA-4E76-B2AB-8A11A2A9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7E50-52B4-4D41-8014-28F82E7C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0F69-6E41-4F0D-8199-014E0DEA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0142-2A78-4557-8F9F-EBFF6AB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9B81-1AD5-40BB-8D8F-EC39FDDA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73E7-7699-42D4-96D7-6652B5D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1850-6378-44E7-96BD-8FCC6110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8FFC-8118-4B4C-9DCA-9217825A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A3E1A-EEB0-4286-A6B3-1160C204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371-CCEE-479C-9844-93836AE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EFA9-4889-4781-BF22-5DD7DB8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0C02-3583-43A4-B893-FA42184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CEA2-D7CB-409D-BBA2-369250F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5CA3-1F98-4E2D-9049-6CDBEC02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E16F1-89A6-4720-BDB3-DECFB8EC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853FB-8C3B-48E7-99A2-2F189CBA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981D-32C8-4697-8678-C58DDBA9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3854-9C12-46FF-B70D-1D8A7562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D8073-B3A3-4C59-A751-1257204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4B7C4-3B6F-435F-A9C3-F30F943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7CE-2632-432D-A259-F2A49A4F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F26F-CC12-40D6-848F-3E02B664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6029-71D3-4562-9B44-86135F1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D315-D115-4E42-9E6C-6F65501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1B2F-EBB8-4606-85F7-778CA07E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D291-9068-4A30-9EB0-157A2A30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C12E-1700-41F7-A42C-444EDEDD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0029-6FEC-4E40-BD0B-D2093388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2117D-C5CC-4F91-9E5A-05AD62E0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097B-42E5-4ED2-883A-E2B0BEF6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8D1E8-F981-49CD-A5E8-766530A9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78E-96F8-4AD4-BD3D-5CB6A3CA01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A375-FE56-407C-A7C9-503CC3E1FD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39FE-5C06-4404-93CA-31FBC0ACC7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8B3-4274-4AB4-804A-29B15BC846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4365-DD0F-4EAA-8580-C1FA36DF02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902-6205-441F-9A7C-8AF9EE64EA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E47-FDE2-4F66-A0EB-6A181DC58D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9CA8-5493-4119-9772-8A8BB5652A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24FA-6D8F-4894-83D0-B3CC18E232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9FE-922C-40D2-BB84-49F94F57BC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BF7-9705-4AA7-B009-FC504142DF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5F0A-48A0-40A6-9C93-2849328505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9C0-3F80-4613-A3BF-DCED1C61F6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40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hyperlink" Target="http://gatopardo.blogia.com/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atopardo.blogia.com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atopardo.blogia.com/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447920" y="36572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rgio Mic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mela Calde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ía de los Ángele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arendt4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6"/>
          <p:cNvPicPr/>
          <p:nvPr/>
        </p:nvPicPr>
        <p:blipFill>
          <a:blip r:embed="rId4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nah Arendt nos introducirá en la condición humana presentándonos las distintas actividades de esta: labor, trabajo y acción. Veremos que la esfera privada está marcada por la necesidad y la jerarquía, en contra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bert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gual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acio públ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l ideal antiguo de la vida activa, muerto tras la caída de la Atenas democrática y la R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public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ascenso d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da contempl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volverá a regir en las revoluciones liberales y republicanas de 1776, 1789, 1804 y 1810. Sin embargo, en los tiempos modernos volverá a primar, sobre l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imal laboran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omo fab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Demostración de ello en la frenética vida del estudio, el trabajo y el consumo que nos rige, a despecho del ciudadano. El curso defenderá la necesidad de la política como actividad destinada a cuidar a la polis entendida como orden pluralista y pacífico, libre e iguali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5" descr="bb93e6_sena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curso busca desarrollar tres competencias en los alumnos. La primera – cognitiva - es transmitir los conceptos y teorías centrales del debate republicano contemporáne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4" descr="republica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24000" y="549000"/>
            <a:ext cx="453060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En segundo lugar busca promover las habilidades de la deliberación y la participación en clas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5" descr="Tertulia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388296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Finalmente, se busca promover a un líder activo en la reivindicación de lo público y en la transformación de la democracia chilena y latinoamericana del bicentena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7" descr="liderazgoPinguinos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cart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9" descr="sPBvpHWhvRqPySCDnaidyZiLTWOWWzqTVtQdiKju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39" name="AutoShape 14"/>
          <p:cNvSpPr/>
          <p:nvPr/>
        </p:nvSpPr>
        <p:spPr>
          <a:xfrm>
            <a:off x="0" y="1341360"/>
            <a:ext cx="1835280" cy="1727280"/>
          </a:xfrm>
          <a:prstGeom prst="wedgeRoundRectCallout">
            <a:avLst>
              <a:gd name="adj1" fmla="val 22060"/>
              <a:gd name="adj2" fmla="val 78861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5"/>
          <p:cNvSpPr/>
          <p:nvPr/>
        </p:nvSpPr>
        <p:spPr>
          <a:xfrm>
            <a:off x="2089080" y="0"/>
            <a:ext cx="7054920" cy="1440000"/>
          </a:xfrm>
          <a:prstGeom prst="wedgeRoundRectCallout">
            <a:avLst>
              <a:gd name="adj1" fmla="val 30018"/>
              <a:gd name="adj2" fmla="val 196967"/>
              <a:gd name="adj3" fmla="val 1666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WordArt 16"/>
          <p:cNvSpPr txBox="1"/>
          <p:nvPr/>
        </p:nvSpPr>
        <p:spPr>
          <a:xfrm>
            <a:off x="2268360" y="404640"/>
            <a:ext cx="687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!! Yo soy el profesor Micco ¡¡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2" name="WordArt 17"/>
          <p:cNvSpPr txBox="1"/>
          <p:nvPr/>
        </p:nvSpPr>
        <p:spPr>
          <a:xfrm>
            <a:off x="0" y="1989000"/>
            <a:ext cx="15238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 soy M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3" name="AutoShape 20"/>
          <p:cNvSpPr/>
          <p:nvPr/>
        </p:nvSpPr>
        <p:spPr>
          <a:xfrm>
            <a:off x="684360" y="2492280"/>
            <a:ext cx="772920" cy="936720"/>
          </a:xfrm>
          <a:prstGeom prst="downArrow">
            <a:avLst>
              <a:gd name="adj1" fmla="val 50000"/>
              <a:gd name="adj2" fmla="val 302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1"/>
          <p:cNvSpPr/>
          <p:nvPr/>
        </p:nvSpPr>
        <p:spPr>
          <a:xfrm>
            <a:off x="7236000" y="4941720"/>
            <a:ext cx="846000" cy="1768680"/>
          </a:xfrm>
          <a:prstGeom prst="upArrow">
            <a:avLst>
              <a:gd name="adj1" fmla="val 50000"/>
              <a:gd name="adj2" fmla="val 522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3" descr="gorillabrain"/>
          <p:cNvPicPr/>
          <p:nvPr/>
        </p:nvPicPr>
        <p:blipFill>
          <a:blip r:embed="rId2"/>
          <a:stretch/>
        </p:blipFill>
        <p:spPr>
          <a:xfrm>
            <a:off x="6408720" y="3573360"/>
            <a:ext cx="27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5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eptos cent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 final del curso el alumno deberá dominar los conceptos de política, democracia, labor, trabajo, acción, contemplación, violencia, libertad, igualdad, esfera pública, participación, república, estado, liderazgo adaptativo y capital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-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revoluciones republicanas de 1776, 1789, 1804 y 18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ynch, John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s revoluciones hispanoamericanas: 1808-182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iel; Barcelona; España; capítulos primero y décimo; pp. 9-43 y 336-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revolucioneshispanoamericanas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mensaje_bote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575316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- La excepcionalidad chil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turo y Samuel Valenzuela.  “Los orígenes de la democracia en Chile”. en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vista de Estudios Públic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Centro de Estudios Públicos. Santiago de Chile. 19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Chili"/>
          <p:cNvPicPr/>
          <p:nvPr/>
        </p:nvPicPr>
        <p:blipFill>
          <a:blip r:embed="rId4"/>
          <a:stretch/>
        </p:blipFill>
        <p:spPr>
          <a:xfrm>
            <a:off x="1071720" y="571680"/>
            <a:ext cx="1325520" cy="100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- El discurso republicano chileno  entre 1810 y 18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Castillo, Vasc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reación de la república;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m Ediciones, Santiago de Chile; 2009; pp. 15-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6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01040" y="575316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http://www.memoriachilena.cl/archivos2/cronoim/camiloaurora.jpg"/>
          <p:cNvPicPr/>
          <p:nvPr/>
        </p:nvPicPr>
        <p:blipFill>
          <a:blip r:embed="rId3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44720" y="1483920"/>
            <a:ext cx="4498920" cy="537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La decepción con la democracia latinoamericana post 1979: democracia electoral con pobreza y desigual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 las Naciones Unidas para el Desarrollo;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democracia en América Latin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Hacia una democracia de ciudadanos y ciudadanas; Santiago de Chile; 2004; pp. 33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8" descr="www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1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- La política como arte del cuidado pacífico del orden pl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cía-Huidobro, Joaquín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mpatía por la polí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ntro de Estudios del Bicentenario; Santiago de Chile; 2007; pp. 11-75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8" descr="plato_aristoteles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Gatopardo"/>
          <p:cNvPicPr/>
          <p:nvPr/>
        </p:nvPicPr>
        <p:blipFill>
          <a:blip r:embed="rId2"/>
          <a:stretch/>
        </p:blipFill>
        <p:spPr>
          <a:xfrm>
            <a:off x="450072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49892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.- El retorno de la política: la p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ck, Bernard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defensa de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Tusquets editores; Barcelona; España; 2001; pp.15-36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6" descr="Bernard%20Crick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0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4498920" cy="633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7.- El republicanismo anti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ld, David,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s de democra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Alianza Ensayo, Madrid, Ensayo, 2001, pp. 55-90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4" descr="logo_republica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3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olencia y arbitrariedad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particular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ón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z y Derech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ótele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Común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ranía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garquí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st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cho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locraci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epública 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emocracia rect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56000" y="609120"/>
            <a:ext cx="440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4498920" cy="461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8.- La gran dicotomía público/pr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bbio, Norberto;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do, gobierno y sociedad;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ndo de Cultura Económica; México; 1996; pp. 11-38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9" descr="493852_normal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1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95280" y="1980720"/>
            <a:ext cx="514836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7" descr="arendt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6" descr="45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5480" y="549000"/>
            <a:ext cx="578628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memoramos el bicentenario del inicio de la independencia hispanoamericana. Nos liberamos de España para sentar repúblicas prósper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sanmartin"/>
          <p:cNvPicPr/>
          <p:nvPr/>
        </p:nvPicPr>
        <p:blipFill>
          <a:blip r:embed="rId3"/>
          <a:stretch/>
        </p:blipFill>
        <p:spPr>
          <a:xfrm>
            <a:off x="607212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La búsqueda de la inmortalidad en l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 activ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dt, Hanna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Paidos; Barcelona; España; 1993; pp. 21 – 36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Arendt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4" descr="Gatopardo"/>
          <p:cNvPicPr/>
          <p:nvPr/>
        </p:nvPicPr>
        <p:blipFill>
          <a:blip r:embed="rId2"/>
          <a:stretch/>
        </p:blipFill>
        <p:spPr>
          <a:xfrm>
            <a:off x="865836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44989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0.- Vida activa moderna: la labor de nuestro cuerpo y el trabajo de nuestr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endt, Hanna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la historia a la a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5; pp. 89- 107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7" descr="arendt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9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067280" y="198072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- La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vita activa,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esfera privada y pública: libertad e 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9" descr="arendt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00320" y="428760"/>
            <a:ext cx="514332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.- Diversidad y pluralismo</a:t>
            </a:r>
            <a:br>
              <a:rPr sz="2800"/>
            </a:b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rtori, Giovanni; Los fundamentos del pluralismo; en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ista La Polít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; Número 1; Liberalismo, comunitarismo y democracia; Paidós; Barcelona; España; 1996; pp. 107-122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SartoriMaquiavelo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42368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2.- El drama de un pacif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908000" y="4436640"/>
            <a:ext cx="511200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bbio, Norberto; Autobiografía, Taurus, Madrid, 199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11" descr="ihycm-p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de4176c9b1964af1c641c90c671bfc4f"/>
          <p:cNvPicPr/>
          <p:nvPr/>
        </p:nvPicPr>
        <p:blipFill>
          <a:blip r:embed="rId2"/>
          <a:stretch/>
        </p:blipFill>
        <p:spPr>
          <a:xfrm>
            <a:off x="5786280" y="0"/>
            <a:ext cx="335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3.- ¿Qué es el espacio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** 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aidos; Barcelona; España; 1993; pp. 37-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5" descr="ojos%20verdes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000" y="1916280"/>
            <a:ext cx="8080200" cy="1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condición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arendtIII"/>
          <p:cNvPicPr/>
          <p:nvPr/>
        </p:nvPicPr>
        <p:blipFill>
          <a:blip r:embed="rId1"/>
          <a:stretch/>
        </p:blipFill>
        <p:spPr>
          <a:xfrm>
            <a:off x="5435640" y="0"/>
            <a:ext cx="1454040" cy="17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"/>
          <p:cNvGraphicFramePr/>
          <p:nvPr/>
        </p:nvGraphicFramePr>
        <p:xfrm>
          <a:off x="0" y="2205000"/>
          <a:ext cx="9144000" cy="4537080"/>
        </p:xfrm>
        <a:graphic>
          <a:graphicData uri="http://schemas.openxmlformats.org/drawingml/2006/table">
            <a:tbl>
              <a:tblPr/>
              <a:tblGrid>
                <a:gridCol w="2987640"/>
                <a:gridCol w="2987640"/>
                <a:gridCol w="316872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a contempla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mpla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s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e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zga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activ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da Públic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cción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abajo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da Privad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abor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12" name="Picture 42" descr="Arendt1"/>
          <p:cNvPicPr/>
          <p:nvPr/>
        </p:nvPicPr>
        <p:blipFill>
          <a:blip r:embed="rId2"/>
          <a:stretch/>
        </p:blipFill>
        <p:spPr>
          <a:xfrm>
            <a:off x="0" y="0"/>
            <a:ext cx="1835280" cy="2276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4" descr="arendt"/>
          <p:cNvPicPr/>
          <p:nvPr/>
        </p:nvPicPr>
        <p:blipFill>
          <a:blip r:embed="rId3"/>
          <a:stretch/>
        </p:blipFill>
        <p:spPr>
          <a:xfrm>
            <a:off x="2484360" y="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5" descr="Hannah%20Arendt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95280" y="609120"/>
            <a:ext cx="47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4.- La libertad republicana: ¿Qué es la libert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ndt, Hannah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tre el pasado y el futu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Península; Barcelona; España; pp. 155-184 (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6" descr="Paloma en LIBERTAD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572000" y="1177920"/>
            <a:ext cx="423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5.-  ¿Por qué la igualdad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ahl, Robert;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mocracia. Una guía para los ciudadano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; Taurus; Madrid; España; 1999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igualdad"/>
          <p:cNvPicPr/>
          <p:nvPr/>
        </p:nvPicPr>
        <p:blipFill>
          <a:blip r:embed="rId1"/>
          <a:stretch/>
        </p:blipFill>
        <p:spPr>
          <a:xfrm>
            <a:off x="0" y="46080"/>
            <a:ext cx="4524480" cy="6811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644720" y="-360"/>
            <a:ext cx="4498920" cy="659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6.- El republicanismo contemporáneo: autogobierno, deliberación y vir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vejero, Félix y otros: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as ideas republicanas. Autogobierno y libert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 Paidós; Barcelona; España; 2003; pp. 11-58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iguiendo la inscripción que aparece en la parte superior del lienzo -"EX PRAETERITO - PRAESENS PRUDENTER AGIT - NI FUTURU(M)./ACTIONEM DETURPET", "del pasado al presente es preciso actuar con prudencia para no arruinar la acción futura"- Panofsky ha interpretado esta obra como una alegoría del Tiempo gobernado por la Prudencia.Las tres cabezas humanas -que se interpretan como las tres edades del hombre- se asocian con tres cabezas de animales que se asocian con la memoria, la inteligencia y la providencia: el lobo -que devora la memoria de las cosas como el pasado-, el león -que se agita como el presente- y el perro -que apacigua en la esperanza, el futuro-. Panofsky ha reconocido en las cabezas humanas al anciano Tiziano, a su hijo Orazio y su nieto Marco, surgiendo poco a poco de las tinieblas del pasado (el pintor), recibiendo la luminosa transparencia del presente (Orazio) y resplandeciendo con la luz del futuro (Marco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Alegoría del Tiempo gobernado por la Prudencia"/>
          <p:cNvPicPr/>
          <p:nvPr/>
        </p:nvPicPr>
        <p:blipFill>
          <a:blip r:embed="rId1"/>
          <a:stretch/>
        </p:blipFill>
        <p:spPr>
          <a:xfrm>
            <a:off x="0" y="0"/>
            <a:ext cx="4641840" cy="68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8" name="Picture 6" descr="Republica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Gatopardo"/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23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s una larga historia de caudillos y democracias inestables, América Latina vive desde 1979 un período marcado por democracias electorales, pobreza y desigualdad (PNUD, 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5640" cy="11048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8256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es-revo390"/>
          <p:cNvPicPr/>
          <p:nvPr/>
        </p:nvPicPr>
        <p:blipFill>
          <a:blip r:embed="rId4"/>
          <a:stretch/>
        </p:blipFill>
        <p:spPr>
          <a:xfrm>
            <a:off x="0" y="278604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067280" y="1412640"/>
            <a:ext cx="507672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4788000" y="696240"/>
            <a:ext cx="435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7.- El retorno del Estado: poner fin a la guerra, al terrorismo, al crimen organizado y otras pandemias glob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kuyama, Francis;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Ediciones B; Barcelona; España; 2005; pp. 9-7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82200" y="464040"/>
            <a:ext cx="34606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11" descr="Tapa1_estado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3" descr="Gatopardo"/>
          <p:cNvPicPr/>
          <p:nvPr/>
        </p:nvPicPr>
        <p:blipFill>
          <a:blip r:embed="rId2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7"/>
          <p:cNvSpPr/>
          <p:nvPr/>
        </p:nvSpPr>
        <p:spPr>
          <a:xfrm>
            <a:off x="4859280" y="189000"/>
            <a:ext cx="42847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.- El retorno  de la comunidad en las teorías del desarrollo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ria, Raúl y Siles, Marcelo;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pital social y reducción de la pobreza en América Latina y el Caribe: en búsqueda de un nuevo paradig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; CEPAL; Santiago de Chile; 2003. Primera Parte, capítulos 1 y 2, pp. 25-48 (*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9" descr="590850581_818df878f9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1" descr="Gatopardo"/>
          <p:cNvPicPr/>
          <p:nvPr/>
        </p:nvPicPr>
        <p:blipFill>
          <a:blip r:embed="rId2"/>
          <a:stretch/>
        </p:blipFill>
        <p:spPr>
          <a:xfrm>
            <a:off x="3995640" y="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644720" y="260280"/>
            <a:ext cx="3809880" cy="583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9.-La necesidad del liderazgo adaptativo en las democracias y Estados latinoameric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ifetz Ronald; Liderazgo sin respuestas fáciles; Paidós; Barcelona; España; 1997; pp. 33-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13" descr="gandhiabogado"/>
          <p:cNvPicPr/>
          <p:nvPr/>
        </p:nvPicPr>
        <p:blipFill>
          <a:blip r:embed="rId1"/>
          <a:stretch/>
        </p:blipFill>
        <p:spPr>
          <a:xfrm>
            <a:off x="0" y="46080"/>
            <a:ext cx="4572000" cy="6811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5" descr="080130-gandhi-vmed-1030a"/>
          <p:cNvPicPr/>
          <p:nvPr/>
        </p:nvPicPr>
        <p:blipFill>
          <a:blip r:embed="rId2"/>
          <a:stretch/>
        </p:blipFill>
        <p:spPr>
          <a:xfrm>
            <a:off x="0" y="0"/>
            <a:ext cx="4500720" cy="6676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7" descr="Gandhi-funeral2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9" descr="Gatopardo"/>
          <p:cNvPicPr/>
          <p:nvPr/>
        </p:nvPicPr>
        <p:blipFill>
          <a:blip r:embed="rId4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8" descr="story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" descr="051107viroli_2"/>
          <p:cNvPicPr/>
          <p:nvPr/>
        </p:nvPicPr>
        <p:blipFill>
          <a:blip r:embed="rId2"/>
          <a:stretch/>
        </p:blipFill>
        <p:spPr>
          <a:xfrm>
            <a:off x="7556400" y="5589720"/>
            <a:ext cx="1587600" cy="12682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2"/>
          <p:cNvSpPr/>
          <p:nvPr/>
        </p:nvSpPr>
        <p:spPr>
          <a:xfrm>
            <a:off x="4500720" y="731880"/>
            <a:ext cx="464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0.- El amor por lo público y el retorno del patriotismo cívic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bbio, Norberto y Viroli, Mauricio;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álogo en torno a la repúbl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; Tusquets Editores; Barcelona; España; 2002. (*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15" descr="Gatopardo"/>
          <p:cNvPicPr/>
          <p:nvPr/>
        </p:nvPicPr>
        <p:blipFill>
          <a:blip r:embed="rId3"/>
          <a:stretch/>
        </p:blipFill>
        <p:spPr>
          <a:xfrm>
            <a:off x="442764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302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n dos pruebas escritas el jueves 22 de abril y el27 de mayo a las 8.30 horas. Ella versará sobre los contenidos entregados en clases y la bibliografía obligatoria pasada hasta ese momento. Cada una de estas pruebas tendrá una ponderación de un 30% de la nota fin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4" descr="consum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Gatopardo"/>
          <p:cNvPicPr/>
          <p:nvPr/>
        </p:nvPicPr>
        <p:blipFill>
          <a:blip r:embed="rId2"/>
          <a:stretch/>
        </p:blipFill>
        <p:spPr>
          <a:xfrm>
            <a:off x="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071600" y="198108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rá un examen final el 8 de julio tendrá una ponderación del 40% de la nota fi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6" descr="bebeyperro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Gatopardo"/>
          <p:cNvPicPr/>
          <p:nvPr/>
        </p:nvPicPr>
        <p:blipFill>
          <a:blip r:embed="rId2"/>
          <a:stretch/>
        </p:blipFill>
        <p:spPr>
          <a:xfrm>
            <a:off x="468360" y="105264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curso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Wonder_Woman_1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superman"/>
          <p:cNvPicPr/>
          <p:nvPr/>
        </p:nvPicPr>
        <p:blipFill>
          <a:blip r:embed="rId2"/>
          <a:stretch/>
        </p:blipFill>
        <p:spPr>
          <a:xfrm>
            <a:off x="0" y="0"/>
            <a:ext cx="9144000" cy="792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es y jueves 4 hor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sesión se iniciará con el planteamiento del tema y de los problemas centrales. Luego se dará curso a deliberación de los alumnos fundada en las lecturas fijadas para cada clase. Los alumnos deberán haber leído la bibliografía obligatoria. Tras la exposición se procederá a debatir el tema propuesto y los problemas contemporáneos relativos a e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53-peregr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pedag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 joven chileno nacido en 1989, al igual que un número importante de los niños del mundo moderno, son parte de una generación que -  nos guste o no - antes de entrar a la universidad habrán experimentado más de 10 mil horas de videojuego, 20 mil mails mandados y recibidos,  10 mil horas de uso de celular y otro tanto de chat, 20 mil horas de TV y finalmente, 5 mil horas de lectura.  Es decir, una generación capaz de absorber información y tomar decisiones muy rápido, con procesamiento paralelo, que aprende de manera diferente, que salta de un tema a otro con gran rapidez, generación que ha sido bautizada por algunos como la "Net Generation", o incluso "homo zappiens" por sus habilidades para controlar simultáneamente diferentes fuentes de información digital. No son pocos los  científicos del área de la neuro-cognición que sostienen que los cambios son tan profundos que están modificando su estructura cereb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Gatopardo"/>
          <p:cNvPicPr/>
          <p:nvPr/>
        </p:nvPicPr>
        <p:blipFill>
          <a:blip r:embed="rId1"/>
          <a:stretch/>
        </p:blipFill>
        <p:spPr>
          <a:xfrm>
            <a:off x="0" y="5589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7" descr="miles-de-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" descr="204975001_d659f2b160"/>
          <p:cNvPicPr/>
          <p:nvPr/>
        </p:nvPicPr>
        <p:blipFill>
          <a:blip r:embed="rId2"/>
          <a:stretch/>
        </p:blipFill>
        <p:spPr>
          <a:xfrm>
            <a:off x="0" y="386064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9" descr="Gatopardo"/>
          <p:cNvPicPr/>
          <p:nvPr/>
        </p:nvPicPr>
        <p:blipFill>
          <a:blip r:embed="rId3"/>
          <a:stretch/>
        </p:blipFill>
        <p:spPr>
          <a:xfrm>
            <a:off x="0" y="39337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2560" y="3500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, por el contrario, asentó tempranamente una república comparativamente más estable y desde allí avanzó en la democratización. Hoy exhibe un vigoroso crecimiento económico desde 1984 y una democracia consolidada desde 1989 que reduce drásticamente la pobreza, pero mantiene la desigualdad (Ocde, Chile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" descr="http://www.elmorrocotudo.cl/tmp_images/497/noticia_24820_norm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242892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Still%20Life%20with%20Books%20Naturaleza%20muerta%20con%20lib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Gatopardo"/>
          <p:cNvPicPr/>
          <p:nvPr/>
        </p:nvPicPr>
        <p:blipFill>
          <a:blip r:embed="rId2"/>
          <a:stretch/>
        </p:blipFill>
        <p:spPr>
          <a:xfrm>
            <a:off x="7812000" y="4076640"/>
            <a:ext cx="4860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2560" y="45720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, su democracia resulta ser de baja intensidad y no logra siquiera la inscripción de los jóvenes en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2" descr="http://wrue.iespana.es/foro/kamurr/kamaradas/aleullota_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00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9080" y="3429000"/>
            <a:ext cx="486000" cy="1104840"/>
          </a:xfrm>
          <a:prstGeom prst="rect">
            <a:avLst/>
          </a:prstGeom>
          <a:ln w="0">
            <a:noFill/>
          </a:ln>
        </p:spPr>
      </p:pic>
      <p:sp>
        <p:nvSpPr>
          <p:cNvPr id="604" name="8 Rectángulo"/>
          <p:cNvSpPr/>
          <p:nvPr/>
        </p:nvSpPr>
        <p:spPr>
          <a:xfrm>
            <a:off x="357120" y="0"/>
            <a:ext cx="2786040" cy="42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929040" y="214200"/>
            <a:ext cx="513864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ntro desde este contexto histórico, el curso tiene como objetivo explicarnos la crisis de la democracia contemporánea y proponer un pensamiento que podría ayudarnos a superarla. Nos servirán como perspectiva teórica el renacimiento del ideal republicano y el pensamiento de Hannah Arend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Arendt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arendt4"/>
          <p:cNvPicPr/>
          <p:nvPr/>
        </p:nvPicPr>
        <p:blipFill>
          <a:blip r:embed="rId2"/>
          <a:stretch/>
        </p:blipFill>
        <p:spPr>
          <a:xfrm>
            <a:off x="2286000" y="4221000"/>
            <a:ext cx="1619280" cy="2637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Gatopar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20" y="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563868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28400" y="214200"/>
            <a:ext cx="863892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Se analizarán las razones por las cuales vivimos tiempos de declive del espacio público y de privatización de nuestras vidas. Se terminará proponiendo la necesidad de un liderazgo adaptativo que fortalezca lo público, la comunidad y la ciudadanía acti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8" descr="Gatopar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8120" y="5753160"/>
            <a:ext cx="486000" cy="1104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VIOLENCI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5" descr="mensaje_recibido_telefono_mov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Gatopar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8360" y="5753160"/>
            <a:ext cx="485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</cp:lastModifiedBy>
  <dcterms:modified xsi:type="dcterms:W3CDTF">2010-03-23T22:35:34Z</dcterms:modified>
  <cp:revision>139</cp:revision>
  <dc:subject/>
  <dc:title>Presentación de PowerPoint</dc:title>
</cp:coreProperties>
</file>