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7D5-9655-4240-8EBD-F82079B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11F-5DB4-4E9C-8810-E83FCE1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C9C-06AF-4869-A226-CE066781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E1D-4C0F-4534-B3D6-730EEAE8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758-41E5-46DD-A83D-9CC4B11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A8C-A59C-4EFA-88A5-B5BAFF7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CC5-0C53-4B93-81BF-36832D1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ED2-7478-4CA3-9235-6070236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411-2883-40F5-9A8B-7BAB00F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705-E588-4C33-BDC3-D744F22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403-FF63-4152-8274-4B5072A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7A1-76B0-452A-BD48-BE60192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4997-C04D-4225-BA11-75098BA0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sentación  1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Los Cuatro ideales de vida en la sociedad norteamericana de hoy: ¿nos suena algo simi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ellah; Robert y equipo;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Hábitos del corazón;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ianza Universidad; Madrid; España; 1989; pp. 19- 8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11640" y="1916280"/>
            <a:ext cx="4392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interrogac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quema de l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bert Bellah y Hábitos del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- Ideal de vida norteamer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- Individualismo y cuatro forma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.- Comunidad y bien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pregunta existencial  de la sesión 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ideal de vida ustedes abrazan y qué los llevó a elegir estudiar Dere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84692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ideal de vida de la sociedad más moderna del mundo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dos Unidos de Norteam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l ideal de vida norteamericano y sus cuatro estilo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Bellah,Robert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052005388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individual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Utilitario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xpresiv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njamin Franklin y Tomás Urmen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Benjamin_Frankl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1"/>
          <p:cNvSpPr/>
          <p:nvPr/>
        </p:nvSpPr>
        <p:spPr>
          <a:xfrm>
            <a:off x="6012000" y="260280"/>
            <a:ext cx="3132000" cy="2448000"/>
          </a:xfrm>
          <a:prstGeom prst="cloudCallout">
            <a:avLst>
              <a:gd name="adj1" fmla="val -65712"/>
              <a:gd name="adj2" fmla="val 289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 tiempo es di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areaminera.com/medios/cultura/personajes/ossa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espacioblog.com/myfiles/el-conventillo/huesillero-2.jpg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mageNYET78903212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alt Whitman, y Pablo Neruda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5" descr="whit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0" y="0"/>
            <a:ext cx="2771640" cy="2997360"/>
          </a:xfrm>
          <a:prstGeom prst="wedgeEllipseCallout">
            <a:avLst>
              <a:gd name="adj1" fmla="val 79611"/>
              <a:gd name="adj2" fmla="val 302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nto a mi mis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a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6"/>
          <p:cNvSpPr/>
          <p:nvPr/>
        </p:nvSpPr>
        <p:spPr>
          <a:xfrm>
            <a:off x="324000" y="0"/>
            <a:ext cx="3600360" cy="6858000"/>
          </a:xfrm>
          <a:prstGeom prst="cloudCallout">
            <a:avLst>
              <a:gd name="adj1" fmla="val 55291"/>
              <a:gd name="adj2" fmla="val 2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 hombres mueren y no son fel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977160" y="633888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lbert C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Neruda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484360" y="0"/>
            <a:ext cx="6659640" cy="6858000"/>
          </a:xfrm>
          <a:prstGeom prst="cloudCallout">
            <a:avLst>
              <a:gd name="adj1" fmla="val -68472"/>
              <a:gd name="adj2" fmla="val -44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Sucede que me canso de ser homb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comunitar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Bíblic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250px-Isaiah-Michelangel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esus_with_little_on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9"/>
          <p:cNvSpPr/>
          <p:nvPr/>
        </p:nvSpPr>
        <p:spPr>
          <a:xfrm>
            <a:off x="2771640" y="333360"/>
            <a:ext cx="2737080" cy="6524640"/>
          </a:xfrm>
          <a:prstGeom prst="cloudCallout">
            <a:avLst>
              <a:gd name="adj1" fmla="val -46402"/>
              <a:gd name="adj2" fmla="val -443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cucha Israel: Amarás a tu Dios sobre todas las cosas y a tu hermano como a tí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292720" y="981000"/>
            <a:ext cx="792000" cy="3603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tin Luther King y Alberto Hurtado s.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Hurtado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Hurtado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in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2050920" y="0"/>
            <a:ext cx="4537080" cy="1301760"/>
          </a:xfrm>
          <a:prstGeom prst="wedgeRoundRectCallout">
            <a:avLst>
              <a:gd name="adj1" fmla="val -42930"/>
              <a:gd name="adj2" fmla="val 10914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-con-otros-y-para-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5796000" y="83664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jefferson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lincoln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5"/>
          <p:cNvSpPr/>
          <p:nvPr/>
        </p:nvSpPr>
        <p:spPr>
          <a:xfrm>
            <a:off x="3348000" y="620640"/>
            <a:ext cx="1728720" cy="5040360"/>
          </a:xfrm>
          <a:prstGeom prst="wedgeRoundRectCallout">
            <a:avLst>
              <a:gd name="adj1" fmla="val -94351"/>
              <a:gd name="adj2" fmla="val -31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andes palabras y grandes hechos por el interés público, esta es la felicidad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4500720" y="1197000"/>
            <a:ext cx="1368360" cy="43164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braham-Lincoln-Shoo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403280" y="0"/>
            <a:ext cx="5689800" cy="155736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ualquiera sea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Booth-Gun-medium"/>
          <p:cNvPicPr/>
          <p:nvPr/>
        </p:nvPicPr>
        <p:blipFill>
          <a:blip r:embed="rId2"/>
          <a:stretch/>
        </p:blipFill>
        <p:spPr>
          <a:xfrm>
            <a:off x="7458120" y="59054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ohn-Wilkes-Booth-bw1"/>
          <p:cNvPicPr/>
          <p:nvPr/>
        </p:nvPicPr>
        <p:blipFill>
          <a:blip r:embed="rId3"/>
          <a:stretch/>
        </p:blipFill>
        <p:spPr>
          <a:xfrm>
            <a:off x="6084720" y="5029200"/>
            <a:ext cx="136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Jefferson, Alessandri, Allende y Fr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Rednerpult_600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lessandri"/>
          <p:cNvPicPr/>
          <p:nvPr/>
        </p:nvPicPr>
        <p:blipFill>
          <a:blip r:embed="rId2"/>
          <a:stretch/>
        </p:blipFill>
        <p:spPr>
          <a:xfrm>
            <a:off x="0" y="0"/>
            <a:ext cx="29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TO20020040904014204"/>
          <p:cNvPicPr/>
          <p:nvPr/>
        </p:nvPicPr>
        <p:blipFill>
          <a:blip r:embed="rId3"/>
          <a:stretch/>
        </p:blipFill>
        <p:spPr>
          <a:xfrm>
            <a:off x="291636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1692360" y="333360"/>
            <a:ext cx="5688000" cy="609480"/>
          </a:xfrm>
          <a:prstGeom prst="wedgeRoundRectCallout">
            <a:avLst>
              <a:gd name="adj1" fmla="val -11009"/>
              <a:gd name="adj2" fmla="val 22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buena vida de la mult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 central de est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ómo quieres ser t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1484280"/>
            <a:ext cx="9144000" cy="2441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filosofía como el arte del bien vivir y del bien mor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art2605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es-rata39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0" y="-243000"/>
            <a:ext cx="9144000" cy="14842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La peste » escribí para record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Seres racionales y mortales somos » le hago decir a Calíg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os discursos y cuatro trad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Bellah y su equipo descubren el individualismo como discurso primario del norteamerican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spira al éxito material y la libertad es de empresa y de enriqueci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enjamin Frankli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o, surge también un individualism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iv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espiritual que busca la felicidad en el autodesarrollo y en el crecimiento pers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lt Whitma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llah describe un discurso secundario que viene de los tiempos de la fundación de Estados Unidos de América. Se trata del proyecto de vida basado en la caridad cristian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rtin Luther King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 el  republica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ostiene que la comunidad y su autogobierno son componentes esenciales para la felicidad personal y  la democra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omas Jeffers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muerte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tación del 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michel-de-montaigne-200x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7020000" y="549360"/>
            <a:ext cx="2124000" cy="5400720"/>
          </a:xfrm>
          <a:prstGeom prst="wedgeEllipseCallout">
            <a:avLst>
              <a:gd name="adj1" fmla="val -84157"/>
              <a:gd name="adj2" fmla="val -16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s enseñan a vivir cuando la vida ya ha pasa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16560" y="620712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iguel de Montai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epicuro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0" y="0"/>
            <a:ext cx="3492360" cy="3716280"/>
          </a:xfrm>
          <a:prstGeom prst="wedgeEllipseCallout">
            <a:avLst>
              <a:gd name="adj1" fmla="val 82773"/>
              <a:gd name="adj2" fmla="val 370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ilosofía es una actividad que, mediante discursos y razonamientos, nos procura la vida feliz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145280" y="57754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Epic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10547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508720" y="59180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artin Heide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0" y="0"/>
            <a:ext cx="3924360" cy="2924280"/>
          </a:xfrm>
          <a:prstGeom prst="cloudCallout">
            <a:avLst>
              <a:gd name="adj1" fmla="val 82078"/>
              <a:gd name="adj2" fmla="val -12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mos seres-para-la-muer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-76320" y="260280"/>
            <a:ext cx="4067280" cy="174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05" y="22993"/>
                </a:moveTo>
                <a:lnTo>
                  <a:pt x="22536" y="22993"/>
                </a:lnTo>
                <a:lnTo>
                  <a:pt x="22536" y="22993"/>
                </a:lnTo>
                <a:lnTo>
                  <a:pt x="11087" y="2299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ticipa tu muerte  y tendrás una vida autén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bbi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0" y="0"/>
            <a:ext cx="6494400" cy="1628640"/>
          </a:xfrm>
          <a:prstGeom prst="cloudCallout">
            <a:avLst>
              <a:gd name="adj1" fmla="val 34037"/>
              <a:gd name="adj2" fmla="val 38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¿Tiene esto algo que ver con la felic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4720" y="2923920"/>
            <a:ext cx="439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2" descr="escue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3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¿Para qué estudiar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eo republicanism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4"/>
          <p:cNvSpPr/>
          <p:nvPr/>
        </p:nvSpPr>
        <p:spPr>
          <a:xfrm>
            <a:off x="250920" y="5911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Qué tiene esto que ver con mis estudios de ley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No tendré ya suficiente con Derecho Romano o Civil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2:53:08Z</dcterms:created>
  <dc:creator>Sergio Micco</dc:creator>
  <dc:description/>
  <dc:language>en-US</dc:language>
  <cp:lastModifiedBy>*</cp:lastModifiedBy>
  <dcterms:modified xsi:type="dcterms:W3CDTF">2010-03-22T23:35:36Z</dcterms:modified>
  <cp:revision>96</cp:revision>
  <dc:subject/>
  <dc:title>Republica y comunidad en crisis</dc:title>
</cp:coreProperties>
</file>