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30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type.wav" ContentType="audio/x-wav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44C-E86E-4796-A74E-F2E7404E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390-07BD-464A-A2D5-2157A2AE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753-2747-4855-B100-A6B5B6E5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9D6-D7E2-4693-AFA9-6F519AF8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044-A8C3-4B53-B24F-60319D0E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482-807C-47C2-8942-83E905B2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868-5EE0-4CA8-A95B-B35CFD7D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222-B600-4DA4-88BE-4E14ED05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DBC-8E9D-47ED-B523-A4BFAF04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B60-09A8-40F8-B511-0B11AE4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B75-A401-46C4-B81F-34F21067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581-D2FB-408A-A855-73EF9319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809B-CBF5-49A0-A690-C2D5EA31D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epública y comunidad en crisi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sentación  1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Los Cuatro ideales de vida en la sociedad norteamericana de hoy: ¿nos suena algo simil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ellah; Robert y equipo;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Hábitos del corazón;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ianza Universidad; Madrid; España; 1989; pp. 19- 8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11640" y="1916280"/>
            <a:ext cx="4392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interrogac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quema de l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obert Bellah y Hábitos del Coraz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- Ideal de vida norteamer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.- Individualismo y cuatro formas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.- Comunidad y bien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pregunta existencial  de la sesión 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ideal de vida ustedes abrazan y qué los llevó a elegir estudiar Derech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7846920" cy="53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ideal de vida de la sociedad más moderna del mundo: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ados Unidos de Norteamé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El ideal de vida norteamericano y sus cuatro estilos princip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Bellah,Robert"/>
          <p:cNvPicPr/>
          <p:nvPr/>
        </p:nvPicPr>
        <p:blipFill>
          <a:blip r:embed="rId1"/>
          <a:stretch/>
        </p:blipFill>
        <p:spPr>
          <a:xfrm>
            <a:off x="0" y="0"/>
            <a:ext cx="48481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0520053885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El individualism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Utilitario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Expresiv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Benjamin Franklin y Tomás Urmen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Benjamin_Frankl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1"/>
          <p:cNvSpPr/>
          <p:nvPr/>
        </p:nvSpPr>
        <p:spPr>
          <a:xfrm>
            <a:off x="6012000" y="260280"/>
            <a:ext cx="3132000" cy="2448000"/>
          </a:xfrm>
          <a:prstGeom prst="cloudCallout">
            <a:avLst>
              <a:gd name="adj1" fmla="val -65712"/>
              <a:gd name="adj2" fmla="val 289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 tiempo es di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areaminera.com/medios/cultura/personajes/ossa.jpg"/>
          <p:cNvPicPr/>
          <p:nvPr/>
        </p:nvPicPr>
        <p:blipFill>
          <a:blip r:embed="rId1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espacioblog.com/myfiles/el-conventillo/huesillero-2.jpg"/>
          <p:cNvPicPr/>
          <p:nvPr/>
        </p:nvPicPr>
        <p:blipFill>
          <a:blip r:embed="rId2"/>
          <a:stretch/>
        </p:blipFill>
        <p:spPr>
          <a:xfrm>
            <a:off x="5429160" y="0"/>
            <a:ext cx="37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imageNYET78903212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Walt Whitman, y Pablo Neruda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ceres\Neruda.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res\Neruda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5" descr="whitm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7"/>
          <p:cNvSpPr/>
          <p:nvPr/>
        </p:nvSpPr>
        <p:spPr>
          <a:xfrm>
            <a:off x="0" y="0"/>
            <a:ext cx="2771640" cy="2997360"/>
          </a:xfrm>
          <a:prstGeom prst="wedgeEllipseCallout">
            <a:avLst>
              <a:gd name="adj1" fmla="val 79611"/>
              <a:gd name="adj2" fmla="val 302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nto a mi mism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cam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6"/>
          <p:cNvSpPr/>
          <p:nvPr/>
        </p:nvSpPr>
        <p:spPr>
          <a:xfrm>
            <a:off x="324000" y="0"/>
            <a:ext cx="3600360" cy="6858000"/>
          </a:xfrm>
          <a:prstGeom prst="cloudCallout">
            <a:avLst>
              <a:gd name="adj1" fmla="val 55291"/>
              <a:gd name="adj2" fmla="val 2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 hombres mueren y no son fel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977160" y="6338880"/>
            <a:ext cx="21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Albert C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Neruda"/>
          <p:cNvPicPr/>
          <p:nvPr/>
        </p:nvPicPr>
        <p:blipFill>
          <a:blip r:embed="rId1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484360" y="0"/>
            <a:ext cx="6659640" cy="6858000"/>
          </a:xfrm>
          <a:prstGeom prst="cloudCallout">
            <a:avLst>
              <a:gd name="adj1" fmla="val -68472"/>
              <a:gd name="adj2" fmla="val -44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Sucede que me canso de ser homb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El comunitarism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Bíblic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Republica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250px-Isaiah-Michelangelo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esus_with_little_one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9"/>
          <p:cNvSpPr/>
          <p:nvPr/>
        </p:nvSpPr>
        <p:spPr>
          <a:xfrm>
            <a:off x="2771640" y="333360"/>
            <a:ext cx="2737080" cy="6524640"/>
          </a:xfrm>
          <a:prstGeom prst="cloudCallout">
            <a:avLst>
              <a:gd name="adj1" fmla="val -46402"/>
              <a:gd name="adj2" fmla="val -443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scucha Israel: Amarás a tu Dios sobre todas las cosas y a tu hermano como a tí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5292720" y="981000"/>
            <a:ext cx="792000" cy="3603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tin Luther King y Alberto Hurtado s.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ceres\Hurtado.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Hurtado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King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/>
          <p:cNvSpPr/>
          <p:nvPr/>
        </p:nvSpPr>
        <p:spPr>
          <a:xfrm>
            <a:off x="2050920" y="0"/>
            <a:ext cx="4537080" cy="1301760"/>
          </a:xfrm>
          <a:prstGeom prst="wedgeRoundRectCallout">
            <a:avLst>
              <a:gd name="adj1" fmla="val -42930"/>
              <a:gd name="adj2" fmla="val 10914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er-con-otros-y-para-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5796000" y="83664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jefferson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lincoln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5"/>
          <p:cNvSpPr/>
          <p:nvPr/>
        </p:nvSpPr>
        <p:spPr>
          <a:xfrm>
            <a:off x="3348000" y="620640"/>
            <a:ext cx="1728720" cy="5040360"/>
          </a:xfrm>
          <a:prstGeom prst="wedgeRoundRectCallout">
            <a:avLst>
              <a:gd name="adj1" fmla="val -94351"/>
              <a:gd name="adj2" fmla="val -3132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randes palabras y grandes hechos por el interés público, esta es la felicidad pú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6"/>
          <p:cNvSpPr/>
          <p:nvPr/>
        </p:nvSpPr>
        <p:spPr>
          <a:xfrm>
            <a:off x="4500720" y="1197000"/>
            <a:ext cx="1368360" cy="43164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braham-Lincoln-Shoo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1403280" y="0"/>
            <a:ext cx="5689800" cy="155736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ualquiera sea 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Booth-Gun-medium"/>
          <p:cNvPicPr/>
          <p:nvPr/>
        </p:nvPicPr>
        <p:blipFill>
          <a:blip r:embed="rId2"/>
          <a:stretch/>
        </p:blipFill>
        <p:spPr>
          <a:xfrm>
            <a:off x="7458120" y="5905440"/>
            <a:ext cx="168588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ohn-Wilkes-Booth-bw1"/>
          <p:cNvPicPr/>
          <p:nvPr/>
        </p:nvPicPr>
        <p:blipFill>
          <a:blip r:embed="rId3"/>
          <a:stretch/>
        </p:blipFill>
        <p:spPr>
          <a:xfrm>
            <a:off x="6084720" y="5029200"/>
            <a:ext cx="1362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Jefferson, Alessandri, Allende y Fr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Rednerpult_600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Alessandri"/>
          <p:cNvPicPr/>
          <p:nvPr/>
        </p:nvPicPr>
        <p:blipFill>
          <a:blip r:embed="rId2"/>
          <a:stretch/>
        </p:blipFill>
        <p:spPr>
          <a:xfrm>
            <a:off x="0" y="0"/>
            <a:ext cx="29862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OTO20020040904014204"/>
          <p:cNvPicPr/>
          <p:nvPr/>
        </p:nvPicPr>
        <p:blipFill>
          <a:blip r:embed="rId3"/>
          <a:stretch/>
        </p:blipFill>
        <p:spPr>
          <a:xfrm>
            <a:off x="2916360" y="0"/>
            <a:ext cx="3240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8"/>
          <p:cNvSpPr/>
          <p:nvPr/>
        </p:nvSpPr>
        <p:spPr>
          <a:xfrm>
            <a:off x="1692360" y="333360"/>
            <a:ext cx="5688000" cy="609480"/>
          </a:xfrm>
          <a:prstGeom prst="wedgeRoundRectCallout">
            <a:avLst>
              <a:gd name="adj1" fmla="val -11009"/>
              <a:gd name="adj2" fmla="val 22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buena vida de la mult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cepto central de esta s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Cómo quieres ser t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1484280"/>
            <a:ext cx="9144000" cy="24415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filosofía como el arte del bien vivir y del bien mor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art2605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es-rata390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8"/>
          <p:cNvSpPr/>
          <p:nvPr/>
        </p:nvSpPr>
        <p:spPr>
          <a:xfrm>
            <a:off x="0" y="-243000"/>
            <a:ext cx="9144000" cy="148428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« La peste » escribí para record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« Seres racionales y mortales somos » le hago decir a Calíg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os discursos y cuatro tradi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Bellah y su equipo descubren el individualismo como discurso primario del norteamerican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spira al éxito material y la libertad es de empresa y de enriqueci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enjamin Frankli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ro, surge también un individualism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iv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espiritual que busca la felicidad en el autodesarrollo y en el crecimiento person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alt Whitma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ellah describe un discurso secundario que viene de los tiempos de la fundación de Estados Unidos de América. Se trata del proyecto de vida basado en la caridad cristian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rtin Luther King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 el  republica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ostiene que la comunidad y su autogobierno son componentes esenciales para la felicidad personal y  la democraci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omas Jeffers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muerte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óxim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entación del 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michel-de-montaigne-200x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7020000" y="549360"/>
            <a:ext cx="2124000" cy="5400720"/>
          </a:xfrm>
          <a:prstGeom prst="wedgeEllipseCallout">
            <a:avLst>
              <a:gd name="adj1" fmla="val -84157"/>
              <a:gd name="adj2" fmla="val -163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s enseñan a vivir cuando la vida ya ha pasad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416560" y="620712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Miguel de Montaig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epicuro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0" y="0"/>
            <a:ext cx="3492360" cy="3716280"/>
          </a:xfrm>
          <a:prstGeom prst="wedgeEllipseCallout">
            <a:avLst>
              <a:gd name="adj1" fmla="val 82773"/>
              <a:gd name="adj2" fmla="val 370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ilosofía es una actividad que, mediante discursos y razonamientos, nos procura la vida feliz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145280" y="57754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Epic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eidegger"/>
          <p:cNvPicPr/>
          <p:nvPr/>
        </p:nvPicPr>
        <p:blipFill>
          <a:blip r:embed="rId1"/>
          <a:stretch/>
        </p:blipFill>
        <p:spPr>
          <a:xfrm>
            <a:off x="0" y="0"/>
            <a:ext cx="10547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508720" y="591804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Martin Heide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0" y="0"/>
            <a:ext cx="3924360" cy="2924280"/>
          </a:xfrm>
          <a:prstGeom prst="cloudCallout">
            <a:avLst>
              <a:gd name="adj1" fmla="val 82078"/>
              <a:gd name="adj2" fmla="val -122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mos seres-para-la-muert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eideg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/>
          <p:cNvSpPr/>
          <p:nvPr/>
        </p:nvSpPr>
        <p:spPr>
          <a:xfrm>
            <a:off x="-76320" y="260280"/>
            <a:ext cx="4067280" cy="174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05" y="22993"/>
                </a:moveTo>
                <a:lnTo>
                  <a:pt x="22536" y="22993"/>
                </a:lnTo>
                <a:lnTo>
                  <a:pt x="22536" y="22993"/>
                </a:lnTo>
                <a:lnTo>
                  <a:pt x="11087" y="2299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nticipa tu muerte  y tendrás una vida autén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bobbi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6"/>
          <p:cNvSpPr/>
          <p:nvPr/>
        </p:nvSpPr>
        <p:spPr>
          <a:xfrm>
            <a:off x="0" y="0"/>
            <a:ext cx="6494400" cy="1628640"/>
          </a:xfrm>
          <a:prstGeom prst="cloudCallout">
            <a:avLst>
              <a:gd name="adj1" fmla="val 34037"/>
              <a:gd name="adj2" fmla="val 38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¿Tiene esto algo que ver con la felic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84720" y="2923920"/>
            <a:ext cx="4392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32" descr="escue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33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¿Para qué estudiar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neo republicanism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34"/>
          <p:cNvSpPr/>
          <p:nvPr/>
        </p:nvSpPr>
        <p:spPr>
          <a:xfrm>
            <a:off x="250920" y="5911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¿Qué tiene esto que ver con mis estudios de ley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¿No tendré ya suficiente con Derecho Romano o Civil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2:53:08Z</dcterms:created>
  <dc:creator>Sergio Micco</dc:creator>
  <dc:description/>
  <dc:language>en-US</dc:language>
  <cp:lastModifiedBy>*</cp:lastModifiedBy>
  <dcterms:modified xsi:type="dcterms:W3CDTF">2010-03-22T23:35:36Z</dcterms:modified>
  <cp:revision>96</cp:revision>
  <dc:subject/>
  <dc:title>Republica y comunidad en crisis</dc:title>
</cp:coreProperties>
</file>