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28.jpeg" ContentType="image/jpeg"/>
  <Override PartName="/ppt/media/whoosh.wav" ContentType="audio/x-wav"/>
  <Override PartName="/ppt/media/image30.jpeg" ContentType="image/jpeg"/>
  <Override PartName="/ppt/media/image3.jpeg" ContentType="image/jpeg"/>
  <Override PartName="/ppt/media/image24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type.wav" ContentType="audio/x-wav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905-8EC8-4F58-9920-B3AF51F4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5D0F-8A75-4CE1-A80A-FE3BD1C3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2845-A7CF-4E59-BE12-5CEC07E7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C5F-3E64-42F4-A083-992269FF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59F9-AC65-4DAC-A208-5F3B5C2A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24D6-F769-4ABD-A172-547FE964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0CD-5137-4DA0-A015-4FE13A58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539-20D3-440F-9B7D-2AA13E16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52F-E13D-4F64-9475-8A7D0B74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5029-C4BD-4C79-85E9-FDF6ADCA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149-912C-44FF-97C6-DEA28DD3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9B7-B974-42B9-8832-EB2A09D4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C5A8-208D-4FDB-A24A-16E099652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epública y comunidad en crisi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Presentación  1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- Los Cuatro ideales de vida en la sociedad norteamericana de hoy: ¿nos suena algo simil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ellah; Robert y equipo; </a:t>
            </a: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Hábitos del corazón;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ianza Universidad; Madrid; España; 1989; pp. 19- 8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211640" y="1916280"/>
            <a:ext cx="4392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interrogaci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quema de l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obert Bellah y Hábitos del Coraz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.- Ideal de vida norteameri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4.- Individualismo y cuatro formas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5.- Comunidad y bien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a pregunta existencial  de la sesión 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Qué ideal de vida ustedes abrazan y qué los llevó a elegir estudiar Derech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BD00028_"/>
          <p:cNvPicPr/>
          <p:nvPr/>
        </p:nvPicPr>
        <p:blipFill>
          <a:blip r:embed="rId1"/>
          <a:stretch/>
        </p:blipFill>
        <p:spPr>
          <a:xfrm>
            <a:off x="685800" y="2171880"/>
            <a:ext cx="380988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7846920" cy="534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l ideal de vida de la sociedad más moderna del mundo:</a:t>
            </a: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Estados Unidos de Norteamé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- El ideal de vida norteamericano y sus cuatro estilos princip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Bellah,Robert"/>
          <p:cNvPicPr/>
          <p:nvPr/>
        </p:nvPicPr>
        <p:blipFill>
          <a:blip r:embed="rId1"/>
          <a:stretch/>
        </p:blipFill>
        <p:spPr>
          <a:xfrm>
            <a:off x="0" y="0"/>
            <a:ext cx="484812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0520053885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El individualism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Utilitario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Expresiv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Benjamin Franklin y Tomás Urmene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Benjamin_Frankl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1"/>
          <p:cNvSpPr/>
          <p:nvPr/>
        </p:nvSpPr>
        <p:spPr>
          <a:xfrm>
            <a:off x="6012000" y="260280"/>
            <a:ext cx="3132000" cy="2448000"/>
          </a:xfrm>
          <a:prstGeom prst="cloudCallout">
            <a:avLst>
              <a:gd name="adj1" fmla="val -65712"/>
              <a:gd name="adj2" fmla="val 289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l tiempo es din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areaminera.com/medios/cultura/personajes/ossa.jpg"/>
          <p:cNvPicPr/>
          <p:nvPr/>
        </p:nvPicPr>
        <p:blipFill>
          <a:blip r:embed="rId1"/>
          <a:stretch/>
        </p:blipFill>
        <p:spPr>
          <a:xfrm>
            <a:off x="0" y="0"/>
            <a:ext cx="542916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www.espacioblog.com/myfiles/el-conventillo/huesillero-2.jpg"/>
          <p:cNvPicPr/>
          <p:nvPr/>
        </p:nvPicPr>
        <p:blipFill>
          <a:blip r:embed="rId2"/>
          <a:stretch/>
        </p:blipFill>
        <p:spPr>
          <a:xfrm>
            <a:off x="5429160" y="0"/>
            <a:ext cx="37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imageNYET78903212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Walt Whitman, y Pablo Neruda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ceres\Neruda.j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res\Neruda.j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5" descr="whitma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7"/>
          <p:cNvSpPr/>
          <p:nvPr/>
        </p:nvSpPr>
        <p:spPr>
          <a:xfrm>
            <a:off x="0" y="0"/>
            <a:ext cx="2771640" cy="2997360"/>
          </a:xfrm>
          <a:prstGeom prst="wedgeEllipseCallout">
            <a:avLst>
              <a:gd name="adj1" fmla="val 79611"/>
              <a:gd name="adj2" fmla="val 302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anto a mi mism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camu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6"/>
          <p:cNvSpPr/>
          <p:nvPr/>
        </p:nvSpPr>
        <p:spPr>
          <a:xfrm>
            <a:off x="324000" y="0"/>
            <a:ext cx="3600360" cy="6858000"/>
          </a:xfrm>
          <a:prstGeom prst="cloudCallout">
            <a:avLst>
              <a:gd name="adj1" fmla="val 55291"/>
              <a:gd name="adj2" fmla="val 29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Los hombres mueren y no son feli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977160" y="6338880"/>
            <a:ext cx="216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Albert Ca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Neruda"/>
          <p:cNvPicPr/>
          <p:nvPr/>
        </p:nvPicPr>
        <p:blipFill>
          <a:blip r:embed="rId1"/>
          <a:stretch/>
        </p:blipFill>
        <p:spPr>
          <a:xfrm>
            <a:off x="0" y="0"/>
            <a:ext cx="30592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2484360" y="0"/>
            <a:ext cx="6659640" cy="6858000"/>
          </a:xfrm>
          <a:prstGeom prst="cloudCallout">
            <a:avLst>
              <a:gd name="adj1" fmla="val -68472"/>
              <a:gd name="adj2" fmla="val -44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Sucede que me canso de ser homb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El comunitarism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428920"/>
            <a:ext cx="6400800" cy="32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Bíblic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Times New Roman"/>
              </a:rPr>
              <a:t>Republicano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250px-Isaiah-Michelangelo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esus_with_little_one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9"/>
          <p:cNvSpPr/>
          <p:nvPr/>
        </p:nvSpPr>
        <p:spPr>
          <a:xfrm>
            <a:off x="2771640" y="333360"/>
            <a:ext cx="2737080" cy="6524640"/>
          </a:xfrm>
          <a:prstGeom prst="cloudCallout">
            <a:avLst>
              <a:gd name="adj1" fmla="val -46402"/>
              <a:gd name="adj2" fmla="val -443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scucha Israel: Amarás a tu Dios sobre todas las cosas y a tu hermano como a tí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5292720" y="981000"/>
            <a:ext cx="792000" cy="36036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artin Luther King y Alberto Hurtado s.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ceres\Hurtado.jp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Hurtado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King"/>
          <p:cNvPicPr/>
          <p:nvPr/>
        </p:nvPicPr>
        <p:blipFill>
          <a:blip r:embed="rId2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10"/>
          <p:cNvSpPr/>
          <p:nvPr/>
        </p:nvSpPr>
        <p:spPr>
          <a:xfrm>
            <a:off x="2050920" y="0"/>
            <a:ext cx="4537080" cy="1301760"/>
          </a:xfrm>
          <a:prstGeom prst="wedgeRoundRectCallout">
            <a:avLst>
              <a:gd name="adj1" fmla="val -42930"/>
              <a:gd name="adj2" fmla="val 10914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er-con-otros-y-para-otr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5796000" y="836640"/>
            <a:ext cx="914400" cy="91440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jefferson"/>
          <p:cNvPicPr/>
          <p:nvPr/>
        </p:nvPicPr>
        <p:blipFill>
          <a:blip r:embed="rId1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4" descr="lincoln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45"/>
          <p:cNvSpPr/>
          <p:nvPr/>
        </p:nvSpPr>
        <p:spPr>
          <a:xfrm>
            <a:off x="3348000" y="620640"/>
            <a:ext cx="1728720" cy="5040360"/>
          </a:xfrm>
          <a:prstGeom prst="wedgeRoundRectCallout">
            <a:avLst>
              <a:gd name="adj1" fmla="val -94351"/>
              <a:gd name="adj2" fmla="val -31324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Grandes palabras y grandes hechos por el interés público, esta es la felicidad púb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6"/>
          <p:cNvSpPr/>
          <p:nvPr/>
        </p:nvSpPr>
        <p:spPr>
          <a:xfrm>
            <a:off x="4500720" y="1197000"/>
            <a:ext cx="1368360" cy="431640"/>
          </a:xfrm>
          <a:prstGeom prst="lightningBol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Abraham-Lincoln-Shooti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/>
          <p:cNvSpPr/>
          <p:nvPr/>
        </p:nvSpPr>
        <p:spPr>
          <a:xfrm>
            <a:off x="1403280" y="0"/>
            <a:ext cx="5689800" cy="1557360"/>
          </a:xfrm>
          <a:prstGeom prst="irregularSeal2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ualquiera sea el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Booth-Gun-medium"/>
          <p:cNvPicPr/>
          <p:nvPr/>
        </p:nvPicPr>
        <p:blipFill>
          <a:blip r:embed="rId2"/>
          <a:stretch/>
        </p:blipFill>
        <p:spPr>
          <a:xfrm>
            <a:off x="7458120" y="5905440"/>
            <a:ext cx="1685880" cy="95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ohn-Wilkes-Booth-bw1"/>
          <p:cNvPicPr/>
          <p:nvPr/>
        </p:nvPicPr>
        <p:blipFill>
          <a:blip r:embed="rId3"/>
          <a:stretch/>
        </p:blipFill>
        <p:spPr>
          <a:xfrm>
            <a:off x="6084720" y="5029200"/>
            <a:ext cx="1362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Jefferson, Alessandri, Allende y Fre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Rednerpult_600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Alessandri"/>
          <p:cNvPicPr/>
          <p:nvPr/>
        </p:nvPicPr>
        <p:blipFill>
          <a:blip r:embed="rId2"/>
          <a:stretch/>
        </p:blipFill>
        <p:spPr>
          <a:xfrm>
            <a:off x="0" y="0"/>
            <a:ext cx="29862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FOTO20020040904014204"/>
          <p:cNvPicPr/>
          <p:nvPr/>
        </p:nvPicPr>
        <p:blipFill>
          <a:blip r:embed="rId3"/>
          <a:stretch/>
        </p:blipFill>
        <p:spPr>
          <a:xfrm>
            <a:off x="2916360" y="0"/>
            <a:ext cx="3240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8"/>
          <p:cNvSpPr/>
          <p:nvPr/>
        </p:nvSpPr>
        <p:spPr>
          <a:xfrm>
            <a:off x="1692360" y="333360"/>
            <a:ext cx="5688000" cy="609480"/>
          </a:xfrm>
          <a:prstGeom prst="wedgeRoundRectCallout">
            <a:avLst>
              <a:gd name="adj1" fmla="val -11009"/>
              <a:gd name="adj2" fmla="val 2291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buena vida de la multit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cepto central de esta s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5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¿Cómo quieres ser tú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0" y="1484280"/>
            <a:ext cx="9144000" cy="24415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filosofía como el arte del bien vivir y del bien mor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art2605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es-rata390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8"/>
          <p:cNvSpPr/>
          <p:nvPr/>
        </p:nvSpPr>
        <p:spPr>
          <a:xfrm>
            <a:off x="0" y="-243000"/>
            <a:ext cx="9144000" cy="148428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« La peste » escribí para recordar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« Seres racionales y mortales somos » le hago decir a Calíg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os discursos y cuatro tradi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ert Bellah y su equipo descubren el individualismo como discurso primario del norteamerican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spira al éxito material y la libertad es de empresa y de enriquecimie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enjamin Frankli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ero, surge también un individualismo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iv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ás espiritual que busca la felicidad en el autodesarrollo y en el crecimiento person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Walt Whitma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Bellah describe un discurso secundario que viene de los tiempos de la fundación de Estados Unidos de América. Se trata del proyecto de vida basado en la caridad cristian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rtin Luther King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en el  republica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 sostiene que la comunidad y su autogobierno son componentes esenciales para la felicidad personal y  la democracia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omas Jefferson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muerte"/>
          <p:cNvPicPr/>
          <p:nvPr/>
        </p:nvPicPr>
        <p:blipFill>
          <a:blip r:embed="rId1"/>
          <a:stretch/>
        </p:blipFill>
        <p:spPr>
          <a:xfrm>
            <a:off x="168120" y="46080"/>
            <a:ext cx="89758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óxima cl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esentación del programa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michel-de-montaigne-200x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7"/>
          <p:cNvSpPr/>
          <p:nvPr/>
        </p:nvSpPr>
        <p:spPr>
          <a:xfrm>
            <a:off x="7020000" y="549360"/>
            <a:ext cx="2124000" cy="5400720"/>
          </a:xfrm>
          <a:prstGeom prst="wedgeEllipseCallout">
            <a:avLst>
              <a:gd name="adj1" fmla="val -84157"/>
              <a:gd name="adj2" fmla="val -163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s enseñan a vivir cuando la vida ya ha pasado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416560" y="620712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Miguel de Montaig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epicuro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0" y="0"/>
            <a:ext cx="3492360" cy="3716280"/>
          </a:xfrm>
          <a:prstGeom prst="wedgeEllipseCallout">
            <a:avLst>
              <a:gd name="adj1" fmla="val 82773"/>
              <a:gd name="adj2" fmla="val 370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filosofía es una actividad que, mediante discursos y razonamientos, nos procura la vida feliz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145280" y="577548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Epic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eidegger"/>
          <p:cNvPicPr/>
          <p:nvPr/>
        </p:nvPicPr>
        <p:blipFill>
          <a:blip r:embed="rId1"/>
          <a:stretch/>
        </p:blipFill>
        <p:spPr>
          <a:xfrm>
            <a:off x="0" y="0"/>
            <a:ext cx="105472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5508720" y="5918040"/>
            <a:ext cx="36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imes New Roman"/>
              </a:rPr>
              <a:t>Martin Heide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0" y="0"/>
            <a:ext cx="3924360" cy="2924280"/>
          </a:xfrm>
          <a:prstGeom prst="cloudCallout">
            <a:avLst>
              <a:gd name="adj1" fmla="val 82078"/>
              <a:gd name="adj2" fmla="val -1226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Somos seres-para-la-muert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heidegg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6"/>
          <p:cNvSpPr/>
          <p:nvPr/>
        </p:nvSpPr>
        <p:spPr>
          <a:xfrm>
            <a:off x="-76320" y="260280"/>
            <a:ext cx="4067280" cy="1747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005" y="22993"/>
                </a:moveTo>
                <a:lnTo>
                  <a:pt x="22536" y="22993"/>
                </a:lnTo>
                <a:lnTo>
                  <a:pt x="22536" y="22993"/>
                </a:lnTo>
                <a:lnTo>
                  <a:pt x="11087" y="22993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nticipa tu muerte  y tendrás una vida autén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bobbi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6"/>
          <p:cNvSpPr/>
          <p:nvPr/>
        </p:nvSpPr>
        <p:spPr>
          <a:xfrm>
            <a:off x="0" y="0"/>
            <a:ext cx="6494400" cy="1628640"/>
          </a:xfrm>
          <a:prstGeom prst="cloudCallout">
            <a:avLst>
              <a:gd name="adj1" fmla="val 34037"/>
              <a:gd name="adj2" fmla="val 38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¿Tiene esto algo que ver con la felic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84720" y="2923920"/>
            <a:ext cx="439272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32" descr="escuel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033"/>
          <p:cNvSpPr/>
          <p:nvPr/>
        </p:nvSpPr>
        <p:spPr>
          <a:xfrm>
            <a:off x="0" y="260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¿Para qué estudiar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neo republicanism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34"/>
          <p:cNvSpPr/>
          <p:nvPr/>
        </p:nvSpPr>
        <p:spPr>
          <a:xfrm>
            <a:off x="250920" y="591192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¿Qué tiene esto que ver con mis estudios de ley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¿No tendré ya suficiente con Derecho Romano o Civil 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2:53:08Z</dcterms:created>
  <dc:creator>Sergio Micco</dc:creator>
  <dc:description/>
  <dc:language>en-US</dc:language>
  <cp:lastModifiedBy>*</cp:lastModifiedBy>
  <dcterms:modified xsi:type="dcterms:W3CDTF">2010-03-22T23:35:36Z</dcterms:modified>
  <cp:revision>96</cp:revision>
  <dc:subject/>
  <dc:title>Republica y comunidad en crisis</dc:title>
</cp:coreProperties>
</file>