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AEDB5-E7DC-47B0-A2C3-4FC9D114E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56BB3-3809-4DE6-9A19-B7CBA1166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DAB75-628C-4833-8187-2671AC2DF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45BE0-CA35-435C-A60B-38E5DEB0E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99E840-353E-4B82-A918-B61BA69B55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16BAC-2F38-4395-9BD6-495BDFE95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52AAF-7147-4EA8-A57B-FD98781AE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7D3F8-D23B-47D4-9AD3-3C1AC2AAE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12D01-B00E-4B35-BDD0-F8E3C92F5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F29BE-2B55-4024-A914-7B5D8BDAA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24963-4B52-4531-B275-5E4C2FCBB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8B0E3-E3CA-40C6-BFA8-9D188C1BC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3B8E8-FF34-4337-ACA4-1C1F602F5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00E44-B296-4736-A6A3-184DA6480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1A1F9-5CBD-47C1-A128-E15EAF740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28B0BE-BA77-42DF-B0AB-C3E541DB73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544A7-D955-44C2-8102-54D70DCB1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A8C5E-0D0C-4BE3-A38E-2E2B3E099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708CE-2ED5-4F8C-AC6C-632483267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E2C00-48DF-4AA1-97C7-C7FE2D4D0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B7641-29E0-4DAD-B235-07488669E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1DA96-3AE9-4932-AF09-FE5CEE833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A562F-0EBF-4E5C-AEC0-615B57DAA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F2FF3-C688-4645-A84B-8BB131C9D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0A9C-B4B1-4302-811A-B21C787C7E6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4AB9-B976-4920-931E-4115CD3D5FD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RECHO CIVIL II</a:t>
            </a:r>
            <a:br>
              <a:rPr sz="3200"/>
            </a:b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fesora: Magdalena Bustos 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quisitos para que la fuerza moral vicie el consentimien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fuerza debe ser grave, injusta y determinan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rave: De acuerdo al artículo 1456 CC: “la fuerza no vicia el consentimiento, sino cuando es capaz de producir una impresión  fuerte en una persona de sano juicio, tomando en consideración la edad, sexo y condi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la fuerza produce esta impresión fuerte será grav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eterminación de la gravedad es una cuestión de hecho que será determinada por el juez.</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n perjuicio de lo anterior el artículo 1456 señala también una presunción de gravedad de la fuerza. “Se mira como fuerza de este género todo acto que infunde a una persona un justo temor de verse expuesta ella, su consorte o alguno de sus ascendientes o descendientes a un mal irreparable  grave”. En este caso sólo deberá probarse la existencia de la fuerza y de las condiciones señaladas, no su gravedad.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justa: La fuerza debe ser contraria a la ley o al derecho. El mal con que se amenaza debe ser ilegítimo, es decir, contrario a derecho, o bien no siendo en si mismo ilícito que se “enlace a la consecución de una ventaja desproporcionada o injus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terminante: Significa que el consentimiento obtenido con la amenaza debe ser consecuencia inmediata y directa de ésta, de modo que sin la fuerza la víctima no habría celebrado el acto para el cual se la forzó.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quien puede provenir la fuerz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RTÍCULO 1457 CC: “Para que la fuerza vicie el consentimiento no es necesario que la ejerza aquel que es beneficiado por ella, basta que se haya empleado por cualquier persona con el objeto de obtener el consentimiento”.</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í la fuerza puede emanar de las partes o de un tercero, no importando si se benefició o no con ell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mor reverencial: Señala el artículo 1456 CC que es temor reverencial: “el solo temor de desagradar a las personas a quienes se debe sumisión y respeto”.</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no vicia el consentimiento.</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anción de la fuerza moral: vicia el consentimiento. Nulidad relativa conforme al artículo 1682 inciso fin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estado de necesidad vicia el consentimiento?</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do de necesidad es aquel estado en que un sujeto se siente amenazado por un hecho de la naturaleza o por un acto del hombre, y, para evitar el daño que teme en su persona o en sus bienes adopta un determinado comportamiento, que produce un perjuicio a terceros o resulta perjudicial a los propios intereses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dolo como vicio d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es un vicio del consentimiento constituido por la maquinación fraudulenta destinada a que una persona preste su consentimiento para la celebración de un acto o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fine también como (E. Betti): “toda forma de artificio capaz de inducir a engaño a otros, que excede de aquel género de habilidades que se pueden considerar permitidas a las partes en la lucha de astucia que suele desarrollarse en el curso de las negociaciones de un contrato oneros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tra definición: (Stolffi): “consiste en el artificio utilizado para engañar a una persona provocando en ella un error o aprovechando el error en que la misma se halla, a fin de inducirla a realizar un negocio jurídic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nto el error como el dolo son vicios del consentimiento o de la voluntad. En el error la falsa representación de la realidad “espontánea”, que puede emanar de la propia parte, o incluso de un tercer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olo hay una falsa representación de la realidad pero “intencionada” ya no por cualquiera, sino que por la contrapr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lasificación del do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olo bueno y dolo mal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bueno consiste en el “comportamiento lícito realizado con astucia, halagos, jactancias, propaganda, incitaciones e insistencias que se consideran permitidas en la vida de los negocios o, en general, en las relaciones sociales y jurídicas, para el mismo, cualquier sujeto del mundo del derecho está preparado y habituado”. Ejem.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malo supone en cambio un comportamiento ilícito constituido por el engaño que una persona hace a otra para inducir a esta última a una manifestación de voluntad que sin el dolo no había efectuado, o habría efectuado en condiciones menos onerosas. Ejem.</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malo excede la simple exageración de un contratante hábi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olo positivo y dolo negativ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positivo es aquel en que el engaño se realiza a través de razonamientos o actos tendientes a representar como verdaderas circunstancias falsas o a suprimir o alterar las verdaderas. Ej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negativo: es aquel en que el engaño consiste e ocultar sagazmente hechos verdaderos. El autor del dolo se escuda en una omisión de actividad como es el silencio o reticencia. Ejem.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determinante y dolo incident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determinante o principal es que induce de forma directa a una persona a realizar una declaración o manifestación de voluntad que, de no mediar el dolo, se habría abstenido de realiz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incidental es aquel que no es determinante para la celebración del acto o contrato, la víctima del dolo de todas formas habría manifestado su voluntad, aunque probablemente en condiciones menor onerosa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fectos del dol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que el dolo vicie el consentimiento deben concurrir los siguientes requisitos: Artículo 1458 primera parte. (Que sea determinante y obra de una de las part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exista un engaño o artifici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sea determinante, esto es que las maquinaciones o artificios tengan éxito y sean el antecedente necesario para la celebración del contra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e sea obra de una de las partes (en un contrato) o que al menos debía haber sido conocida por ésta (hecho de un tercer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ste caso, si la contraparte sabía del dolo fraguado por el tercero y no lo comunica a la otra parte, hay dolo negativo o por reticencia, que en caso de ser determinante vicia 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se trata de un acto jurídico unilateral, el dolo necesariamente debe emanar de un tercero (testamento). Este tercero puede haberse visto beneficiado o no con el acto que se ejecuta o celebra. Se dice que en este caso basta con que el dolo sea determinant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l caso de un contrato plurilateral, el dolo puede emanar de una de las partes o de un tercero. En este caso el dolo sólo viciará el consentimiento de la parte afectada, el contrato subsiste con los demás cuyo consentimiento no ha sido viciado, salvo que la participación de la parte que fue afectada con el vicio sea determinante o esencial para las otr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como vicio del consentimiento, al igual que en el caso de error y de la fuerza trae por consecuencia la nulidad relativa del acto o contrato de conformidad al artículo 1682 del CC.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o ¿qué pasa en los casos en que existe dolo y éste no vicia 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 ejemplo, si el dolo emana de un tercero y la contraparte no sabía de la existencia del dolo, o en caso de dolo negativo, si éste no es determinante o en el caso del dolo incidental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rtículo 1458 del CC señala (parte segunda): En los demás casos (luego de referirse al dolo como vicio del consentimiento) el dolo da lugar solamente a la acción de perjuicios contra la persona o personas que lo han fraguado o que se han aprovechado de él, contra las primeras por el valor total de los perjuicios, contra las segundas hasta la concurrencia del provecho que han reportado de ell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norma del artículo 1458 permite entonces para los casos en que el dolo no vicia 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jercer acción de perjuicios e contra de quien fraguó el dolo por el total de los perjuici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ejercer acción de “perjuicios” en contra de quienes se aprovecharon del dolo (sin fraguarlo) por el monto de ese provech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el primer caso, será necesario que se acredite, además del dolo, los supuestos de la responsabilidad extracontractual en general, estos so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para que tenga lugar este tipo de responsabilidad es necesario prob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ién lo prueba? 1698 CC.</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norma no es sino la aplicación de las reglas generales de la responsabilidad extracontractual, si se ha provocado un daño a otro, debe indemnizars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el segundo caso establece una situación distinta, ya no se refiere a quienes hayan causado daño fraguando el dolo, sino a quienes se han aprovechado del dolo para que restituyan el monto de ese provech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es la naturaleza de esa ac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e requiere prob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es lo que se restituy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es la diferencia con la indemnización de perjuici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para que el dolo opere como vicio del consentimiento, sólo basta acreditar los elementos ya señalados: que el dolo sea determinante y sea obra de una de las partes,. No es necesario que se haya causado un perjuicio a la víctima del dolo. Incluso para ésta el acto o contrato pudo haber resultado beneficios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ueba del do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forme al artículo 1459 del CC el dolo no se presume sino en los casos especialmente previstos en la ley. En los demás casos debe probars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ién lo aleg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cepcionalmente el dolo se presume: art. 968 Nº5.</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donación del dol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conformidad a lo dispuesto en el artículo 1465 CC el dolo no puede condonarse o perdonarse anticipadamente, es decir, antes que se come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ndonación del dolo futuro importa la ilicitud del objeto que se sanciona de conformidad al artículo 1682 del CC con la nulidad absolu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el dolo ya fue cometido y ha sido conocido por la víctima no hay impedimento legal alguno para que pueda ser condonad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damento: art. 12 CC.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cios de la voluntad: error, fuerza y dolo. </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rror: de hecho vicia el consentimiento.</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pos de error de hecho: error obstáculo o esencial, error sustancial, error accidental, error en la calidad de la persona.</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que el error de hecho vicie el consentimiento es necesario que el error sea relevante y determinante.</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significa que se vicie el consentimiento?.</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anción: nulidad rela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 dolo en el CC:</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olo en el Código Civil chileno  sólo se encuentra regulado como vicio del consentimiento de acuerdo al artículo 1458 CC, sino que el dolo además aparece como: elemento del ilícito civil y como agravante de la responsabilidad civil contractu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o elemento del ilícito civil (delito) o de la responsabilidad civil. El artículo 2284 señala: “Si el hecho es ilícito y cometido con la intención de dañar, constituye un del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asidelito civil: “Si el hecho es culpable, pero cometido sin la intención de dañar, constituye un cuasidel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o es la responsabilidad civil extracontractu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olo también opera en la responsabilidad contractu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l dolo se encuentra definido en el artículo 44 del CC como: “la intención positiva de inferir injuria a la pesona o propiedad de otr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olo es también agravante de la responsabilidad civil contractual según lo dispone el artículo 1558 del CC: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hay dolo se responde de los perjuicios directos previstos e imprevistos, si solo hay culpa se responde solo de los perjuicios directos previsto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les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es en términos amplios, un perjuicio, un daño patrimonial que sufre una persona como consecuencia de la celebración de un acto jurídic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define la lesión como “el perjuicio que experimenta una persona cuando ejecuta ciertos actos jurídicos, y que resulta de la desigualdad existente entre la ventaja obtenida y el sacrificio hecho para obtenerl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se aplica en doctrina exclusivamente a los contratos onerosos conmutativos. ¿cuáles son esos contratos?. Se excluyen los gratuitos y los aleatori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la lesión un vicio d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tres teorías o criterios al respec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Criterio subjetiv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por si misma vicia el consentimiento, en tanto, la falta de equivalencia en las prestaciones tiene su origen en el apremio moral que ha sufrido una de las partes y que le compele a contratar en condiciones no equivalent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por si misma no vicia el consentimiento, pero la parte que contrata en condiciones no equivalentes (dando más de lo que recibe a cambio) revela que ha actuado en tales condiciones lo ha efectuado como consecuencia del dolo, del error o de la fuerz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problema que presenta este criterio subjetivo es que afecta la seguridad jurídica, en tanto, cualquier persona podría pedir la nulidad de un contrato que la coloca en una posición que estima desfavorable para sus intereses, por la sola circunstancia de haber consentido en él por la imperiosa necesidad de diner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si el contrato deviene en excesivamente oneroso para una de las partes ¿podrá pedirse la nulidad por les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1" lang="es-ES" sz="1400" spc="-1" strike="noStrike">
                <a:solidFill>
                  <a:srgbClr val="000000"/>
                </a:solidFill>
                <a:latin typeface="Arial"/>
              </a:rPr>
              <a:t>Si bien la necesidad obliga a contratar en condiciones desfavorables, no se pierde con ello la voluntad de contratar, no se coarta la libertad de decidir que supone toda manifestación de voluntad válid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 Criterio objetiv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este criterio la lesión no tiene ninguna relación con el consentimiento de las partes. La lesión opera simplemente cuando el contrato concluido por las partes revela una desigualdad de las prestaciones que supera los márgenes permisibles, sin que se tomen para nada en cuenta las razones subjetivas que hayan producido dicha desigualdad.</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os “márgenes permisibles” de la desigualdad de las prestaciones son fijados por el legislador, son por lo tanto de derecho estric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 señalado es sin perjuicio de la concurrencia de un vicio de la voluntad de los ya estudiados, error, fuerza o dol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Criterio mix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este criterio para que exista lesión es necesario que las prestaciones recíprocas de las partes revelen una desigualdad o falta de equivalencia que supere los límites permitidos por la ley. Pero esa desproporción debe ser consecuencia de la “necesidad, miseria, ligereza o inexperiencia de la víctima que la ha colocado en una situación desmejorada frente a una contraparte astu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lesión en el CC Chilen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rtículo 1451 del CC no menciona a la lesión como vicio del consentimiento. No obstante ello, ésta si fue considerada como un vicio del consentimiento en el proyecto de 1853.</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el CC Chileno, la lesión no es de aplicación general, sino que es de derecho estricto, sigue el criterio objetivo. No hay más casos de lesión que los que menciona en CC. Estos son los siguientes: No solo son contratos onerosos conmutativ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a) Lesión en los contratos de compraventa de bienes raíc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888 CC: “El contrato de compraventa podrá rescindirse por lesión enorm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el artículo 1891 CC señala: “No habrá lugar a la acción rescisoria por lesión enorme en las ventas de bienes muebles, ni en las que se hubieren hecho por el ministerio de la justici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para que opere la lesión enorme en los contratos de compraventa, se requiere que se trate de un contrato de compraventa de bienes inmuebles, y que esa venta sea voluntaria y no forzos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pone el artículo 1899 CC: “El vendedor sufre lesión enorme, cuando el precio que recibe es inferior a la mitad del justo precio de la cosa que vende; y el comprador a su vez sufre lesión enorme, cuando el justo precio de la cosa que compra es inferior a la mitad del precio que paga por ella. El justo precio se refiere al tiempo del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lo dispuesto en el artículo 1899 se desprende lo siguien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Sufre lesión enorme el vendedor si el precio que recibe por la cosa en inferior a la mitad del justo preci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el justo precio de la cosa es de $100, y recibe por ella el vendedor $40.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Sufre lesión enorme el comprador cuando el justo precio de la cosa que compra es inferior a la mitad del precio que paga por ella. Así si el comprador paga por la casa $100 en circunstancias que el justo precio de la cosa es de $40.</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o se aprecia, lo que busca la ley no es una equivalencia exacta de las prestaciones, sino que señala el límite máximo de falta de equivalencia de estas prestacion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emás, no se requiere ir a la intención o la razón que las partes tuvieron para contratar en esas condiciones. La lesión es objetiv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efectos de la lesión en el contrato de compraventa de bienes inmuebles están señalados en el artículo 1890 CC que dispone: “El comprador contra quien se pronuncia la rescisión podrá a su arbitrio consentir en ella o completar el justo precio con deducción de una décima parte; y el vendedor en el mismo caso, podrá a su arbitrio consentir en la rescisión, o restituir el exceso del precio recibido sobre el justo precio aumentado en un décim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í.</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Si sufre lesión enorme el vendedor, el comprador contra quien se pronuncia la rescisión puede consentir el rescindir el contrato, o completar el justo precio menos un décim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Si sufre la lesión enorme el comprador el vendedor contra quien se pronuncie la rescisión puede consentir en ella o devolver el exceso del precio más un décim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a vez que ha operado la rescisión (nulidad relativa), las partes deberán restituirse las prestaciones que se hayan efectuado. Así, el vendedor deberá restituir el precio y el comprador la cos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b) La lesión enorme en los contratos de permuta de bienes raíces: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l artículo 1897 CC: “la permutación o cambio es un contrato en que las partes se obligan mutuamente a dar una especie o cuerpo cierto por otro”.</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el artículo 1900 del CC señala que “las disposiciones relativas a la compraventa se aplicarán a la permutación en todo lo que no se oponga a la naturaleza de este contrato; cada permutante será considerado como vendedor de la cosa que da, y el justo precio de ella a la fecha del contrato se mirará como el precio que paga por lo que recibe a cambio”.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el artículo 1900 hace aplicable a la permuta las disposiciones del contrato de compraventa, dentro de las que se encuentra la lesión enorme.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en este caso opera de la siguiente forma: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mbas partes del contrato se reputan como “vendedores”, y el justo precio de la cosa se mirará como el precio que pagó por lo recibió a cambio.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frirá lesión enorme el permutante que haya recibido por la cosa que da a cambio menos de la mitad del justo precio (el justo precio está dado por la cosa que da a cambio). Ejem. Se permutan dos bienes raíces el predio A y el predio B. el precio A vale $300 y el predio B vale $50. Para A el justo precio es de $300 (el precio de la cosa que da a cambio). Sufre lesión enorme el dueño del precio A, pues recibe $50 y lo que da a cambio cuesta $300. No sufriría lesión enorme si lo que da cuesta $300 y lo que recibe cuesta $200.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efectos de la lesión son los mismos que para el contrato de compravent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 La lesión en la cláusula penal enorme.</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láusula penal es la avaluación anticipada que hacen las partes de los perjuicios que deriven del retardo en el cumplimiento de una obligación, o del incumplimiento de la mism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l artículo 1544 CC: “Cuando por el pacto principal una de las partes se obligó a pagar una cantidad determinada, como equivalente a lo que por la otra parte debe prestarse, y la pena consiste asimismo en el pago de una cantidad determinada, podrá pedirse que se rebaje de la segunda todo lo que exceda al duplo de la primera, incluyéndose ésta en él. La disposición anterior no se aplica al mutuo ni a las obligaciones de valor inapreciable o indeterminado. En el primero se podrá rebajar la pena en lo que exceda al máximum del interés que es permitido estipular. En las segundas se deja a la prudencia del juez moderarla, cuando atendidas las circunstancias pareciere enorme”.</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l artículo transcrito se desprende lo siguiente:</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láusula penal es enorme si:</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Tratándose de obligaciones que consisten en el pago de una cantidad determinada que se mira como equivalente a la obligación de la otra parte, será enorme la pena si ésta (también siendo determinada)  excede el duplo de la obligación principal, contenida ésta en ella. Así, si la obligación principal es de 100, la pena sólo puede ser de 200 (en total pena y obligación principal 300), Si la pena es enorme, la ley señala que ésta debe rebajarse. “en todo lo que exceda el duplo de la obligación princip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ándose de obligaciones indeterminadas, quedará a la prudencia del juez moderarlas cuando atendidas las circunstancias pareciera enorm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ándose del mutuo, la cláusula penal será enorme, si excede el máximo de interés que es posible estipular (interés corriente más un 50%), en tal caso se rebaja a ese máxim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todos estos casos la sanción es la rebaja de la pen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d) La lesión en el mutuo con intereses:</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se ha celebrado un mutuo, la ley 18.010 sobre operaciones de crédito (artículo 8º) de dinero señala que el mayor interés que es posible estipular (máximo convencional) es el interés corriente más el 50%, si se ha pactado un interés superior, éste se rebaja al interés corrien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fecto acá también es sólo la rebaja del interé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e) Lesión en la aceptación de una herenci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234 CC: “La aceptación, una vez hecha con los requisitos legales, no podrá rescindirse, sino en el caso de haber sido obtenida por fuerza o dolo, y en el de lesión grave a virtud de disposiciones testamentarias de que no se tenía noticia al momento de aceptarla… se entiende por lesión grave la que disminuye el valor total de la asignación en más de la mitad”.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caso de lesión se puede solicitar la rescisión de la aceptació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CIÓN DEL CONTRATO. </a:t>
            </a:r>
            <a:endParaRPr b="1" lang="en-US" sz="3200" spc="-1" strike="noStrike">
              <a:solidFill>
                <a:srgbClr val="000000"/>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f) Lesión en la partición de bienes:</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348 CC: “Las particiones se anulan o se rescinden de la misma manera y según las mismas reglas que los contratos. La rescisión por causa de lesión se concede al que ha sido perjudicado en más de la mitad de su cuo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fecto es la rescisión o nulidad relativa de la partic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g) La lesión en la anticresi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anticresis es un contrato por el que se entrega al acreedor una cosa raíz para que se pague con sus frutos (artículo 2435 CC). De acuerdo con lo estipulado en el artículo 2443 las partes podrán estipular que los frutos se compensen con los intereses, en su totalidad o hasta la concurrencia de los valores. Los intereses que estipularen estarán sujetos, en caso de lesión enorme, a la misma reducción que en el caso del mutu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fectos de la lesión: </a:t>
            </a:r>
            <a:r>
              <a:rPr b="0" lang="es-ES" sz="1400" spc="-1" strike="noStrike">
                <a:solidFill>
                  <a:srgbClr val="000000"/>
                </a:solidFill>
                <a:latin typeface="Arial"/>
              </a:rPr>
              <a:t>Según se señaló no siempre el efecto de la lesión es la rescisión del acto o contrato. En algunos casos, como en el mutuo o la cláusula penal el efecto es la rebaja de la pena o de los interes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ampoco se aplica en Chile que la lesión sea exclusiva de los contratos conmutativos onerosos, pues, como se expuso, se aplica también a actos unilaterales como la aceptación de una herencia, y a otros actos como lo es la partició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Error esencial u obstáculo.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ñala l artículo 1453 CC: “El error de hecho vicia el consentimiento cuando recae sobre la especie de acto o contrato que se ejecuta o celebra, como si una de las partes entendiese empréstito y la otra donación; o sobre la identidad de la cosa específica de que se trata, como si en el contrato de venta el vendedor entendiese vender cierta cosa determinada, y el comprador entendiese comprar otr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rtículo señalado describe dos supuestos:</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ror que recae sobre la especie de acto o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ror que recae sobre la identidad de la cosa objeto del acto o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sucede con el consentimiento en este caso? ¿hay consentimien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qué se denomina error obstáculo o esenci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El obje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odo contrato debe tener un objeto, éste es un elemento de existenci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varios conceptos de obje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parte de la doctrina se considera que el objeto está constituido por los derechos y obligaciones que el acto o contrato, crea modifica o extingue. (es válido para la noción de acto jurídico en gener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tra parte de la doctrina señala que el objeto es la prestación, aquello que debe darse o entregarse o el hecho que debe ejecutarse o no ejecutarse. Para esta concepción el objeto del contrato y el objeto de la obligación son sinónimos. Este último concepto es más ajustado al objeto del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forme al artículo 1445: “Para que una persona se obligue a otra por un acto o declaración de voluntad es necesario:…Nº3: que recaiga en un objeto lícito”. De lo que se desprende que son requisitos: la existencia de un objeto y que ese objeto sea líc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su parte el artículo 1460 señala: “Toda declaración de voluntad debe tener por objeto una o más cosas que se trata de dar, hacer o no hacer. El mero uso de la cosa o su tenencia puede ser objeto de declarac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para el CC el objeto es la prestación, aquello que debe darse o entregarse o el hecho que debe ejecutarse o no ejecutarse. Así, el objeto recae sobre una cosa o sobre un hech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Requisitos del obje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exponer los requisitos del objeto, debemos identificar si éste es una cosa o un hech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rPr>
              <a:t>Requisitos que debe reunir la cosa objeto del contra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sa objeto del contrato debe ser real, comerciable y determinad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sa real: Que la cosa objeto del contrato sea real significa que debe existir al momento de la de la declaración de voluntad o, a lo menos esperarse que exista. Art. 1461 CC.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a cosa no existe pero se espera que existe importa la celebración de un contrato condicional (art. 1813 CC), salvo que se exprese lo contrario, o que por la naturaleza del contrato aparezca que se compró la suert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ambos casos de excepción la venta se entenderá perfecta y deberá cumplirse con sus obligacion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acuerdo al art. 1814 del CC si se trata de la venta de una cosa que se supone existe a la fecha del contrato y efectivamente no existe no produce efecto algu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Cosa comerciable: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osa es comerciable cuando es susceptible de dominio y posesión por los particulares, o cuando se encuentra en el comercio humano y no excluida de él por su naturaleza, por su destinación o por la ley, como salvaguardia del orden públic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incomerciables las siguientes cosa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cosas comunes a todos los hombres: el mar, el aire, de acuerdo con el artículo 585 CC. Este tipo de cosas son incomerciables e inapropiables, pues no sólo no son susceptibles de posesión o propiedad por los particulares, sino que además no son susceptibles de propiedad ni posesión por ninguna persona de derecho público o nació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os bienes nacionales de uso público o los bienes fiscales. Se incluyen las plazas, los puentes, etc. Este tipo de bienes son naturalmente susceptibles de propiedad por los particulares, pero están destinados a un fin público.  Son incomerciables este tipo de bienes mientras mantengan la destinación, debe “desafectarse el bien” para que sea comerciable.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 Cosa determinada: La cosa que debe darse o entregarse debe estar determinada a lo menos en cuento a su géner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osa puede estar determinada como especie o cuerpo cierto o como un géner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pecie o cuerpo cierto es un individuo determinado de género determin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énero es un individuo indeterminado de un género determin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 determinación es genérica debe indicarse a lo menos la cantidad de ese individuo indeterminado del género determinado. Si la cantidad no es determinada por las partes, debe contener el contrato los datos o reglas que sirvan para determinarl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 se indica nada respecto de la calidad, debe ser a lo menos median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Requisitos que debe reunir el hecho objeto de la declaración de voluntad.</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l hecho debe ser determinado: Esto significa que debe especificarse el hecho de manera tal que evite toda ambigüedad en cuanto a qué es lo que debe hacerse y no hacers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El hecho debe ser física y moralmente posible: De acuerdo al artículo 1461 CC es físicamente imposible el hecho cuando es contrario a la naturaleza y es moralmente imposible el prohibido por las leyes o el contrario a las buenas costumbres o al orden público. Ejem.</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nción frente a la falta de objeto: El acto jurídico no tiene objeto cuando le falta uno o más de los requisitos señalados, sea una cosa o un hecho.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ctrinariamente el acto que carece de objeto es inexistente. Falta uno de los elementos de la esenc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quienes no adhieren a la teoría de la inexistencia, la falta de objeto se sanciona con la nulidad absoluta conforme al inciso primero del artículo 1682 CC. (por la omisión de algún requisito o formalidad que las leyes prescriben para el valor de ciertos actos o contrat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lo señalado en el artículo 1445 para que una persona se obligue a otra por u acto o declaración de voluntad, no sólo es necesario que exista un objeto (cosa o hecho que cumpla con los requisitos señalados), sino que además, es necesario que el objeto del contrato, sea 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é es el objeto líc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emos señalado que el objeto de los contratos son las cosas o los hech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parte de la doctrina la ilicitud del objeto es coincidente con los requisitos del objeto ya estudiados (Eugenio Velasco Letelie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tros consideran (Claro Solar) que el objeto ilícito es aquel que no se conforma con la ley, o el que infringe la ley o contraviene el orden público y las buenas costumbr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lo señalado por el profesor Víctor Vial del Río, la ilicitud del objeto sólo es aplicable a los hechos, pues, las cosas no son en sí lícitas e ilícitas. Solo los hechos objeto del contrato pueden ser ilícit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sí objeto ilícito es aquel que atenta contra la ley, el orden público, la moral y las buenas costumbres. (es coincidente con la definición de cosas moralmente imposibl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 ejemplo, adolece de objeto ilícito el contrato por el cual una persona encarga matar a otra, o el contrato de arrendamiento de útero, o de venta de órgano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todos estos casos, la ilicitud recae en el hecho objeto del contrato. (en aquello que debe ejecutarse o no ejecutarse). No obstante, la ley señala casos de ilicitud de objeto en el que el vicio de ilicitud recae en el acto mismo, lo que ocurre tratándose de la ejecución de cualquier contrato que la ley prohíbe. (1466 CC), o en los casos de enajenación del artículo 1464 CC.</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C no señala que se entiende por objeto ilícito, pero señala ciertos casos de ilicitud de objeto. Estos son los siguient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Actos que contravienen al derecho público chilen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Pactos sobre sucesiones futur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 Enajenación de las cosas enumeradas en l artículo 1464 CC;</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 Actos contrarios a la ley, a la moral, al orden público o a las buenas costumb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a) Actos que contravienen el derecho público chilen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462 CC: “Hay un bjeto ilícito en todo lo que contraviene al derecho público chileno. Así la promesa de someterse en Chile a una jurisdicción no reconocida por las leyes chilenas, es nula por el vicio del obje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e entiende por jurisdicción no reconocida por las leyes chilena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posible acordar contractualmente la aplicación de la ley extranjer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b) Pactos sobre sucesiones futura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463 CC: “El derecho a suceder por causa de muerte a una persona viva no puede ser objeto de una donación o contrato, aún cuando intervenga el consentimiento de la misma person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no puede el hijo disponer a título gratuito u oneroso el derecho a suceder a su padre viv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esión de los derechos hereditarios es permitida una vez muerto el causan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obstante lo señalado, el artículo 124 CC permite el pacto de no disposición de cuarta de mejoras por medio de testamento, siempre que se cumpla con los requisitos ahí señalad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no cumplirse el pacto de no disponer de la cuarta de mejoras, la sanción es la ineficacia de la disposición, pero sólo respecto de quien pactó.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t>
            </a:r>
            <a:r>
              <a:rPr b="0" lang="es-ES" sz="1200" spc="-1" strike="noStrike" u="sng">
                <a:solidFill>
                  <a:srgbClr val="000000"/>
                </a:solidFill>
                <a:uFillTx/>
                <a:latin typeface="Arial"/>
              </a:rPr>
              <a:t> Actos contrarios a la ley, a la moral, o a las buenas costumb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s son los casos señalados en los artículos 1465 y 1466 CC.</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Condonación del dolo futuro:</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rtículo 1465 CC contiene una norma de aplicación general, en virtud de la cual la condonación del dolo futuro “no vale”, esto es, adolece de objeto ilícito la aceptación o perdón de la conducta dolosa que pudiera tener una de las partes en el futur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condonarse el dolo, pero una vez que éste se ha cometido y ha sido puesto en conocimiento de la víctim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 Deudas contraídas en juegos de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ñala el artículo 1466 CC: “Hay asimismo objeto ilícito en las deudas contraídas en juegos de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ódigo Civil en sus artículos 2259 a 2263 regula los contratos de juego y apuest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juego, es un contrato por el cual las partes, entregadas a un juego, se obligan a pagar al ganador una determinada suma de dinero o a realizar una prestació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puesta es un contrato en que las partes, en desacuerdo acerca de un acontecimiento cualquiera, convienen que aquella cuya opinión resulte infundada pagará a la otra una suma de dinero o realizará otra prestación a su favo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istintos tipos de juego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egos ilícitos o de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egos lícitos (con predominio de la fuerza o con predominio de la inteligencia).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su parte, la apuesta puede ser lícita o ilíci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Juegos ilícitos o de aza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l artículo 3 letra a) de la ley Nº 19.995 se define como juegos de azar a aquellos juegos cuyos resultados no dependen exclusivamente de la habilidad o destreza de los jugadores, sino esencialmente del acaso o de la suer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Éstos, salvo los realizados por los Casinos de juego que existen de conformidad a la ley, o los realizados por entidades expresamente autorizadas por ley, como el caso de la “Lotería”, adolecen de objeto i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obstante que el CC señala que la ilicitud del objeto está en la deuda contraída en el juego de azar, la doctrina estima que la ilicitud está en el contrato mismo y no en la deud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el objeto sea ilícito importa que el contrato que se ha celebrado sea nulo de nulidad absolu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hay acción para exigir lo que se debe por una deuda contraída en un juego de az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de conformidad a lo dispuesto en el artículo 1468 CC, si se ha pagado una deuda de juego de  azar, y luego se declara a nulidad, no se podrá repetir lo que se ha pagado por ese concepto. “No podrá repetirse lo que se ha dado o pagado por un objeto o casa ilícita a sabiend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su parte, el Código Penal considera ilícitos los juegos de azar que se practican en casas de juego, de suerte, invite o azar. En los artículos 277, 278 y 279 el CP castiga a los banqueros, dueños, administradores o agentes de casas de juego y a los que concurren a jugar a ellas; el dinero o efectos puestos en juego, y los instrumentos, objetos o útiles destinados a él caerán en comis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Juegos lícito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lícitos los juegos en los que predomina la fuerza o la inteligencia, por sobre el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n el juego predomina la destreza intelectual, de acuerdo al artículo 2260 se otorga al beneficiario con el pago sólo derecho a retener lo que se le ha pagado, pero no tiene derecho a acción.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n el juego lo que predomina es la destreza física, entonces de acuerdo al artículo 2263 se producirá tanto acción como excepción. Este tipo de juegos originan obligaciones civiles perfecta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cuanto a la apuest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puesta ilícit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aquella en la que predomina el azar. Todas las obligaciones que emanan del azar son ilícitas. Nulas de nulidad absolut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puesta lícita: En las apuestas en que no predomina el azar, de acuerdo al artículo 2260 CC sólo se otorga excepción y no acció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aplica respecto de las apuestas el 2263, esta norma es sólo para el juego. La apuesta nunca otorga acció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debería ser la sanción para este tipo de erro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existencia, nulidad? Diferencia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ituación en el CC chilen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rtículo 1453 señala claramente: “el error de hecho vicia el consentimiento…” y lo reitera en el artículo 1454 CC “el error de hecho vicia asimismo 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decir, se trata al error esencial como “vicio d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stentados en lo señalado en el artículo 1453 del CC, en el sentido de tratar al error obstáculo como “vicio del consentimiento”, la doctrina mayoritaria señala que este tipo de error se sanciona con la nulidad relativ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azon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1862 inciso final: cualquiera otra especie de vicio que no esté configurado como causal de nulidad absoluta “produce la nulidad relativa y da derecho a la rescisión del contra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presencia del error sólo perjudica el interés particular de los contratantes. Se afecta sólo el interés privado y no el interés general la sanción será la nulidad relativ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onsecuencia jurídica: el acto o contrato viciado con error obstáculo esencial nace a la vida del derecho con un vicio, y por lo tanto producirá sus efectos hasta la declaración judicial de nulida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i) Ventas de libros cuya circulación se encuentra prohibida o de determinados objetos cuyo tráfico atenta contra la moral o la ley.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l artículo 1466, hay objeto ilícito en la venta de libros cuya circulación es prohibida por la autoridad competente, de láminas, pinturas y estatuas obscenas y de impresos condenados como abusivos de la libertad de prensa.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refiere a la compraventa que tenga por objeto los ya indicados.</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pasa con la libertad de prensa y de expresión?</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se considera obsceno?</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v) Contratos prohibidos por la ley.</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rtículo 1466 termina señalando que la regla general es que hay objeto ilícito en todo contrato prohibido por las leyes, como por ejemplo la compraventa entre cónyuges, o la compraventa de las cosas enumeradas en el artículo 1464 del CC que veremos a continu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 Enajenación de las cosas enumeradas en el artículo 1464 CC: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acuerdo al artículo 1464 CC, adolece de objeto ilícito la enajen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º de las cosas que no están en el comerci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º de los derechos y privilegios que no pueden transferirse a otra person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º de las cosas embargadas por decreto judicial a menos que el juez lo autorice o el acreedor consienta en el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º de las especies cuya propiedad se litiga, sin perjuicio del permiso del juez que conoce en el litigi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rtículo 1464 CC se refiere a la enajenación. ¿qué es la enajen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en dos acepciones de enajen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 En sentido amplio: como transferencia del dominio o constitución de un derecho real. Cas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En sentido estricto: como transferencia del dominio. Caso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venta de las cosas enumeradas en el artículo 1464 CC ¿adolece de objeto ilícit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venta es enajenación?</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áles son los derechos y obligaciones que emanan del contrato de compravent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perjuicio de lo anterior, el artículo 1810 CC ubicado respecto del contrato de compraventa señala: “Pueden venderse todas las cosas corporales o incorporales, </a:t>
            </a:r>
            <a:r>
              <a:rPr b="1" lang="es-ES" sz="1800" spc="-1" strike="noStrike">
                <a:solidFill>
                  <a:srgbClr val="000000"/>
                </a:solidFill>
                <a:latin typeface="Arial"/>
              </a:rPr>
              <a:t>cuya enajenación no esté prohibida</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esta forma, pese a que la compraventa no es enajenación, no pueden de igual forma venderse las cosas cuya enajenación se prohíb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hora, ¿las cosas enumeradas en el artículo 1464 son cosas cuya enajenación se prohíbe? Veamos:</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 la doctrina, ¿qué es una norma prohibitiv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artículo 1464 CC una norma prohibitiv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onces, ¿cuál es la naturaleza jurídica de la norma?</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l es la consecuencia jurídica de la venta de una de las cosas enumeradas en los números 3 y 4 del artículo 1464?</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válida esa vent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ndo es válida? ¿siempre? o ¿sólo en caso que el juez la autorice o el acreedor consienta en ell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realiza un venta de las cosas enumeradas en los números 3 y 4 del artículo 1464 CC.¿Qué pasaría con la obligación de entregar la cosa (o hacer la tradición) que para el vendedor emana del contrato de compraventa? ¿Podría cumplirs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l es la consecuencia de ello? ¿es válido ese contra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El contrato es nulo o inexistente, porque le falta un requisito al objeto, cuando éste en un hecho, esto es, que sea moralmente posible, es decir, el hecho objeto del contrato, aquello que debe hacerse o no hacerse es moralmente imposible, ya que es contrario a la ley. La prestación es contraria a la ley, ya que aún siendo válida la compraventa, la prestación, el objeto es moralmente imposibl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 La obligación de entregar, que se reputa como de hacer, no es enajenación (en el arrendamiento hay obligación de entregar) y por lo tanto, la venta es válida, y su objeto lícito. Como el comprador, sabe que no puede transferirse el dominio de la cosa, puede solicitar de acuerdo al 1553 que se sustituya el obje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qué pasa con la venta de las cosas enumeradas en los números 1 y 2 del artículo 1464 CC?</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enajenación de éstas se encuentra sin duda totalmente prohibida, (norma prohibitiva) por su parte, recordemos que conforme al 1810 CC pueden venderse todas las cosas corporales o incorporales cuya enajenación no esté prohibida. Entonces, no pueden venderse las cosas del nº 1 y 2 del 1464 CC, pero ¿cuál es la sanción para ese contrato de ven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 lo dispuesto en el artículo 10 del CC: “Los actos que prohíbe la ley son nulos y de ningún valor…”.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la ley prohíbe en el 1810 CC la venta de las cosas cuya enajenación está prohibida, entonces la venta de las cosas enumeradas en los números 1 y 2 del 1464 es contraria a la ley y por lo tanto nula.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nulidad?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orme al artículo 1466: “Hay asimismo objeto ilícito en:…todo contrato prohibido por las leyes”.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uego conforme al artículo 1682 CC, el objeto ilícito se sanciona con la nulidad absoluta.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la venta de cosas cuya enajenación se prohíbe es contraria a la ley, y por consecuencia es ilícita. Es un contrato prohibido por la ley, que adolece de objeto ilícito y se sanciona con la nulidad absoluta.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eamos ahora el estudio particular de las cosas enumeradas en el artículo 1464 CC:</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Nº 1: “Hay un objeto ilícito en la enajenación de las cosas que no están en el comercio”.</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osas que no están en el comercio son aquellas que no son susceptibles de propiedad ni posesión por los particulares, el artículo 1461 se refiere expresamente a ellas al referirse a los requisitos que debe tener la cosa objeto del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viamente, señalamos que la cosa comerciable era un requisito de la cosa objeto del contrato, si falta ésta, falta el objeto, pero el artículo 1464 expresamente señala que la enajenación de estas cosas adolece de objeto ilícito. ¿Cómo opera entonces?</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primer lugar, debemos señalar que es muy distinto que a un acto le falte el objeto, que el acto tenga objeto ilícito. ¿por qu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al acto le falta el objeto el acto o contrato es inexistente, en cambio si el acto o contrato adolece de objeto ilícito es nul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el acto o contrato es nulo, incluso absolutamente, admite saneamiento por el transcurso del tiempo: 10 años desde la celebración del contrato en caso de la nulidad absoluta. Ello quiere decir que si usted adquiere el cerro santa lucía o la luna, este contrato se sanea por el transcurso de 10 añ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posible interpretación a lo que se señala es considerar que en todos los casos en que se trate de la enajenación y venta (por aplicación del artículo 1810 CC ya estudiado) de cosas incomerciables habrá objeto ilícito, y la sanción de ello será la nulidad absoluta, por ejemplo si se hipoteca el cerro San Cristóbal, y en los casos en que haya un acto distinto de la enajenación respecto de una cosa incomerciable, como por ejemplo si se arrienda una cosa incomerciables habrá falta de objeto y la sanción será la inexistenci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interpretación, que es la que resulta más acorde con la letra misma del CC no es del todo satisfactoria, pues, nos lleva al absurdo de sostener que el contrato de arrendamiento de la luna es inexistente, pero el de venta nul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norma del número 1 del 1464 CC de acuerdo a la doctrina nacional está demás, pues, se encontraba perfectamente cubierto con el 1461 del CC que especifica los requisitos que debe tener la cosa objeto del contrato.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Nº 2: “Hay un objeto ilícito en la enajenación de Los derechos y privilegios que no pueden transferirse a otras persona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on los derechos personalísim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aquellos intransmisibles e intransferibles, que nacen y se agotan con la persona, ejem: derecho de alimentos, el uso y la habitación. Este tipo de derechos a diferencia de las cosas incomerciables si son susceptibles de encontrarse en el patrimonio de los particulares, sólo que son inalienabl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Nº 3: “Hay un objeto ilícito en la enajenación de las cosas embargadas por decreto judi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define el embargo como: “la aprehensión compulsiva que el juez de la causa hace de determinados bienes del deudor y desde el momento en que se verifica, tales bienes quedan sujetos a las autoridad del referido juez”.</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embargo tan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juicio ejecutivo gener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cumplimiento incident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las medidas precautorias de prohibición de celebrar actos y contratos y no enajena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de cuando una cosa se encuentra embargada? </a:t>
            </a:r>
            <a:r>
              <a:rPr b="1" lang="es-ES" sz="1400" spc="-1" strike="noStrike" u="sng">
                <a:solidFill>
                  <a:srgbClr val="000000"/>
                </a:solidFill>
                <a:uFillTx/>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saber desde cuando la cosa se entiende embargada debemos distingui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pecto de las partes: desde que se notifica judicialmente al deudor de la resolución que lo ordena. Si es un juicio ejecutivo será desde que se le requiere de pago. Si es una medida precautoria, desde que el tribunal acoge dicha medid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pecto de los terceros hay que distingui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la cosa es mueble desde que los terceros tienen conocimiento del embargo ¿cómo se acredi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la cosa en inmueble desde que se ha inscrito el embargo o la prohibición de enajenar en el registro de prohibiciones e interdicciones del Conservador de Bienes Raíces. Desde ese momento, se presume el conocimiento por los tercer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debemos señalar que para que la enajenación sea afectada por la ilicitud de objeto es necesario que el embargo o la prohibición sean anteriores al acto de enajena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ucede si el acto de enajenación es forzosa? Ejem: servidumbre constituida por resolución judi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lo señalado por la doctrina, existen dos posibles interpretaciones ante la enajenación forzada de un bien que se encuentra actualmente embargado, entendiéndose por  enajenación forzada como aquella en que ha intervenido el juez y no ha mediado la voluntad del dueño, estas so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 Error sustan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inciso primero del artículo 1454: “el error de hecho vicia asimismo el consetimiento cuando la sustancia o calidad esencial del objeto sobre el que versa el acto o contrato, es diversa de lo que se cree; como si por alguna de las partes se supone que el objeto es una barra de plata y realmente es una masa de algún otro metal semejan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qué consiste el error en este cas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dos términos claves en este articulad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sustancia” y “calidad esenci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ustancia, dice relación con un parámetro objetiv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alidad esencial dice relación con la intención que tuvieron las partes al momento de contrat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ndo se vicia 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suficiente que exista solo un error en la sustanci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si no hay error en la sustancia y si en la calidad esenci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octrina modera no habla de “error sustancial”, sino en “error  sobre las cualidades relevantes de la cosa”. De esta forma, existirá error como vicio del consetimiento, sólo si existiendo error en la sustancia, éste es a la vez error en las calidades esenciales de la co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a:t>
            </a:r>
            <a:r>
              <a:rPr b="0" lang="es-ES" sz="1400" spc="-1" strike="noStrike" u="sng">
                <a:solidFill>
                  <a:srgbClr val="000000"/>
                </a:solidFill>
                <a:uFillTx/>
                <a:latin typeface="Arial"/>
              </a:rPr>
              <a:t>La enajenación forzada de una cosa embargada es válida</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parte esta opinión, el destacado autor nacional Luis Claro Solar, quien considera que el Nº 3 del artículo 1464 lo que hace es sancionar la ilicitud que revela la conducta de la persona que transfiere el dominio de la cosa embargada pese a que la ley lo prohíbe, ilícito que sólo se aprecia en las enajenaciones que el deudor realiza voluntariamente, y no en aquellas en que no se requiere del consentimiento del deudor y que pueden producirse inclusive en contra de su voluntad, como lo son las ordenadas por el juez en el ejercicio de sus facultades. </a:t>
            </a:r>
            <a:br>
              <a:rPr sz="1400"/>
            </a:br>
            <a:r>
              <a:rPr b="0" lang="es-ES" sz="1400" spc="-1" strike="noStrike">
                <a:solidFill>
                  <a:srgbClr val="000000"/>
                </a:solidFill>
                <a:latin typeface="Arial"/>
              </a:rPr>
              <a:t>b) </a:t>
            </a:r>
            <a:r>
              <a:rPr b="0" lang="es-ES" sz="1400" spc="-1" strike="noStrike" u="sng">
                <a:solidFill>
                  <a:srgbClr val="000000"/>
                </a:solidFill>
                <a:uFillTx/>
                <a:latin typeface="Arial"/>
              </a:rPr>
              <a:t>La enajenación forzada de una cosa embargada adolece de objeto ilícito</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opinión son Somarriva y Velasco, quienes piensan que el Nº 3 del artículo 1464 del Código Civil se aplica tanto a la enajenación voluntaria como a la forzada que se hace por el ministerio de la justicia, en tanto, el artículo 1464 Nº 3 del Código Civil no distingue incluyendo sólo a una forma de enajenar y excluyendo a la otra, y por consiguiente no puede el intérprete distinguir; y principalmente porque si la enajenación forzada fuera válida, quedaría burlado el derecho del acreedor beneficiado con el embargo, o se vería muy dificultada la satisfacción de su derecho.</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se a lo discutible que puede resultar el tratamiento de la materia, y pese a la existencia de las distintas y contradictorias opiniones expresadas precedentemente, en la actualidad, la mayor parte de la doctrina nacional se inclina por considerar válidas las enajenaciones realizadas forzosamente y que recaen sobre un bien embarg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las razones, además de la ya señalada en la letra a) del apartado anterior, podemos considerar las siguientes: </a:t>
            </a:r>
            <a:br>
              <a:rPr sz="1200"/>
            </a:br>
            <a:r>
              <a:rPr b="0" lang="es-ES" sz="1200" spc="-1" strike="noStrike">
                <a:solidFill>
                  <a:srgbClr val="000000"/>
                </a:solidFill>
                <a:latin typeface="Arial"/>
              </a:rPr>
              <a:t>a)  Como  afirma Víctor Víal, lo que adolece de objeto ilícito (refiriéndose al artículo 1464 del Código Civil)  es “la transferencia de las cosas que en ellos se señala, sin que tenga  para tal efecto relevancia alguna que esa transferencia se haya hecho con la intención de transferir el dominio o de cualquier otro derecho real”.</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Y para que exista esta transferencia, debe existir la tradición, en tanto ésta (modo de adquirir) es un acto jurídico y una convención, necesariamente debe existir un acuerdo de voluntades, acuerdo que no existe si estamos frente a un acto de enajenación forzada realizada por medio de una sentencia judicial, como en el caso de constitución de servidumbre por el juez.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TA: ACALARAR DIFERENCIA ENTRE TRADICIÓN Y ENTREG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El artículo 1464 del Código Civil, se encuentra situado en el libro cuarto denominado </a:t>
            </a:r>
            <a:r>
              <a:rPr b="0" i="1" lang="es-ES" sz="1200" spc="-1" strike="noStrike">
                <a:solidFill>
                  <a:srgbClr val="000000"/>
                </a:solidFill>
                <a:latin typeface="Arial"/>
              </a:rPr>
              <a:t>“De las obligaciones en general y de los contratos”</a:t>
            </a:r>
            <a:r>
              <a:rPr b="0" lang="es-ES" sz="1200" spc="-1" strike="noStrike">
                <a:solidFill>
                  <a:srgbClr val="000000"/>
                </a:solidFill>
                <a:latin typeface="Arial"/>
              </a:rPr>
              <a:t>, y es estudiado principalmente a propósito de la ilicitud del objeto en materia de acto jurídico. Es decir, su aplicación se encuentra inmersa dentro de unas materias en la que es preponderante la voluntad de las partes, voluntad que no existe si la enajenación del bien embargado se realiza por decreto judic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No es efectivo que la enajenación forzada de un inmueble embargado traiga como consecuencia inmediata la burla del derecho del acreedor, en tanto, de acuerdo al contexto que rodea  al artículo 528 del Código de Procedimiento Civil resulta que puede haber dos o más ejecuciones y la enajenación que se haga en cualquiera de ellas es válida. Ahora, el acreedor que hubiera embargado primero el mismo bien no sufre perjuicio alguno, pues la ley le permite hacer valer sus derechos de acuerdo con lo dispuesto en el mencionado artículo 528, y en general mediante el procedimiento de las tercería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lo demás, tratándose de una enajenación que no comprenda la transferencia del dominio, sino que la constitución de un derecho real, queda siempre a salvo en manos del acreedor la posibilidad de solicitar la ampliación del embargo conforme al artículo 456 del Código de Procedimiento Civil, si es que producto del gravamen impuesto al bien embargado, el valor de éste ya no es suficiente para cubrir la totalidad de la deud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áles son los requisitos para poder enajenar las cosas embargadas por decreto judi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Autorización judicial: Esta debe ser previa a la enajenación, debe darla el mismo juez que conoce del asunto por el cual el bien se encuentra embargad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Consentimiento del acreedor: Es la renuncia que efectúa el acreedor a los beneficios que para él le reporta el embargo. Puede hacerlo en atención a lo señalado en el artículo 12 del CC. Si fueran varios acreedores todos ellos deben consenti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Nº 4: “Hay un objeto ilícito en la enajenación de las especies cuya propiedad se litiga sin permiso del juez que conoce del asu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especies cuya propiedad se litiga son aquellos cuerpos ciertos, muebles o inmuebles cuyo dominio se discute en el juicio.  </a:t>
            </a:r>
            <a:r>
              <a:rPr b="1" lang="es-ES" sz="1400" spc="-1" strike="noStrike" u="sng">
                <a:solidFill>
                  <a:srgbClr val="000000"/>
                </a:solidFill>
                <a:uFillTx/>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debe confundirse con la enajenación de derechos litigiosos, ésta no adolece de objeto i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rtículo 296 del CPC agrega un requisito adicional para que la enajenación de las especies cuya propiedad se litiga adolezca de objeto ilícito: esto es, que el juez decrete la prohibición sobre los objetos que son materia del juicio. Sólo desde este momento la enajenación adolece de objeto i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decreto el juez no lo realiza de oficio, sino a requerimiento de la parte interesada. (quien no tiene en su poder la cosa). Además, si se trata de una cosa inmueble debe inscribirse la prohibición en el registro de interdicciones y prohibiciones del conservador de bienes raíces para dar publicidad a tercer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nº 4 del 1464 CC sólo se refiere a la autorización del juez como forma de hacer válida la enajenación de las especies cuya propiedad se litiga, y omite la autorización de quien se beneficia con la prohibi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dos posibles interpretaciones: la primera, más restrictiva, señala que sólo es posible enajenar las cosas del nº 4 del 1464 si el juez lo autoriz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ambio la segunda sostiene que se le aplica por analogía lo dispuesto respecto del nº 3 del 1464 CC, esto es, que no sólo es posible la enajenación de las cosas señaladas en el nº 4 del 1464 con la autorización del juez de la causa, sino además con el consentimiento del beneficiado con la prohibición.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todos los casos de ilicitud de objeto la sanción es la nulidad absoluta de acuerdo al artículo 1464 C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ausa es otro de los elementos esenciales o de existencia de los actos y contratos. Además, al igual que el objeto la causa requiere ser líci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diversos conceptos de causa. Alguno de ellos son los siguient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Causa eficiente: es elemento generador del efecto jurídico. Así, la causa de la obligación del comprador de pagar el precio es el contrato de compraven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 Causa final: es el fin inmediato y variable de un acto o contrato, o sea el fin próximo que determina la voluntad de actuar y que es siempre posible encontrar en la estructura misma del contrato y que es siempre idéntica para todos los actos pertenecientes a la misma especie. El fin de todos los arrendadores es obtener una renta un precio periódico por la cosa, y el fin de todos los arrendatarios es el uso y goce de la cos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Causa ocasional: es el fin lejano y variable de un acto y es de carácter estrictamente personal y psicológico. Es el móvil, la razón que impulsa a celebra el acto o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en doctrina, dos criterios en relación de la causa: La teoría clásica de la causa, que se refiere a la causa de la obligación, y la teoría del móvil dominante que se centra en la causa del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viamente a su exposición, debemos distinguir lo siguien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contratos generan derechos y obligaciones, así las obligaciones son los efectos de los contratos.  No sólo los contratos generan obligaciones, sino también la ley, el cuasi contrato, el delito y el cuasideli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a) Doctrina tradicional o clásica de la caus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doctrina que surge del pensamiento de Domat se centra en la causa de la obligación que nace de un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esta doctrina sólo importa la causa que nacen de los contratos, descartando la causa que emana de otras fuentes de obligaciones, o de otro tipo de manifestaciones de voluntad distintas de los contratos como las convenciones o los actos jurídicos unilater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determinar la causa de los contratos, esta teoría agrupa los contratos en tres: contratos bilaterales, gratuitos y re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usa de la obligación de una de las partes en el contrato bilateral es la obligación correlativa de la otra parte, sea cual sea el contrato bilatera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usa de la obligación en los contratos reales es la entrega de la cos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usa de la obligación en los contratos gratuitos es la mera liberalid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 que caracteriza a la doctrina clásica es que tratándose de un mismo tipo de contratos, la causa es siempre la mism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b) Doctrina del móvil o motivo dominante: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doctrina se centra en la causa del contrato o acto (no importando su fuente, no sólo contractual), así todos los actos tienen caus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emás, esta doctrina es completamente subjetiva, pues, la causa está constituida por los motivos que inducen a las partes a la celebración del acto o contrato. Motivos que por razones evidentes serán distintos en cada caso.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 La causa en el CC Chileno: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lo dispuesto en el artículo 1467 CC: “No puede haber una obligación sin una causa real y lícita, pero no es necesario expresarla…se entiende por causa el motivo que induce al acto o contrato…”.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teoría recoge nuestro CC? (Referencia a los apuntes del profesor F. González H.)</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ando se exige que haya una causa real, se pregunta </a:t>
            </a:r>
            <a:r>
              <a:rPr b="1" lang="es-ES" sz="1400" spc="-1" strike="noStrike" u="sng">
                <a:solidFill>
                  <a:srgbClr val="000000"/>
                </a:solidFill>
                <a:uFillTx/>
                <a:latin typeface="Arial"/>
              </a:rPr>
              <a:t>por la causa de la obligación contraída. </a:t>
            </a:r>
            <a:r>
              <a:rPr b="0" lang="es-ES" sz="1400" spc="-1" strike="noStrike">
                <a:solidFill>
                  <a:srgbClr val="000000"/>
                </a:solidFill>
                <a:latin typeface="Arial"/>
              </a:rPr>
              <a:t>En este sentido la causa cumple una función de control sobre la seriedad del consentimiento. Ejem, conforme al 1816 la compra de cosa propia es nula, no hay voluntad seria de obligarse, carece de caus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ste nivel, la pregunta por la causa admite solo dos respuestas: o el contrato es oneroso y la causa está en la obligación correlativa de la otra parte de pagar el precio, o el contrato es gratuito y la  causa es la mera liberalidad. (Nota: la gratuidad no se presum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punto puede confundirse la causa con el objeto, sobre todo el los contratos bilaterales donde el beneficio de una parte consiste en la contraprestación que la otra se obliga a ejecutar. Si falta el objeto de la obligación  de una parte, falta la causa de la obligación recíproca de la otra. Ejemplo: Cuando en una compraventa se pacta un precio irrisorio, habrá nulidad por falta de objeto (de la obligación del comprador) y por falta de causa real en la obligación del vendedor.</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hora, cuando se exige por el código que exista una causa lícita, </a:t>
            </a:r>
            <a:r>
              <a:rPr b="1" lang="es-ES" sz="1600" spc="-1" strike="noStrike" u="sng">
                <a:solidFill>
                  <a:srgbClr val="000000"/>
                </a:solidFill>
                <a:uFillTx/>
                <a:latin typeface="Arial"/>
              </a:rPr>
              <a:t>se pregunta por la causa del acto o contrato</a:t>
            </a:r>
            <a:r>
              <a:rPr b="0" lang="es-ES" sz="1600" spc="-1" strike="noStrike">
                <a:solidFill>
                  <a:srgbClr val="000000"/>
                </a:solidFill>
                <a:latin typeface="Arial"/>
              </a:rPr>
              <a:t>. En este contexto la causa cumple la función de limitar los móviles que son admisibles en el derech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ste nivel la pregunta por la causa admite respuestas muy diversas, tantas como móviles son imaginables para actuar en el tráfico jurídico. Sin embargo también puede ocurrir en este ámbito que la ilicitud de objeto se comunique a la ilicitud de causa, particularmente tratándose de contratos bilaterales. Ejemplo el contrato de arrendamiento de útero adolece de objeto ilícito (el objeto, prestación, hecho que debe ejecutarse adolece de objeto ilícito), y también puede adolecer de causa ilícita, las motivaciones de ese contrato de arrendamiento son contrarias a la le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agrega la teoría de la causa a la teoría del obje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ausa incorpora a la teoría del acto jurídico y contrato una referencia a los fines de la voluntad que la teoría del objeto no aporta ni puede aportar.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objeto se limita a verificar cuál es la conducta que una de las partes se obliga a realizar (prestación) (aquello que se debe da, hacer o no hacer), y a controlar la licitud de esa conducta considerada en si misma, pero sin referencia alguna a las motivaciones que llevan a cada parte a asumir obligaciones a través del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sólo siguiéramos la teoría clásica de la causa, muchos casos podrían solucionarse vía falta de objeto. La gran novedad y el gran aporte de la teoría de la causa es respecto de los móviles que sirven para determinar la ilicitud de la caus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é son las calidades esenciales o relevant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determinar la existencia del error, debemos estar a la intención de las partes, esto es, determinar si para una de las partes la cosa que es objeto del contrato posee ciertas “calidades relevantes”, que motivó a una de ellas a contratar, o que por el contrario, que de no haber tenido esas calidades, no se habría contratado o se habría contratado en condiciones diferent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eneralmente puede resultar difícil establecer cuál ha sido esta voluntad de las partes. Esta tarea corresponderá al juez, y para ello deberá observar las condiciones en las que se celebró el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jem: venta de obra de arte, o de una antigüedad, una joya, ¿dónde se adquiere? ¿de quién se adquiere?, el precio en el que se adquier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hora, de todas formas el legislador trata explícitamente del error en la sustancia ¿cuál es la aplicación de el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uede ser el hecho de que el vendedor sea dueño de la cosa una calidad esencial? ¿puede solicitarse la nulidad de un contrato de compraventa en el que el vendedor no es dueño de la cos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nción a este tipo de error: vicio del consentimiento. 1682. Nulidad relativ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ciertos casos en que el concepto de causa excede al concepto de objeto, y que por tanto, justifican la existencia de la causa como uno de los elementos de los actos jurídicos y contrato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Falta de causa en los actos que tienen como único motivo la creencia errada de que existe una obligación. Casos de causa real.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refiere a los casos en que erróneamente se cree tener una deuda que no existe. Se paga por algo que no se debe, no hay obligación.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e caso, hay prestación (pago), pero no existe causa para esa obligación (obligación correlativa del otro).  ¿podría solucionarse vía obje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Causa ilícita o falta de causa en los contratos simulados y en el fraude a la ley:</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tratos simulados: son aquellos en los que existe una diferencia entre la voluntad real y la voluntad declarada. La simulación puede ser absoluta si se simula un acto que en realidad no existe. La simulación puede ser relativa si se simula un acto distinto del que efectivamente se ejecuta o celebr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única finalidad de los actos simulados en causar daño a terceros (éste es el móvil, causa) y ésta es ilícit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demás sostiene parte de la doctrina que en estos casos hay también falta de causa. No hay obligación correlativa, ésta es sólo aparente. ¿puede solucionarse vía obje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ontratos celebrados en fraude a la ley son aquellos que por medios lícitos pretenden la celebración de un acto que la ley prohíbe. La causa es ilícita; ¿podría solucionarse vía obje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 Causa ilícita: hechos ilegales, contrarios a la ley, a la moral y las buenas costumb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o del arrendamiento: intención de desarrollar una actividad ilegal o inmoral</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áusulas abusivas en los contratos de adhesión. ¿puede solucionarse vía objeto?.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emos señalado que conforme al artículo 1467 del CC, los actos jurídicos y contratos requieren de una causa real y lícit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lícita es la causa contraria a la ley, a las buenas costumbres y al orden público.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anción frente a la falta de causa, será la inexistencia o la nulidad absoluta del acto o contrato para quienes no adhieren a la teoría de la inexistenci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anción frente a la causa ilícita será la nulidad absoluta del acto o contrato en atención a lo establecido en el artículo 1682 C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843840" y="843840"/>
            <a:ext cx="7760520" cy="113436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r>
              <a:rPr b="1" lang="es-ES" sz="3200" spc="-1" strike="noStrike">
                <a:solidFill>
                  <a:srgbClr val="000000"/>
                </a:solidFill>
                <a:latin typeface="Arial"/>
              </a:rPr>
              <a:t> </a:t>
            </a:r>
            <a:endParaRPr b="1" lang="en-US" sz="3200" spc="-1" strike="noStrike">
              <a:solidFill>
                <a:srgbClr val="000000"/>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I.- Las exigencias sociales y el contenido del contrato.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 NOCIÓN DE ORDEN PÚBLICO Y BUENAS COSTUMBRE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nto respecto del objeto como de la causa, hemos señalado que son ilícitos aquellos objetos y causas contrarios a la ley, al orden público y las buenas costumbres. (1461 y 1467 CC).</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mbos fijan en límite de lo que pueden pactar las partes. Constituyen un límite a la autonomía de la voluntad.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os conceptos han variado junto con la evolución del derecho civil. Veamo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 ORDEN PÚBLICO:</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l CC el orden público era ante todo el orden del Estado “todo lo que contraviene el derecho público chileno” 1462 CC.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se refiere a las normas de familia. Derechos irrenunciable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s personas: Se prohíben los actos de disposición del cuerpo humano, prestación de servicios vitalicios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derecho sucesorio: Pacto de sucesión futura, disposiciones captatorias (artículo 1059 y 1463 CC)</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obstante las mayores restricciones a la libertad vienen hoy en día del “Orden Público Económic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cepto De OP Económico: “ El conjunto de normas jurídicas que organizan la economía de un país y facultan a la autoridad para regularlo en armonía con los valores de la sociedad nacional formulados en la Constitución” (José Luis Ce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ueden distinguirse dos tipos de orden público económico: Orden público de regulación u ordenación y de protección. Ver ejem. Remisión a derecho Civil I.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infracción de las normas de OP acarrea la nulidad del acto o contrato tanto por vía de ilicitud de objeto como por vía de ilicitud de caus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objeto ilícito cuando el objeto del acto consiste en la ejecución de un hecho ilícito. El hecho ilícito como su nombre lo indica, es aquel que contraviene la ley, </a:t>
            </a:r>
            <a:r>
              <a:rPr b="1" lang="es-ES" sz="1400" spc="-1" strike="noStrike">
                <a:solidFill>
                  <a:srgbClr val="000000"/>
                </a:solidFill>
                <a:latin typeface="Arial"/>
              </a:rPr>
              <a:t>el orden público</a:t>
            </a:r>
            <a:r>
              <a:rPr b="0" lang="es-ES" sz="1400" spc="-1" strike="noStrike">
                <a:solidFill>
                  <a:srgbClr val="000000"/>
                </a:solidFill>
                <a:latin typeface="Arial"/>
              </a:rPr>
              <a:t> y las buenas costumbr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causa ilícita por su parte, cuando ésta es prohibida por la ley, o contraria a las buenas costumbres o al </a:t>
            </a:r>
            <a:r>
              <a:rPr b="1" lang="es-ES" sz="1400" spc="-1" strike="noStrike">
                <a:solidFill>
                  <a:srgbClr val="000000"/>
                </a:solidFill>
                <a:latin typeface="Arial"/>
              </a:rPr>
              <a:t>orden público</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su parte, la ilicitud de objeto y de causa del acto o contrato trae como consecuencia la nulidad absoluta conforme al artículo 1682 CC: “La nulidad producida por un objeto o casa ilícita y la nulidad producida por la omisión de algún requisito o formalidad que las leyes prescriben para el valor de ciertos actos o contratos en consideración a la naturaleza de ellos, y no a la calidad o estado de las personas que los ejecutan o acuerdan, sin nulidades absolut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 Buenas costumbr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momento de la dictación del CC las buenas costumbres se vinculan con una noción de moral extraída del cristianismo y que apuesta a diseñar un modelo de persona y de relaciones familia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en día el concepto de buenas costumbres está asociado a “usos sociales”, aquello que se considera correcto en un momento y espacio determinado. Se refiere a conductas externas socialmente tolerables en un medio determinado y espacio determin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buenas costumbres como límite a la autonomía privada abandonan la moralidad para controlar algunas situaciones de malas prácticas comerciales como “El abuso del poder negociador” o “abuso de posición dominante”. Causa ilícita en los contratos de adhesión.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ctos o contratos contrarios a las buenas costumbres adolecen de causa ilícita y de objeto ilíci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objeto ilícito cuando el objeto del acto consiste en la ejecución de un hecho ilícito. El hecho ilícito como su nombre lo indica, es aquel que contraviene la ley, el orden público y </a:t>
            </a:r>
            <a:r>
              <a:rPr b="1" lang="es-ES" sz="1200" spc="-1" strike="noStrike">
                <a:solidFill>
                  <a:srgbClr val="000000"/>
                </a:solidFill>
                <a:latin typeface="Arial"/>
              </a:rPr>
              <a:t>las buenas costumb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causa ilícita por su parte, cuando ésta es prohibida por la ley, o contraria a las </a:t>
            </a:r>
            <a:r>
              <a:rPr b="1" lang="es-ES" sz="1200" spc="-1" strike="noStrike">
                <a:solidFill>
                  <a:srgbClr val="000000"/>
                </a:solidFill>
                <a:latin typeface="Arial"/>
              </a:rPr>
              <a:t>buenas costumbres</a:t>
            </a:r>
            <a:r>
              <a:rPr b="0" lang="es-ES" sz="1200" spc="-1" strike="noStrike">
                <a:solidFill>
                  <a:srgbClr val="000000"/>
                </a:solidFill>
                <a:latin typeface="Arial"/>
              </a:rPr>
              <a:t> o al orden públic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su parte, la ilicitud de objeto y de causa del acto o contrato trae como consecuencia la nulidad absoluta conforme al artículo 1682 CC: “La nulidad producida por un objeto o casa ilícita y la nulidad producida por la omisión de algún requisito o formalidad que las leyes prescriben para el valor de ciertos actos o contratos en consideración a la naturaleza de ellos, y no a la calidad o estado de las personas que los ejecutan o acuerdan, sin nulidades absoluta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B.- FRAUDE A LA LEY: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fraude a la ley consiste en procedimientos en sí lícitos, o en maniobras jurídicas a veces ingeniosas, que tienen la apariencia de legalidad y que, sin embargo permiten realizar lo que la ley prohíbe o no hacer lo que la ley orden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fraude a la ley se elude la aplicación final de la norma. Ejem. Compraventa entre cónyug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ementos del fraude a la ley: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l elemento material se obtiene el resultado que la ley no quiere. Dicho elemento se encuentra constituido por la similitud o equivalencia práctica del resultado que persigue el acto jurídico en fraude a la ley con el resultado prohibido por la norm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El elemento intencional: intención de defraudar o de burlar la ley.</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iscute si los elementos son o no copulativos. Opinión de la cátedr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nción: nulidad absoluta: por vía de causa ilíci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te de la doctrina lo equipara a los actos contra ley. ¿es ello correc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 LA SINCERIDAD CONTRACTUAL. LA SIMULACIÓN.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ato simulado es el que tiene una apariencia contraria a la realidad: sea porque no existe en lo absoluto, sea porque es distinto que como aparece.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primer caso estamos frente a una simulación absoluta. Acto simulado o aparente.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segundo caso estamos frente a una simulación relativa. Además de un acto simulado (el que tiene apariencia de real), hay un acto disimulado, que es aquel que se esconde detrás del simulado. Es éste el que refleja la verdadera intención de las partes.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toda simulación existe una diferencia entre la voluntad real y la voluntad declarada por las partes.</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cha voluntad ha sido concertada por las partes.</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propósito seguido por las partes es engañar a terceros.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CC no establece en concreto ninguna sanción para los casos de simulación.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pecto del acto simulado, éste podrá atacarse vía ilicitud de causa, y como consecuencia estará afecto a la nulidad absolut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se trata de un caso de simulación absoluta, habiéndose aplicado a su respecto la sanción de ilicitud de causa, el acto desaparece por completo, pero si se trata de un caso de simulación relativa la ilicitud de la causa sólo afectará el acto simulado, y no el disimulado, éste será válido o nulo, dependiendo si cumple o no con los requisitos de existencia y de validez que señala la ley. Ejem. Contrato de compraventa v/s donació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fectos de la simul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señalar los efectos de la simulación, debe distinguirs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fectos de la simulación entre las part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Efectos de la simulación entre tercer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specto del efecto de la simulación entre las partes, para éstas siempre prevalecerá le intención real, y ésta se manifiesta en el acto disimulado. Ello por varias razones: la primera es porque la simulación nace con el ánimo de las partes de engañar a terceros y no a si mismas. Y en segundo lugar por lo dispuesto en el artículo 1707 del CC que señala: “las escrituras privadas hechas por los contratantes para alterar lo pactado en escritura pública, no producirá efectos contra tercero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lcance de este artículo es amplio: siempre entre las partes prima la voluntad real.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nsecuencia de lo anterior, es que las partes, no podrán verse beneficiadas con el acto simulado. Ejem. Acreditar dinero obtenido con una venta simula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specto del efecto de la simulación entre los terceros, para éstos prima el acto de apariencia real, esto es, el acto simulado.  La voluntad que las partes mantuvieron encubierta a los terceros les es a éstos inoponible. No obstante ello, pueden haber ciertos casos en los que a los terceros les resulte conveniente valerse de la voluntad real de las partes (acto disimulado). En tal caso, el tercero además de la simulación debe probar cuál es la voluntad real. Ejem. Se celebra un contrato de arrendamiento simulado y el disimulado es de donación. El tercero es acreedor de la parte que recibe la cosa donad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o ¿qué pasa si el derecho de ese tercero es contrapuesto al interés de otro tercero que quiere beneficiarse del acto simulad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existe solución uniforme en este sentido, sino que deben aplicarse las reglas generales, y éstas señalan que la consecuencia de la simulación demandada por terceros no puede afectar a otros terceros si éstos están de buena f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doctrina es ésta acción que tienen los terceros para valerse de la voluntad de las partes, la que se denomina como acción de simulación.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Ésta prescribiría conforme a las reglas generales en 5 añ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L CONTRATO</a:t>
            </a:r>
            <a:endParaRPr b="1" lang="en-US" sz="3200" spc="-1" strike="noStrike">
              <a:solidFill>
                <a:srgbClr val="000000"/>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 Error en las calidades accidental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454 CC: “el error acerca de otra cualquiera calidad de la cosa no vicia el consentimiento de los que contratan, sino cuando esa calidad es el principal motivo de una de ellas para contratar; y ese motivo ha sido conocido de la otra par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 primero que se extrae respecto de error en las calidades accidentales es que éstas no vician 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calidades accidentales aquellas que “normalmente” son irrelevantes en la celeración de determinados contrat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accidentales aquellas calidades que no son esencial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que este error vicie el consentimiento deben concurrir los siguientes requisit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be tratarse de una calidad accident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debe haber sido para una de las partes “determinante”, esto es el principal motivo que una de ellas tuvo para contrat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motivo debe haber sido conocido por la otra par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anción: nulidad relativa. 1682 CC.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II.- Las exigencias sociales y la forma del contrat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rmalidades: </a:t>
            </a:r>
            <a:r>
              <a:rPr b="0" lang="es-ES" sz="1200" spc="-1" strike="noStrike">
                <a:solidFill>
                  <a:srgbClr val="000000"/>
                </a:solidFill>
                <a:latin typeface="Arial"/>
              </a:rPr>
              <a:t>Las formalidades son ciertos requisitos que exige la ley para la forma o aspecto externo de ciertos actos jurídicos. Estas pueden ser las siguient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 Formalidades propiamente tales o solemnidad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 Formalidades habilitant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i) Formalidades por vía de prueb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v) Formas o medidas de publicidad.</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Formalidades propiamente tales (solemnidad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tipo de formalidades son aquellas exigidas por la ley tanto para la existencia como para la validez de los actos jurídicos y contrato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solemnidades requeridas para la existencia de un acto o contrato </a:t>
            </a:r>
            <a:r>
              <a:rPr b="0" lang="es-ES" sz="1200" spc="-1" strike="noStrike">
                <a:solidFill>
                  <a:srgbClr val="000000"/>
                </a:solidFill>
                <a:latin typeface="Arial"/>
              </a:rPr>
              <a:t>se definen como “los requisitos externos que exige la ley para la celebración de ciertos actos jurídicos, sin los cuales el acto no se </a:t>
            </a:r>
            <a:r>
              <a:rPr b="1" lang="es-ES" sz="1200" spc="-1" strike="noStrike" u="sng">
                <a:solidFill>
                  <a:srgbClr val="000000"/>
                </a:solidFill>
                <a:uFillTx/>
                <a:latin typeface="Arial"/>
              </a:rPr>
              <a:t>perfecciona</a:t>
            </a:r>
            <a:r>
              <a:rPr b="0" lang="es-ES" sz="1200" spc="-1" strike="noStrike">
                <a:solidFill>
                  <a:srgbClr val="000000"/>
                </a:solidFill>
                <a:latin typeface="Arial"/>
              </a:rPr>
              <a:t> ni produce efecto alguno. Constituyen un requisito de la esencia de los actos y contratos conjuntamente con la voluntad, el objeto y la caus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éstas un requisito adicional de la voluntad?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y menciona varios ejemplos de solemnidades de este tipo: Contrato de promesa (1554 Nº 1); Compraventa de bienes raíces y servidumbres</a:t>
            </a:r>
            <a:r>
              <a:rPr b="1" lang="es-ES" sz="1200" spc="-1" strike="noStrike">
                <a:solidFill>
                  <a:srgbClr val="000000"/>
                </a:solidFill>
                <a:latin typeface="Arial"/>
              </a:rPr>
              <a:t> </a:t>
            </a:r>
            <a:r>
              <a:rPr b="0" lang="es-ES" sz="1200" spc="-1" strike="noStrike">
                <a:solidFill>
                  <a:srgbClr val="000000"/>
                </a:solidFill>
                <a:latin typeface="Arial"/>
              </a:rPr>
              <a:t>(1801 inc. 2º), Contrato de hipoteca (2409), usufructo que recae sobre inmuebles (767).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las partes en virtud de la autonomía de la voluntad pueden pactar la existencia de ciertas solemnidades en contratos que por su naturaleza no las requieren. Ejem. 1802 CC.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falta la solemnidad la sanción será la inexistencia del acto o contrato o su nulidad absolu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 anterior en tanto, si falta la solemnidad falta también la voluntad. La solemnidad es el medio establecido por la ley para que la voluntad se manifies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s solemnidades requeridas para la validez de un acto o contrato </a:t>
            </a:r>
            <a:r>
              <a:rPr b="0" lang="es-ES" sz="1400" spc="-1" strike="noStrike">
                <a:solidFill>
                  <a:srgbClr val="000000"/>
                </a:solidFill>
                <a:latin typeface="Arial"/>
              </a:rPr>
              <a:t>se definen como “los requisitos externos que exige la ley para la validez de ciertos actos jurídic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diferencia de lo que ocurre con las solemnidades requeridas para la existencia del acto o contrato, si falta alguna de las solemnidades de validez, el acto o contrato nace a la vida del derecho, pero con un vicio susceptible que lo hace susceptible de ser declarado nul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La insinuación de donaciones ( 1401), la presencia de testigos en el otorgamiento de un testamento (1014 y 1021 CC). Consentimiento de la mujer en la sociedad conyugal (1754).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omisión o falta de alguna de estas solemnidades trae como consecuencia la nulidad absoluta o relativa del acto, según sea el cas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i) Formalidades habilitantes: </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definen como los requisitos exigidos por la ley para completar la voluntad de un incapaz, o para protegerl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llaman habilitantes porque habilitan para la celebración de un acto jurídico o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la autorización del padre, madre o del curador para ciertos actos del hijo de familia (254).</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misión de una formalidad habilitante acarrea por regla general, al nulidad relativa del acto o contrato. Ello porque se ha omitido una formalidad que las leyes prescriben para el valor del acto jurídico; no en consideración a su naturaleza o especie, sino que en consideración a la calidad o estado de las personas que lo celebran (1682).</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i) Formalidades por vía de prueb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aquellas en que la ley, para los fines de prueba de un acto no solemne, requiere un documento cuya omisión no impide que el acto nazca ni que produzca válidamente sus efectos, sino que pueda ser probado por testigo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refiere a contratos a los que no va asociado ninguna solemnidad ni de existencia de ni validez. (1709 y 1710 CC).</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n constar por escrito los actos o contratos que contengan la entrega o la promesa de entrega de una cosa que valga más de 2 UTM.</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anción: No se admitirá la prueba de testigos en juicio. El acto o contrato puede probarse por otros medios: peritos, confesión, presunciones, etc.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v) Formalidades o medidas de publicidad: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aquellas que tienen por objeto proteger a los terceros que pueden verse alcanzados por los efectos del acto jurídico. Ejem. Inscripción del acto en un registro público, publicación en el diario oficial, etc.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formalidades pueden ser de simple noticia o sustancial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formalidades de simple noticia tienen por objeto poner en conocimiento de terceros las relaciones jurídicas de otras personas, en que puedan tener interés, por ejemplo, la notificación al público por medio de tres avisos publicados en un periódico de los decretos de interdicción provisoria o definitiva del demente y del disipador (447 y 461), la publicación en el diario oficial del extracto de la constitución de una sociedad (es además solemnidad).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omisión  de una medida de publicidad de simple noticia da derecho a la persona a quien dicha omisión ha causado un perjuicio a demandar la correspondiente indemnizac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medidas de publicidad sustanciales son aquellas que tienen por objeto precaver a los terceros interesados, que son aquellos que están o estarán en las relaciones jurídicas con las partes de los actos que éstas celebre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la notificación que debe hacerse al deudor de la cesión de un crédito (1902).</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omisión de una medida de publicidad sustancial es la inoponibilidad, esto es, la ineficacia con respecto de terceros del derecho que ha nacido como consecuencia de la celebración del acto jurídico o contra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 </a:t>
            </a:r>
            <a:endParaRPr b="1" lang="en-US" sz="2800" spc="-1" strike="noStrike">
              <a:solidFill>
                <a:srgbClr val="000000"/>
              </a:solidFill>
              <a:latin typeface="Arial"/>
            </a:endParaRPr>
          </a:p>
        </p:txBody>
      </p:sp>
      <p:sp>
        <p:nvSpPr>
          <p:cNvPr id="2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ipos de ineficacia: Resolución, revocación (o resciliación), inexistencia, nulidad e inoponibilid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e el acto jurídico o contrato sea ineficaz, significa que no produce sus efectos jurídicos “completos”, ya sea porque, le falta alguno de los requisitos que señala la ley para la existencia o validez del acto mismo, ya sea porque aún siendo válido devienen circunstancias externas que causan la ineficacia del ac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este concepto se distinguen dos clases de ineficaci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 Aquellas que provienen de la omisión de un requisito de existencia o validez para la celebración de un acto jurídico o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i) Aquellas que provienen de actos válidamente celebrados pero que han sido afectados por ciertas circunstancias externa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aquellos tipos de ineficacia que provienen de la omisión de un requisito de existencia o de validez del  acto jurídico o contrato, el acto o contrato nace con vicio, y por lo tanto sus efectos jurídicos o no de producen, o quedan condicionados a la declaración de nulidad.</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tenecen a este tipo de ineficacias la inexistencia y la nulida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ambio, pertenecen al segundo tipo de ineficacias, aquellas que provienen de actos o contratos celebrados válidament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tenecen a este tipo de ineficacia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efecto de la condición resolutoria cumplida (tácita u ordinaria)</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oponibilidad (caso de cesión del crédito)</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cción pauliana</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la doctrina la condición suspensiva fallida y la lesión.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revocación o resciliación.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s referiremos en detalle a la Resolución, revocación (o resciliación), inexistencia, nulidad e inoponibilidad.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a:t>
            </a:r>
            <a:r>
              <a:rPr b="1" lang="es-ES" sz="1600" spc="-1" strike="noStrike" u="sng">
                <a:solidFill>
                  <a:srgbClr val="000000"/>
                </a:solidFill>
                <a:uFillTx/>
                <a:latin typeface="Arial"/>
              </a:rPr>
              <a:t>Resciliación o revocación</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ciliación está regulada en el artículo 1567 inciso 1º del CC, que se refiere a los modos de extinguir las obligacion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ñala el referido artículo que “toda obligación puede extinguirse por una convención en que las partes, siendo capaces de disponer libremente de lo suyo, consientan en darla por nul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í, la resciliación es un acuerdo de voluntades (convención)en que las partes dotadas de capacidad de disposición dejan sin efecto un acto anterior, extinguiéndose de esta manera las obligaciones pendientes provenientes de ese ac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se a que el artículo 1567 se refiere a “toda obligación”, sólo podrán resciliarse aquellas obligaciones que emanen de un acuerdo de voluntad, y no las obligaciones legales, delictuales o cuasidelictuales. En este tipo de obligaciones podrá operar otro modo de extinguir (remisión, renuncia, etc.)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ciliación es una convención y no un contrato. Es una convención porque es un acto bilateral que tienen por finalidad extinguir una obligación. No es contrato porque no genera obligacion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endo la resciliación una convención deben concurrir a su respecto todos los requisitos propios de los actos jurídicos: voluntad, objeto, causa, capacid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cuanto a la concurrencia de formalidades, parte de la doctrina señala que el acto de resciliación debe contener las mismas solemnidades del acto que se deja sin efecto “En derecho las cosas de deshacen de la misma forma como se hace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hora, parte también considera que ello no sería necesario, en tanto las solemnidades son de derecho estricto, y no podrían ser requeridas si la ley o las partes no lo han manifestado así expresament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para resciliar las partes deben tener capacidad de disposición, así lo exige el 1567 CC, no basta la capacidad de contratar, se requiere la capacidad de disponer libremente lo suyo. Así el marido en la sociedad conyugal, requiere de autorización de la mujer si la resciliación afecta bienes sociales o bienes propios de la mujer.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ciliación sólo opera en contratos patrimoni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cuanto a los efectos de la resciliación, señala el 1567 del CC que la obligación se hace “nula”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o es un error, para que exista nulidad debe haber un vicio que afecte la validez o “existencia” de un acto o contrato, debe tratarse de un vicio originario. En la resciliación no hay acto o contrato viciado. Por lo demás, sólo los tribunales de justicia pueden declarar la nulidad y no las partes del contra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 que ha querido decir el 1567 CC es que el acto o contrato queda sin efec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fecto de la resciliación será distinto para las partes que para los tercer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las partes, tendrá el efecto que éstas dispongan: para el futuro o retroactivo, rigiendo de manera absoluta el principio de la autonomía de la volunt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specto de los tercer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os terceros adquirieron derechos sobre la cosa objeto del contrato antes de que se rescilie, por ejemplo si el comprador del contrato de compraventa dio la cosa en hipoteca para garantizar una obligación, la resciliación le es inoponible al tercer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os terceros adquieren derechos sobre la cosa objeto del contrato que se rescilia con posterioridad, evidentemente les afecta la resciliació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B) Resolución:</a:t>
            </a:r>
            <a:r>
              <a:rPr b="0" lang="es-ES" sz="1800" spc="-1" strike="noStrike">
                <a:solidFill>
                  <a:srgbClr val="000000"/>
                </a:solidFill>
                <a:latin typeface="Arial"/>
              </a:rPr>
              <a:t> (Remisión a derecho Civil III).</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solución es la consecuencia jurídica frente a la condición resolutoria cumplida sea esta ordinaria, tácita o pacto comisorio.</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igual que en el caso de la resciliación, acá no existe un vicio originario del acto, sino que la ocurrencia de circunstancias posteriores que lo transforman en ineficaz.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solución consiste en dejar sin efecto el acto, terminar sus efectos. El acto o contrato produce todos sus efectos.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 en caso de la condición resolutoria ordinaria, por la ocurrencia o no ocurrencia de un hecho determinado en un determinado tiempo.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 en el caso de la condición resolutoria tácita por el incumplimiento de las obligaciones que emana para una de las partes la celebración del contrato, siempre que éste sea bilateral.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 en el pacto comisorio por el incumplimiento de la obligación del vendedor de pagar el precio en el contrato de compraven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 Error en la person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rtículo 1455 CC señala: “el error acerca de la persona con quien se tiene inteción de contratar no vicia el consentimiento, salvo que la considerción de esta persona sea la causa principal del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rror en la identidad de la persona consiste en el desconocimiento o conocimiento defectuoso de la identidad de la persona o de sus cualidades person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gla general es que este error sea irrelevante, sólo cuando se ha contratado en atención a las calidades de la persona: contrato “intuito personae”, puede haber lugar para este tipo de error: Son contratos intuito persona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atos extrapatrimoniales. Actos de famili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atos patrimoniales. Sólo por excep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atos gratuit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ómo se determin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nción. Nulidad relativa. Art. 1682 / error en los actos jurídicos unilate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Fuerza como vicio d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fine la fuerza como los apremios físicos o morales que se ejercen sobre una persona destinados a que preste su consentimiento con la celebración del acto jurídic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 concepto se desprenden dos tipos de fuerza: la fuerza física y la fuerza mora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uerza física pretende obtener una apariencia de consentimiento de la víctima a través de procedimientos violentos. Existe constricción material que anula la voluntad. La fuerza física excluye la voluntad. No vicia el consentimiento, pues no hay consentimiento alguno. No hay manifestación de voluntad de ningún tipo. El acto o contrato sería inexistent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uerza moral es aquella que induce al individuo a la celebración del contrato y es determinante para su celebr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caso existe manifestación de voluntad, pero se encuentra viciada por la “fuerza”.El sujeto decide aceptar la celebración del contrato frente a la amenaza de un mal futuro.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23:58:34Z</dcterms:created>
  <dc:creator> Maria Magdalena</dc:creator>
  <dc:description/>
  <dc:language>en-US</dc:language>
  <cp:lastModifiedBy>mbustos</cp:lastModifiedBy>
  <dcterms:modified xsi:type="dcterms:W3CDTF">2010-05-26T23:54:18Z</dcterms:modified>
  <cp:revision>25</cp:revision>
  <dc:subject/>
  <dc:title>DERECHO CIVIL II SEGUNDA PARTE FORMACIÓN DEL CONTRATO</dc:title>
</cp:coreProperties>
</file>