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C60C-4AC6-4960-863C-8E7EBC3D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FDBF-3710-424D-8773-89ED9BB5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0AC7-3446-4795-9E06-F9E6DA6D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3566-B952-4F4C-932F-EF977157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C276-BCA5-41A5-BF02-ED65655D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82E0-AE7C-44D3-80D8-972543C4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0323-5718-43F5-8B81-E3BD682F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2E79-5CAF-4B4C-A580-6CF178B7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40F8-89AF-461B-8FE0-DCD3ACB0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7B00-9D45-4819-9E39-178703B6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C434-6342-41D5-9131-3E029E4A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6B90-C79C-4E29-A84D-FCBF22B0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8A91-AA01-42BF-BE7F-D1A78D0C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D6C0-9506-44F9-9829-B09267D2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4B93-CD02-4E39-9CF9-4A8AA87B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7AB9-0BD3-4A46-A25D-8314DFE7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1A8A-F2E6-451D-A67B-94C2F890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6B4E-1AF6-4351-A5AE-D1F5A44A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C6B8-2A2C-4AC2-9FE1-FA42E233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7A66-5A61-4C2D-9215-68C6D561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9AC9-E67E-42B7-B8E3-2A6116E4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784F-F5AF-44D8-96BA-AAA97127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3802-3BE2-42B4-97BB-04F802BD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8564-62C4-4A7B-8EB6-B38BE47F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47F6-2722-4382-B29C-C526F906F184}" type="slidenum"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0515-E96A-46B4-8804-228B87AF2567}" type="slidenum"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Arial"/>
              </a:rPr>
              <a:t>Curso de Historia Institucional siglo XIX  </a:t>
            </a:r>
            <a:br>
              <a:rPr sz="2400"/>
            </a:br>
            <a:r>
              <a:rPr b="0" lang="es-ES" sz="2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330066"/>
                </a:solidFill>
                <a:latin typeface="Arial"/>
              </a:rPr>
              <a:t>Presentación del Proyecto de Investigación</a:t>
            </a:r>
            <a:br>
              <a:rPr sz="2400"/>
            </a:br>
            <a:r>
              <a:rPr b="0" lang="es-CL" sz="2400" spc="-1" strike="noStrike">
                <a:solidFill>
                  <a:srgbClr val="330066"/>
                </a:solidFill>
                <a:latin typeface="Arial"/>
              </a:rPr>
              <a:t> Primer </a:t>
            </a:r>
            <a:r>
              <a:rPr b="0" lang="es-ES" sz="2400" spc="-1" strike="noStrike">
                <a:solidFill>
                  <a:srgbClr val="330066"/>
                </a:solidFill>
                <a:latin typeface="Arial"/>
              </a:rPr>
              <a:t>semestre 2010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5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3240-06AF-4C59-8726-CB011307031F}" type="slidenum">
              <a:rPr b="0" lang="es-C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 algn="ctr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vestigación grupal (Grupo de 2 person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ctr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auta de Evaluación del Proyecto de Investig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. Descripción del procedimiento de trabajo: función de cada miemb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eño de un Proyecto de Investig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ección de un tema para investigar: considerar la dimensión polifacé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ormular el objetivo general y los objetivos específicos de l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vestigación: s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xpresan como verbos en infinitivo (v.g., identificar, describir, analizar, etc.,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ormular las preguntas de investig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struir una matriz de objetivos y preguntas d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vestigación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coherencia de la investiga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)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ormular las respuestas probables a las preguntas planteada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hipótes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ñalar la bibliografía inicial de la investig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6:49:28Z</dcterms:created>
  <dc:creator>epalma</dc:creator>
  <dc:description/>
  <dc:language>en-US</dc:language>
  <cp:lastModifiedBy>epalma</cp:lastModifiedBy>
  <dcterms:modified xsi:type="dcterms:W3CDTF">2010-03-22T19:50:39Z</dcterms:modified>
  <cp:revision>34</cp:revision>
  <dc:subject/>
  <dc:title>Historia del Derecho I U. de Chile Evaluaciones Primer semestre 2008</dc:title>
</cp:coreProperties>
</file>