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3E7-577D-4510-8C30-EAF4609C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A7C-E2D3-4C76-8555-26DC6C02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08E-958F-45E4-A956-7BFB1C8D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0F4-48D3-4DF3-91C9-738A0BE2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CDE3-073D-4795-979E-0E93CFF4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BFC8-1636-4FD0-8DF8-2C97C919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B63-2B4F-45D5-A790-12F75FC5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F4F-AA81-44A2-9354-0B041EAF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8B6A-9B36-48E3-8E2C-D0B7B9F6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0B5-F91F-406C-94D6-A966EC53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41D4-CC03-46CA-8FFF-EBE2E88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FF7-53B5-449C-BDBB-A494D66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8842-AEDC-4F9C-BA3F-F125596C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F70-5E61-4156-AF1A-8C3858B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84F9-B408-41EE-BD90-5D76BE07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C534-040D-43B8-B2E5-83CBCFDE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38FC-69A8-4ECF-B5F5-3031165D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AA2-9995-4E38-95B9-07A5129F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DC7-5C4E-4A3C-B3B3-6E0470F1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9FE-06DE-445F-96E8-AA614CDB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258-585C-4D8F-8BF7-C06DB51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A72-95BC-446B-90AF-37A087D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5B1-0B2E-45C4-A7A0-4711CB4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B67-7DDA-431B-A3EF-ED620F0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6260-244B-43B4-8CF2-E13FDC6CDAB2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9EC3-9680-47E3-BEDE-32002B33645A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Arial"/>
              </a:rPr>
              <a:t>Curso de Historia Institucional siglo XIX  </a:t>
            </a:r>
            <a:br>
              <a:rPr sz="2400"/>
            </a:br>
            <a:r>
              <a:rPr b="0" lang="es-E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330066"/>
                </a:solidFill>
                <a:latin typeface="Arial"/>
              </a:rPr>
              <a:t>Presentación del Proyecto de Investigación</a:t>
            </a:r>
            <a:br>
              <a:rPr sz="2400"/>
            </a:br>
            <a:r>
              <a:rPr b="0" lang="es-CL" sz="2400" spc="-1" strike="noStrike">
                <a:solidFill>
                  <a:srgbClr val="330066"/>
                </a:solidFill>
                <a:latin typeface="Arial"/>
              </a:rPr>
              <a:t> Primer </a:t>
            </a:r>
            <a:r>
              <a:rPr b="0" lang="es-ES" sz="2400" spc="-1" strike="noStrike">
                <a:solidFill>
                  <a:srgbClr val="330066"/>
                </a:solidFill>
                <a:latin typeface="Arial"/>
              </a:rPr>
              <a:t>semestre 2010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6A66-1FE6-4841-9984-0A2A7B9D08C4}" type="slidenum">
              <a:rPr b="0" lang="es-C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stigación grupal (Grupo de 2 perso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uta de Evaluación del Proyect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 Descripción del procedimiento de trabajo: función de cada miemb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 de un Proyect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ección de un tema para investigar: considerar la dimensión polifac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ular el objetivo general y los objetivos específicos de 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stigación: s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resan como verbos en infinitivo (v.g., identificar, describir, analizar, etc.,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ular las preguntas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truir una matriz de objetivos y preguntas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stiga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coherencia de la investig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ular las respuestas probables a las preguntas planteada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hipóte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ñalar la bibliografía inicial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6:49:28Z</dcterms:created>
  <dc:creator>epalma</dc:creator>
  <dc:description/>
  <dc:language>en-US</dc:language>
  <cp:lastModifiedBy>epalma</cp:lastModifiedBy>
  <dcterms:modified xsi:type="dcterms:W3CDTF">2010-03-22T19:50:39Z</dcterms:modified>
  <cp:revision>34</cp:revision>
  <dc:subject/>
  <dc:title>Historia del Derecho I U. de Chile Evaluaciones Primer semestre 2008</dc:title>
</cp:coreProperties>
</file>