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29D6B-4061-45F5-B173-EDDEA5819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4FFA-0656-43BC-8C40-E62EFBD2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A80FA-191C-443F-9A9C-F6AAF4449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DAA31-5573-4708-93B3-D6DD2B03E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B8C98-80A1-467A-98D1-AD762A9A2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0E731-5DA4-4C36-A7CB-B01046CB6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85558-053B-464F-A9D5-CC71BC309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2710A-A56D-49FC-86D1-B83C97C75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40C22-7787-4086-AC48-DF81D6EB1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6C03D-CA46-4E03-A10C-7E2092266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EF7EF-AAA6-49DC-A5D9-5EF34532B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2AFD-8FA3-4A1F-9FBA-7BB3B55F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4E3D5-5257-4373-9C2E-8EF9F9163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F1461-BB23-46E1-86DF-C5C173C68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44F23-9A84-46C6-AB2B-76DA4F6D1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D6D34-5D05-4B07-9CD6-4E333150F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F56F3-B4D0-49E0-A24E-F8D4D7531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AA37F-4286-4DE6-B0FC-E40CB3B61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27829-D99C-4FAD-8504-741EDCAF4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9D810-67C8-481A-9E8E-26DF6DC54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A0024-532B-4291-BEF1-D5F343E70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D643-0AFA-43E4-A852-097E16D6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B218-F381-4AE4-942B-21EE4CAE9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E602-FF02-4602-B771-73FD859BB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0884-B029-4DC4-8D20-42C24226F6D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64880"/>
            <a:ext cx="7467480" cy="311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B2BD-8FC1-4842-BFBF-4C8E89A0D65C}" type="slidenum">
              <a:rPr b="0" lang="es-E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l/search?client=firefox-a&amp;rls=org.mozilla%3Aes-ES%3Aofficial&amp;channel=s&amp;hl=es&amp;q=Tswana&amp;meta=&amp;btnG=Buscar+con+Google" TargetMode="External"/><Relationship Id="rId3" Type="http://schemas.openxmlformats.org/officeDocument/2006/relationships/hyperlink" Target="http://www.google.cl/imgres?imgurl=http://www.calboy.org/cfest_tswana.jpg&amp;imgrefurl=http://www.calboy.org/photographs_CultureFest.html&amp;h=855&amp;w=899&amp;sz=157&amp;tbnid=rWObgYGhm-ctpM::&amp;tbnh=139&amp;tbnw=146&amp;prev=/images%3Fq%3DTswana&amp;hl=es&amp;usg=__iEEdOm4fgWTFh_w3wk8c0B8hYaQ=&amp;ei=v0exSafbJuCbtweA-ZW7Bw&amp;sa=X&amp;oi=image_result&amp;resnum=4&amp;ct=image&amp;cd=1" TargetMode="External"/><Relationship Id="rId4" Type="http://schemas.openxmlformats.org/officeDocument/2006/relationships/image" Target="../media/image5.jpeg"/><Relationship Id="rId5" Type="http://schemas.openxmlformats.org/officeDocument/2006/relationships/hyperlink" Target="http://www.google.cl/imgres?imgurl=http://upload.wikimedia.org/wikipedia/commons/thumb/7/7c/Sotho-Tswana_group_speakers_proportion_ZA.svg/777px-Sotho-Tswana_group_speakers_proportion_ZA.svg.png&amp;imgrefurl=http://commons.wikimedia.org/wiki/File:Sotho-Tswana_group_speakers_proportion_ZA.svg&amp;h=600&amp;w=777&amp;sz=148&amp;tbnid=z8uLHtTnJ062fM::&amp;tbnh=110&amp;tbnw=142&amp;prev=/images%3Fq%3DTswana&amp;hl=es&amp;usg=__tTgNqqjL9VIqJci_9Y-U5Rx4Exg=&amp;ei=v0exSafbJuCbtweA-ZW7Bw&amp;sa=X&amp;oi=image_result&amp;resnum=5&amp;ct=image&amp;cd=1"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lmundoviajes.elmundo.es/elmundoviajes/fichas.html?valor=220&amp;zona=pais&amp;ver%2Bcontinente.x=66&amp;ver%2Bcontinente.y=11"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360"/>
            <a:ext cx="7467480" cy="21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ccffff"/>
                </a:solidFill>
                <a:latin typeface="Tahoma"/>
              </a:rPr>
              <a:t>ANTROPOLOGIA JURIDICA</a:t>
            </a:r>
            <a:endParaRPr b="0" lang="en-US" sz="6600" spc="-1" strike="noStrike">
              <a:solidFill>
                <a:srgbClr val="ccffff"/>
              </a:solidFill>
              <a:latin typeface="Tahoma"/>
            </a:endParaRPr>
          </a:p>
        </p:txBody>
      </p:sp>
      <p:sp>
        <p:nvSpPr>
          <p:cNvPr id="86" name="PlaceHolder 2"/>
          <p:cNvSpPr>
            <a:spLocks noGrp="1"/>
          </p:cNvSpPr>
          <p:nvPr>
            <p:ph type="subTitle"/>
          </p:nvPr>
        </p:nvSpPr>
        <p:spPr>
          <a:xfrm>
            <a:off x="1600200" y="213372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Tahoma"/>
              </a:rPr>
              <a:t>BASES TEORICAS</a:t>
            </a:r>
            <a:endParaRPr b="0" lang="en-US" sz="4000" spc="-1" strike="noStrike">
              <a:solidFill>
                <a:srgbClr val="ccec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ecff"/>
                </a:solidFill>
                <a:latin typeface="Tahoma"/>
              </a:rPr>
              <a:t>Presentación extractada del libro titulado:</a:t>
            </a:r>
            <a:endParaRPr b="0" lang="en-US" sz="1200" spc="-1" strike="noStrike">
              <a:solidFill>
                <a:srgbClr val="ccec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ecff"/>
                </a:solidFill>
                <a:latin typeface="Tahoma"/>
              </a:rPr>
              <a:t>REVISION CRITICA DE LAS TEORIAS DE LA ANTROPOLOGIA LEGAL DESDE LA PUBLICACION DE </a:t>
            </a:r>
            <a:endParaRPr b="0" lang="en-US" sz="1200" spc="-1" strike="noStrike">
              <a:solidFill>
                <a:srgbClr val="ccec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ecff"/>
                </a:solidFill>
                <a:latin typeface="Tahoma"/>
              </a:rPr>
              <a:t>"</a:t>
            </a:r>
            <a:r>
              <a:rPr b="1" i="1" lang="es-ES" sz="1200" spc="-1" strike="noStrike">
                <a:solidFill>
                  <a:srgbClr val="ccecff"/>
                </a:solidFill>
                <a:latin typeface="Tahoma"/>
              </a:rPr>
              <a:t>CRIMEN Y COSTUMBRE EN LA SOCIEDAD SALVAJE</a:t>
            </a:r>
            <a:r>
              <a:rPr b="1" lang="es-ES" sz="1200" spc="-1" strike="noStrike">
                <a:solidFill>
                  <a:srgbClr val="ccecff"/>
                </a:solidFill>
                <a:latin typeface="Tahoma"/>
              </a:rPr>
              <a:t>" DE </a:t>
            </a:r>
            <a:r>
              <a:rPr b="1" i="1" lang="es-ES" sz="1200" spc="-1" strike="noStrike">
                <a:solidFill>
                  <a:srgbClr val="ccecff"/>
                </a:solidFill>
                <a:latin typeface="Tahoma"/>
              </a:rPr>
              <a:t>BRONISLAW MALINOWSKI</a:t>
            </a:r>
            <a:r>
              <a:rPr b="1" lang="es-ES" sz="1200" spc="-1" strike="noStrike">
                <a:solidFill>
                  <a:srgbClr val="ccecff"/>
                </a:solidFill>
                <a:latin typeface="Tahoma"/>
                <a:ea typeface="Arial"/>
              </a:rPr>
              <a:t> </a:t>
            </a:r>
            <a:endParaRPr b="0" lang="en-US" sz="1200" spc="-1" strike="noStrike">
              <a:solidFill>
                <a:srgbClr val="ccec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80"/>
                </a:solidFill>
                <a:latin typeface="Tahoma"/>
              </a:rPr>
              <a:t>Tomás R. Austin Millán, Sociólogo - Antropólogo  </a:t>
            </a:r>
            <a:r>
              <a:rPr b="0" i="1" lang="es-ES" sz="1200" spc="-1" strike="noStrike">
                <a:solidFill>
                  <a:srgbClr val="000080"/>
                </a:solidFill>
                <a:latin typeface="Tahoma"/>
              </a:rPr>
              <a:t>Tesis presentado para postular al Grado de Bachelor en Ciencias Sociales y Económicas, al Departamento de Socialogía y Antropología del Colegio Universitario de Swansea, Universidad de Gales, Reino Unido, 1980.</a:t>
            </a:r>
            <a:endParaRPr b="0" lang="en-US" sz="1200" spc="-1" strike="noStrike">
              <a:solidFill>
                <a:srgbClr val="ccec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ecff"/>
                </a:solidFill>
                <a:latin typeface="Tahoma"/>
              </a:rPr>
              <a:t>Disponible en http://www.geocities.com/tomaustin_cl/ant/antjur.htm</a:t>
            </a:r>
            <a:r>
              <a:rPr b="0" lang="es-ES" sz="1800" spc="-1" strike="noStrike">
                <a:solidFill>
                  <a:srgbClr val="ccecff"/>
                </a:solidFill>
                <a:latin typeface="Tahoma"/>
              </a:rPr>
              <a:t>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a fuerza coercitiva de la norma</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rial"/>
              </a:rPr>
              <a:t>No habiendo un conjunto de leyes que castiguen a los infractores a las leyes de la costumbre, la chismografía, el escándalo y el escarnio público, el ridículo, el temor a la ira del jefe y el temor a la brujería, han sido los principales medios de las sociedades de pequeña escala para sancionar y forzar el respeto por las reglas de comportamiento social que comúnmente llamamos leyes en la sociedad occidental.</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rial"/>
              </a:rPr>
              <a:t>De esta manera, las reglas de costumbres/leyes se distinguen de otros conjuntos de reglas de la costumbre, como las costumbres religiosas, artesanales, formas y maneras de interacción social, comercio, etc., en que </a:t>
            </a:r>
            <a:r>
              <a:rPr b="0" i="1" lang="es-ES" sz="2000" spc="-1" strike="noStrike">
                <a:solidFill>
                  <a:srgbClr val="ffffff"/>
                </a:solidFill>
                <a:latin typeface="Tahoma"/>
                <a:ea typeface="Arial"/>
              </a:rPr>
              <a:t>"las reglas jurídicas destacan del resto por el hecho de que están consideradas como obligaciones de una persona y derechos de otra"</a:t>
            </a:r>
            <a:r>
              <a:rPr b="0" lang="es-ES" sz="2000" spc="-1" strike="noStrike">
                <a:solidFill>
                  <a:srgbClr val="ffffff"/>
                </a:solidFill>
                <a:latin typeface="Tahoma"/>
                <a:ea typeface="Arial"/>
              </a:rPr>
              <a:t> (Malinowski 1982:70).</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as diferencias entre la ley civil y la penal</a:t>
            </a:r>
            <a:endParaRPr b="0" lang="en-US" sz="4400" spc="-1" strike="noStrike">
              <a:solidFill>
                <a:srgbClr val="ccffff"/>
              </a:solidFill>
              <a:latin typeface="Tahom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El derecho civil, la ley obedecida, </a:t>
            </a:r>
            <a:r>
              <a:rPr b="0" i="1" lang="es-ES" sz="2800" spc="-1" strike="noStrike">
                <a:solidFill>
                  <a:srgbClr val="ffffff"/>
                </a:solidFill>
                <a:latin typeface="Tahoma"/>
                <a:ea typeface="Arial"/>
              </a:rPr>
              <a:t>es el cuerpo de obligaciones forzosas consideradas como justas por unos y reconocidas como un deber por los otros, cuyo cumplimiento se asegura por un mecanismo específico de reciprocidad y publicidad inherentes a la estructura de la sociedad“ </a:t>
            </a:r>
            <a:r>
              <a:rPr b="0" lang="es-ES" sz="2800" spc="-1" strike="noStrike">
                <a:solidFill>
                  <a:srgbClr val="ffffff"/>
                </a:solidFill>
                <a:latin typeface="Tahoma"/>
                <a:ea typeface="Arial"/>
              </a:rPr>
              <a:t>(Malinowski 1982:74). El derecho penal, la ley quebrantada, fue definida como</a:t>
            </a:r>
            <a:r>
              <a:rPr b="0" i="1" lang="es-ES" sz="2800" spc="-1" strike="noStrike">
                <a:solidFill>
                  <a:srgbClr val="ffffff"/>
                </a:solidFill>
                <a:latin typeface="Tahoma"/>
                <a:ea typeface="Arial"/>
              </a:rPr>
              <a:t> ...las reglas fundamentales que salvaguardan la vida, la propiedad y la personalidad</a:t>
            </a:r>
            <a:r>
              <a:rPr b="0" lang="es-ES" sz="2800" spc="-1" strike="noStrike">
                <a:solidFill>
                  <a:srgbClr val="ffffff"/>
                </a:solidFill>
                <a:latin typeface="Tahoma"/>
                <a:ea typeface="Arial"/>
              </a:rPr>
              <a:t>" (ibid, pág. 81).</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a contribución de Malinowsky según Hoebel</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a:t>
            </a:r>
            <a:r>
              <a:rPr b="0" i="1" lang="es-ES" sz="2800" spc="-1" strike="noStrike">
                <a:solidFill>
                  <a:srgbClr val="ffffff"/>
                </a:solidFill>
                <a:latin typeface="Tahoma"/>
                <a:ea typeface="Arial"/>
              </a:rPr>
              <a:t>la contribución positiva de Malinowski a la teoría de la ley (en antropología) ha sido su vigorosa insistencia en el derecho como un aspecto de la sociedad y la cultura totales y de la ocurrencia de brechas entre las normas desde un aspecto ideal y las normas legales en uso. Rompió, Además, con las rigideses de los formalismos legales en antropología y le dio un nuevo ímpetu a la antropología del derecho</a:t>
            </a:r>
            <a:r>
              <a:rPr b="0" lang="es-ES" sz="2800" spc="-1" strike="noStrike">
                <a:solidFill>
                  <a:srgbClr val="ffffff"/>
                </a:solidFill>
                <a:latin typeface="Tahoma"/>
                <a:ea typeface="Arial"/>
              </a:rPr>
              <a:t>" (Hoebel, 1954:208; Shapera 1957:155).</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ea typeface="Arial"/>
              </a:rPr>
              <a:t>LAS PROPUESTAS</a:t>
            </a:r>
            <a:r>
              <a:rPr b="1" lang="es-ES" sz="4400" spc="-1" strike="noStrike">
                <a:solidFill>
                  <a:srgbClr val="ccffff"/>
                </a:solidFill>
                <a:latin typeface="Tahoma"/>
                <a:ea typeface="Arial"/>
              </a:rPr>
              <a:t> </a:t>
            </a:r>
            <a:r>
              <a:rPr b="1" lang="es-ES" sz="3200" spc="-1" strike="noStrike">
                <a:solidFill>
                  <a:srgbClr val="ccffff"/>
                </a:solidFill>
                <a:latin typeface="Tahoma"/>
                <a:ea typeface="Arial"/>
              </a:rPr>
              <a:t>METODOLÓGICAS DE RADCLIFFE-BROWN.</a:t>
            </a:r>
            <a:br>
              <a:rPr sz="3200"/>
            </a:br>
            <a:endParaRPr b="0" lang="en-US" sz="32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Arial"/>
              </a:rPr>
              <a:t>Con posterioridad a Crimen y costumbre – Malinowsky, aparecen dos trabajos que permitieron la descripción y conocimiento de dos sistemas legales distintos. El primero fue el Manual de las Leyes y Costumbre Tswana de Shapera (publicado en 1938) y el segundo fue Los Nuer de E. Evans-Pritchard (publicado en 1940).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Shapera y los Tswana</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Arial"/>
              </a:rPr>
              <a:t>El libro de Shapera es una compilación de las leyes tradicionales Tswana, libro que fue escrito "</a:t>
            </a:r>
            <a:r>
              <a:rPr b="0" i="1" lang="es-ES" sz="3200" spc="-1" strike="noStrike">
                <a:solidFill>
                  <a:srgbClr val="ffffff"/>
                </a:solidFill>
                <a:latin typeface="Tahoma"/>
                <a:ea typeface="Arial"/>
              </a:rPr>
              <a:t>para que los nuevos jefes tribales tuvieran impresas las leyes que su pueblo y los viejos jefes trivales antes había conocido solo oralmente</a:t>
            </a:r>
            <a:r>
              <a:rPr b="0" lang="es-ES" sz="3200" spc="-1" strike="noStrike">
                <a:solidFill>
                  <a:srgbClr val="ffffff"/>
                </a:solidFill>
                <a:latin typeface="Tahoma"/>
                <a:ea typeface="Arial"/>
              </a:rPr>
              <a:t>" (Shapera, 1955:XX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a:hlinkClick r:id="rId2"/>
          </p:cNvPr>
          <p:cNvSpPr/>
          <p:nvPr/>
        </p:nvSpPr>
        <p:spPr>
          <a:xfrm>
            <a:off x="1803240" y="269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22" name="" descr="http://www.calboy.org/photographs_CultureFest.html">
            <a:hlinkClick r:id="rId3"/>
          </p:cNvPr>
          <p:cNvPicPr/>
          <p:nvPr/>
        </p:nvPicPr>
        <p:blipFill>
          <a:blip r:embed="rId4"/>
          <a:stretch/>
        </p:blipFill>
        <p:spPr>
          <a:xfrm>
            <a:off x="0" y="0"/>
            <a:ext cx="3720960" cy="3543480"/>
          </a:xfrm>
          <a:prstGeom prst="rect">
            <a:avLst/>
          </a:prstGeom>
          <a:ln w="0">
            <a:noFill/>
          </a:ln>
        </p:spPr>
      </p:pic>
      <p:pic>
        <p:nvPicPr>
          <p:cNvPr id="123" name="" descr="http://commons.wikimedia.org/wiki/File:Sotho-Tswana_group_speakers_proportion_ZA.svg">
            <a:hlinkClick r:id="rId5"/>
          </p:cNvPr>
          <p:cNvPicPr/>
          <p:nvPr/>
        </p:nvPicPr>
        <p:blipFill>
          <a:blip r:embed="rId6"/>
          <a:stretch/>
        </p:blipFill>
        <p:spPr>
          <a:xfrm>
            <a:off x="4724280" y="533520"/>
            <a:ext cx="3400560" cy="2638440"/>
          </a:xfrm>
          <a:prstGeom prst="rect">
            <a:avLst/>
          </a:prstGeom>
          <a:ln w="0">
            <a:noFill/>
          </a:ln>
        </p:spPr>
      </p:pic>
      <p:pic>
        <p:nvPicPr>
          <p:cNvPr id="124" name="" descr="http://www.fine-african-art.com/infotswana/infotswana.htm"/>
          <p:cNvPicPr/>
          <p:nvPr/>
        </p:nvPicPr>
        <p:blipFill>
          <a:blip r:embed="rId7"/>
          <a:stretch/>
        </p:blipFill>
        <p:spPr>
          <a:xfrm>
            <a:off x="838080" y="4038480"/>
            <a:ext cx="2644920" cy="1997280"/>
          </a:xfrm>
          <a:prstGeom prst="rect">
            <a:avLst/>
          </a:prstGeom>
          <a:ln w="0">
            <a:noFill/>
          </a:ln>
        </p:spPr>
      </p:pic>
      <p:pic>
        <p:nvPicPr>
          <p:cNvPr id="125" name="" descr="http://www.fine-african-art.com/infotswana/infotswana.htm"/>
          <p:cNvPicPr/>
          <p:nvPr/>
        </p:nvPicPr>
        <p:blipFill>
          <a:blip r:embed="rId8"/>
          <a:stretch/>
        </p:blipFill>
        <p:spPr>
          <a:xfrm>
            <a:off x="4316400" y="3962520"/>
            <a:ext cx="4141800" cy="2208240"/>
          </a:xfrm>
          <a:prstGeom prst="rect">
            <a:avLst/>
          </a:prstGeom>
          <a:ln w="0">
            <a:noFill/>
          </a:ln>
        </p:spPr>
      </p:pic>
      <p:sp>
        <p:nvSpPr>
          <p:cNvPr id="126" name=""/>
          <p:cNvSpPr/>
          <p:nvPr/>
        </p:nvSpPr>
        <p:spPr>
          <a:xfrm>
            <a:off x="210240" y="6248520"/>
            <a:ext cx="904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http://images.google.cl/images?hl=es&amp;client=firefox-a&amp;rls=org.mozilla:es-ES:official&amp;hs=GG1&amp;q=fotos+Tswana&amp;um=1</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mp;ie=UTF-8&amp;ei=OYKxSfnBMJ6DtwftxKW8Bw&amp;sa=X&amp;oi=image_result_group&amp;resnum=5&amp;ct=titl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vans Pritchard y los Nuer</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Arial"/>
              </a:rPr>
              <a:t>LOS Nuer fue un estudio que buscaba un conocimiento mayor de la vida y las instituciones políticas de los Nuer del entonces sur del Sudan anglo-egipcio. (E.Evans-Pritchard, 1978:3).</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l aporte de </a:t>
            </a:r>
            <a:r>
              <a:rPr b="0" lang="es-ES" sz="4400" spc="-1" strike="noStrike">
                <a:solidFill>
                  <a:srgbClr val="ccffff"/>
                </a:solidFill>
                <a:latin typeface="Tahoma"/>
                <a:ea typeface="Arial"/>
              </a:rPr>
              <a:t>Radcliffe-Brown</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En 1933 contribuyó con la publicación de su análisis sistemático de la ley y la costumbre(9), enfocando el derecho de aquellas sociedades que tenían alguna forma de gobierno reconocido. Definió la sanción social como "</a:t>
            </a:r>
            <a:r>
              <a:rPr b="0" i="1" lang="es-ES" sz="2800" spc="-1" strike="noStrike">
                <a:solidFill>
                  <a:srgbClr val="ffffff"/>
                </a:solidFill>
                <a:latin typeface="Tahoma"/>
                <a:ea typeface="Arial"/>
              </a:rPr>
              <a:t>una reacción por parte de una sociedad o de un considerable número de sus miembros, a un modo de comportamiento que es aprobado o desaprobado</a:t>
            </a:r>
            <a:r>
              <a:rPr b="0" lang="es-ES" sz="2800" spc="-1" strike="noStrike">
                <a:solidFill>
                  <a:srgbClr val="ffffff"/>
                </a:solidFill>
                <a:latin typeface="Tahoma"/>
                <a:ea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a sanción social y la pena</a:t>
            </a:r>
            <a:endParaRPr b="0" lang="en-US" sz="4400" spc="-1" strike="noStrike">
              <a:solidFill>
                <a:srgbClr val="ccffff"/>
              </a:solidFill>
              <a:latin typeface="Tahoma"/>
            </a:endParaRPr>
          </a:p>
        </p:txBody>
      </p:sp>
      <p:sp>
        <p:nvSpPr>
          <p:cNvPr id="13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Arial"/>
              </a:rPr>
              <a:t>La sanción social aprobada es llamada "positiva" y enfatiza lo que debe hacerse. Puede convertirse en títulos nobilarios, honoríficos, fama, premios (incluyendo medallas y diplomas) e incluso la buena opinión de sus vecinos. Una sanción no aprobada es llamada "negativa" y puede ser clasificada como organizada o difusa. Las sanciones organizadas son procedimientos definitivos, regulados y reconocidos, dirigidos en contra de personas cuyo comportamiento es socialmente desaprobado o rechazado. Por otro lado, las sanciones difusas son espontáneas y desorganizadas, usualmente haciendo surgir la desaprobación general de la comunidad o de una parte significante de ella.</a:t>
            </a:r>
            <a:endParaRPr b="0" lang="en-US" sz="2400" spc="-1" strike="noStrike">
              <a:solidFill>
                <a:srgbClr val="ffffff"/>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Tahoma"/>
              </a:rPr>
              <a:t>Concepto de Derecho (perspectiva antropológica) según </a:t>
            </a:r>
            <a:r>
              <a:rPr b="0" lang="es-ES" sz="3200" spc="-1" strike="noStrike">
                <a:solidFill>
                  <a:srgbClr val="ccffff"/>
                </a:solidFill>
                <a:latin typeface="Tahoma"/>
                <a:ea typeface="Arial"/>
              </a:rPr>
              <a:t>Radcliffe-Brown</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Arial"/>
              </a:rPr>
              <a:t>En este sentido el derecho es entendido como sanciones negativas organizadas en las que las más importantes son aquellas comprendidas en su equivalente al Código Penal tribal. La ley era "</a:t>
            </a:r>
            <a:r>
              <a:rPr b="0" i="1" lang="es-ES" sz="3200" spc="-1" strike="noStrike">
                <a:solidFill>
                  <a:srgbClr val="ffffff"/>
                </a:solidFill>
                <a:latin typeface="Tahoma"/>
                <a:ea typeface="Arial"/>
              </a:rPr>
              <a:t>el control social a través de la aplicación sistemática de la fuerza de sociedades organizadas políticamente</a:t>
            </a:r>
            <a:r>
              <a:rPr b="0" lang="es-ES" sz="3200" spc="-1" strike="noStrike">
                <a:solidFill>
                  <a:srgbClr val="ffffff"/>
                </a:solidFill>
                <a:latin typeface="Tahoma"/>
                <a:ea typeface="Arial"/>
              </a:rPr>
              <a:t>" (1952:2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219320"/>
            <a:ext cx="78483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ea typeface="Arial"/>
              </a:rPr>
              <a:t>La contribución de Bronislaw Malinowski</a:t>
            </a:r>
            <a:r>
              <a:rPr b="1" lang="es-ES" sz="4400" spc="-1" strike="noStrike">
                <a:solidFill>
                  <a:srgbClr val="ccffff"/>
                </a:solidFill>
                <a:latin typeface="Tahoma"/>
                <a:ea typeface="Arial"/>
              </a:rPr>
              <a:t>.</a:t>
            </a:r>
            <a:br>
              <a:rPr sz="4400"/>
            </a:b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rial"/>
              </a:rPr>
              <a:t>Malinowski, antes de la aparición de su libro en 1926: la ley o derecho "primitivo" y "la costumbre“, fueron percibidos como una misma cosa indiferenciada en la mente de "los nativos". Representaba una imagen etnocéntrica de la cultura que se veía a sí misma como jurídicamente evolucionada, mientras que la cultura de los pueblos "primitivos" era entendida como "</a:t>
            </a:r>
            <a:r>
              <a:rPr b="0" i="1" lang="es-ES" sz="2000" spc="-1" strike="noStrike">
                <a:solidFill>
                  <a:srgbClr val="ffffff"/>
                </a:solidFill>
                <a:latin typeface="Tahoma"/>
                <a:ea typeface="Arial"/>
              </a:rPr>
              <a:t>absolutamente rígida, y donde la conformidad total con aquella era obtenida por el poder sobrecogedor de los sentimientos del grupo, ampliamente fortificado por la religión y la magia</a:t>
            </a:r>
            <a:r>
              <a:rPr b="0" lang="es-ES" sz="2000" spc="-1" strike="noStrike">
                <a:solidFill>
                  <a:srgbClr val="ffffff"/>
                </a:solidFill>
                <a:latin typeface="Tahoma"/>
                <a:ea typeface="Arial"/>
              </a:rPr>
              <a:t>" (Lloyd 1972:566). Como un ejemplo de esta forma de pensar es posible citar los trabajos de Sir H.S. Maine y Emile Durkheim.</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as conclusiones de </a:t>
            </a:r>
            <a:r>
              <a:rPr b="0" lang="es-ES" sz="4400" spc="-1" strike="noStrike">
                <a:solidFill>
                  <a:srgbClr val="ccffff"/>
                </a:solidFill>
                <a:latin typeface="Tahoma"/>
                <a:ea typeface="Arial"/>
              </a:rPr>
              <a:t>Radcliffe-Brown</a:t>
            </a:r>
            <a:endParaRPr b="0" lang="en-US" sz="44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Las sanciones físicas administradas por una sociedad políticamente organizada es el criterio básico de la ley y el derecho tribal (y por lo tanto antropológico). Énfasis que lo llevó a admitir que había una ausencia de derecho en algunas sociedades "más primitivas", y limitar así el concepto de ley a culturas con una organización política más formal. Agrega que algunas sociedades simples no tienen ley (en el sentido de derecho), aunque todas poseen costumbres que son reforzadas por sanciones sociales.</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Tahoma"/>
              </a:rPr>
              <a:t>La problemática entre Ley y costumbre: criterios para una definición</a:t>
            </a:r>
            <a:br>
              <a:rPr sz="3200"/>
            </a:br>
            <a:endParaRPr b="0" lang="en-US" sz="3200" spc="-1" strike="noStrike">
              <a:solidFill>
                <a:srgbClr val="ccffff"/>
              </a:solidFill>
              <a:latin typeface="Tahoma"/>
            </a:endParaRPr>
          </a:p>
        </p:txBody>
      </p:sp>
      <p:sp>
        <p:nvSpPr>
          <p:cNvPr id="138"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ara desenredar la relación entre la ley y la costumbre una propuesta es guiarse por los tipos ideales de Max Weber sobre la acción legítima. Para Weber toda relación social es durable si hay alguna uniformidad en la conducta, es decir, si es un uso social. Una costumbre es un uso social largamente establecido, aunque hay muchas costumbres individuales que no son seguidas colectivamente, por lo que son socialmente no significativas. En muchos casos, el origen de las reglas que se han de convertir en leyes deben ser encontradas en algunas de esas reglas de relaciones sociales, o costumbres. Las fuentes de la ley se convierten en importantes elementos en el ejercicio del poder y ambos están envueltos en el concepto de dominación, todas las cuales son las fuentes conceptuales necesarias para analizar una sociedad política. Estos conceptos constituyen un tipo ideal de acción racional orientado hacia la creencia en un orden legítimo: tradicional, carismático o legal.</a:t>
            </a:r>
            <a:endParaRPr b="0" lang="en-US" sz="2000" spc="-1" strike="noStrike">
              <a:solidFill>
                <a:srgbClr val="ffffff"/>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l aporte metodológico de los Estudios de casos</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Básicamente hay dos maneras de sostener el orden social: persuadiendo u obligando a alguien a realizar un acto restitutivo a la persona afectada, o castigando al que transgrede la ley. Estos son dos conceptos que ya han sido vistos en Durkheim y que la data empírica de la antropología ha mostrado en el uso cotidiano de las sociedades de pequeña escala. </a:t>
            </a:r>
            <a:endParaRPr b="0" lang="en-US" sz="2000" spc="-1" strike="noStrike">
              <a:solidFill>
                <a:srgbClr val="ffffff"/>
              </a:solidFill>
              <a:latin typeface="Tahoma"/>
            </a:endParaRPr>
          </a:p>
          <a:p>
            <a:pPr marL="335880" indent="-3358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 en el análisis de esas dicotomías: "cortes judiciales - no cortes", "restitución - castigo", etc, con toda su variedades intermedias, donde el estudio de casos es uno de los mejores métodos desarrollados por la antropología, permitiendo el uso de conceptos jurídicos en el desarrollo y mejoramiento de métodos de estudio, principalmente porque un "caso" representa el registro detallado de una disputa particular y de su resolución, constituyendo una unidad de análisis en sí misma. </a:t>
            </a:r>
            <a:endParaRPr b="0" lang="en-US" sz="20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990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Arial"/>
                <a:ea typeface="Arial"/>
              </a:rPr>
              <a:t>El aporte de Llawellyn y Hoebel </a:t>
            </a:r>
            <a:br>
              <a:rPr sz="4400"/>
            </a:br>
            <a:endParaRPr b="0" lang="en-US" sz="44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método de estudios de casos tiene su propio desarrollo. "</a:t>
            </a:r>
            <a:r>
              <a:rPr b="0" i="1" lang="es-ES" sz="2000" spc="-1" strike="noStrike">
                <a:solidFill>
                  <a:srgbClr val="ffffff"/>
                </a:solidFill>
                <a:latin typeface="Arial"/>
                <a:ea typeface="Arial"/>
              </a:rPr>
              <a:t>En el comienzo, los casos fueron utilizados solo como ilustraciones aisladas de costumbres específicas, principios de organización, relaciones sociales, etc. Más tarde, los casos o situaciones simples" fueron usados para examinar su estructura interna de roles, de situaciones varias y para relacionar éstas con las costumbres y creencias envueltas en los casos</a:t>
            </a:r>
            <a:r>
              <a:rPr b="0" lang="es-ES" sz="2000" spc="-1" strike="noStrike">
                <a:solidFill>
                  <a:srgbClr val="ffffff"/>
                </a:solidFill>
                <a:latin typeface="Arial"/>
                <a:ea typeface="Arial"/>
              </a:rPr>
              <a:t>" (Gluckmann 1977:172-78). Finalmente, el método de casos usado para el estudio de las leyes de la costumbre se desarrollo en el uso específico de "casos problemáticos" un método propuesto por Llawellyn y Hoebel (1941) en su clásico estudio de "La Manera Cheyen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contribución de Hoebel a la antropología jurídica indica que si queremos ver a la ley en acción para estudiar sus implicancias, consecuencias y la profunda influencia de las costumbres normativas en las mentes de la gente, debemos buscar por casos problemáticos, ya que "</a:t>
            </a:r>
            <a:r>
              <a:rPr b="0" i="1" lang="es-ES" sz="2800" spc="-1" strike="noStrike">
                <a:solidFill>
                  <a:srgbClr val="ffffff"/>
                </a:solidFill>
                <a:latin typeface="Arial"/>
                <a:ea typeface="Arial"/>
              </a:rPr>
              <a:t>el método de casos conduce a una jurisprudencia realista y además, una ley que nunca es transgredida puede que no sea más que la costumbre omnipotente"</a:t>
            </a:r>
            <a:r>
              <a:rPr b="0" lang="es-ES" sz="2800" spc="-1" strike="noStrike">
                <a:solidFill>
                  <a:srgbClr val="ffffff"/>
                </a:solidFill>
                <a:latin typeface="Arial"/>
                <a:ea typeface="Arial"/>
              </a:rPr>
              <a:t> (Hoebel, 1954:36-7)</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os seguidores</a:t>
            </a:r>
            <a:endParaRPr b="0" lang="en-US" sz="4400" spc="-1" strike="noStrike">
              <a:solidFill>
                <a:srgbClr val="ccffff"/>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Más tarde muchos antropólogos reconocieron la importancia del método de estudio de casos. Entre ellos Gluckman (Proceso judiciales entre los Borotse; 1964); Gulliver (1969:13-14); Epstein (1974:7) y Hamnet (1975:6). En otro libro de Gluckman (1977), publicado por primera vez en 1965, bajo el subtítulo "</a:t>
            </a:r>
            <a:r>
              <a:rPr b="0" i="1" lang="es-ES" sz="2000" spc="-1" strike="noStrike">
                <a:solidFill>
                  <a:srgbClr val="ffffff"/>
                </a:solidFill>
                <a:latin typeface="Arial"/>
                <a:ea typeface="Arial"/>
              </a:rPr>
              <a:t>Estudiando la resolución de disputas</a:t>
            </a:r>
            <a:r>
              <a:rPr b="0" lang="es-ES" sz="2000" spc="-1" strike="noStrike">
                <a:solidFill>
                  <a:srgbClr val="ffffff"/>
                </a:solidFill>
                <a:latin typeface="Arial"/>
                <a:ea typeface="Arial"/>
              </a:rPr>
              <a:t>" argumentó la utilidad del estudio de casos en esos precisos términos -la resolución de disputas- y dijo que habían "</a:t>
            </a:r>
            <a:r>
              <a:rPr b="0" i="1" lang="es-ES" sz="2000" spc="-1" strike="noStrike">
                <a:solidFill>
                  <a:srgbClr val="ffffff"/>
                </a:solidFill>
                <a:latin typeface="Arial"/>
                <a:ea typeface="Arial"/>
              </a:rPr>
              <a:t>pocos estudios de la acción legislativa, administrativa y judicial</a:t>
            </a:r>
            <a:r>
              <a:rPr b="0" lang="es-ES" sz="2000" spc="-1" strike="noStrike">
                <a:solidFill>
                  <a:srgbClr val="ffffff"/>
                </a:solidFill>
                <a:latin typeface="Arial"/>
                <a:ea typeface="Arial"/>
              </a:rPr>
              <a:t>" (pág.178) en la investigación de antropología del derecho, lo que daba amplia campo para el uso provechoso del estudio de casos. la razón de ello estaría en que los antropólogos, como los juristas han estado demasiado interesados en discutir si el derecho existe en las sociedades sin jefe ni estados y cuál es la relación entre la ley y la costumbre.</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Tahoma"/>
              </a:rPr>
              <a:t>Gluckman, a partir del análisis de los procesos judiciales en la sociedad Lozi</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Usando el método de casos Gluckman analizó la jurisprudencia de los Lozi estableciendo conceptos nuevos para el estudio del derecho en antropología. El derecho, dice, "</a:t>
            </a:r>
            <a:r>
              <a:rPr b="0" i="1" lang="es-ES" sz="2000" spc="-1" strike="noStrike">
                <a:solidFill>
                  <a:srgbClr val="ffffff"/>
                </a:solidFill>
                <a:latin typeface="Arial"/>
                <a:ea typeface="Arial"/>
              </a:rPr>
              <a:t>esta presente en los usos de la costumbre, en estatuto, instituciones comunes a todas las tribus, en la justicia general y la equidad y en los precedentes judicial, los que son teóricamente conocidos (por los jueces y pueblo Lozi</a:t>
            </a:r>
            <a:r>
              <a:rPr b="0" lang="es-ES" sz="2000" spc="-1" strike="noStrike">
                <a:solidFill>
                  <a:srgbClr val="ffffff"/>
                </a:solidFill>
                <a:latin typeface="Arial"/>
                <a:ea typeface="Arial"/>
              </a:rPr>
              <a:t>"(Pág.23). En otras palabras, el derecho implica el cuerpo completo de reglas, por lo tanto, "tiene varios significados" (pág. 164) lo mismo entre los Lozi que en el pensamiento occidental. Existe lo que Gluckman llama "lo legal" (o lo concerniente al derecho), que </a:t>
            </a:r>
            <a:r>
              <a:rPr b="0" i="1" lang="es-ES" sz="2000" spc="-1" strike="noStrike">
                <a:solidFill>
                  <a:srgbClr val="ffffff"/>
                </a:solidFill>
                <a:latin typeface="Arial"/>
                <a:ea typeface="Arial"/>
              </a:rPr>
              <a:t>"demarca los procedimientos que los tribunales Lozi deberían seguir, las reglas que deberían aplicar, y las sanciones que deberían hacer cumplir</a:t>
            </a:r>
            <a:r>
              <a:rPr b="0" lang="es-ES" sz="2000" spc="-1" strike="noStrike">
                <a:solidFill>
                  <a:srgbClr val="ffffff"/>
                </a:solidFill>
                <a:latin typeface="Arial"/>
                <a:ea typeface="Arial"/>
              </a:rPr>
              <a:t>"(pág.16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a:t>
            </a:r>
            <a:r>
              <a:rPr b="0" lang="es-ES" sz="4400" spc="-1" strike="noStrike">
                <a:solidFill>
                  <a:srgbClr val="ccffff"/>
                </a:solidFill>
                <a:latin typeface="Tahoma"/>
              </a:rPr>
              <a:t>El Hombre Razonable”</a:t>
            </a:r>
            <a:endParaRPr b="0" lang="en-US" sz="4400" spc="-1" strike="noStrike">
              <a:solidFill>
                <a:srgbClr val="ccffff"/>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concepto del hombre razonable es un tipo ideal de persona usado por los jueces Lozi como una norma comparativa con la cual comparar el comportamiento de las personas envueltos en una disputa. En este sentido, el hombre razonable es aquel que se adapta "</a:t>
            </a:r>
            <a:r>
              <a:rPr b="0" i="1" lang="es-ES" sz="2000" spc="-1" strike="noStrike">
                <a:solidFill>
                  <a:srgbClr val="ffffff"/>
                </a:solidFill>
                <a:latin typeface="Arial"/>
                <a:ea typeface="Arial"/>
              </a:rPr>
              <a:t>razonablemente a las costumbres y estándares de su posición social</a:t>
            </a:r>
            <a:r>
              <a:rPr b="0" lang="es-ES" sz="2000" spc="-1" strike="noStrike">
                <a:solidFill>
                  <a:srgbClr val="ffffff"/>
                </a:solidFill>
                <a:latin typeface="Arial"/>
                <a:ea typeface="Arial"/>
              </a:rPr>
              <a:t>" (Gluckman 1967:129). De manera que cuando los jueces tiene que tratar con litigantes, ellos comparan cómo se habría comportado un hombre razonable en la misma situación que la de los disputantes, de manera que los jueces puedan darse una idea de "razonabilidad" que les permita evaluar las acciones de las personas en disputa, para ver hasta dónde sus actos y comportamientos fueron correctos o equivocados. Es decir, es un concepto que forma una base para los juicios y fallos de los jueces Lozi.</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572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Otro trabajo realizado con el método del estudio de casos fue el de P.H. Gulliver, El Control Social en una Sociedad Africana, publicado en 1963. </a:t>
            </a:r>
            <a:endParaRPr b="0" lang="en-US" sz="2400" spc="-1" strike="noStrike">
              <a:solidFill>
                <a:srgbClr val="ffffff"/>
              </a:solidFill>
              <a:latin typeface="Tahom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284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e estudio muestra que hay sociedades que aunque carentes de gobierno central, "</a:t>
            </a:r>
            <a:r>
              <a:rPr b="0" i="1" lang="es-ES" sz="2400" spc="-1" strike="noStrike">
                <a:solidFill>
                  <a:srgbClr val="ffffff"/>
                </a:solidFill>
                <a:latin typeface="Arial"/>
                <a:ea typeface="Arial"/>
              </a:rPr>
              <a:t>sí tienen algún tipo de tribunal para obtener acuerdos y resolución de disputas sin castigo y donde el recurso de hacer justicia por si mismo es ilegítimo</a:t>
            </a:r>
            <a:r>
              <a:rPr b="0" lang="es-ES" sz="2400" spc="-1" strike="noStrike">
                <a:solidFill>
                  <a:srgbClr val="ffffff"/>
                </a:solidFill>
                <a:latin typeface="Arial"/>
                <a:ea typeface="Arial"/>
              </a:rPr>
              <a:t>" (Gulliver: 1968:216-17) lo que llevó a Gulliver a pensar que la negación del hacerse justicia por sí mismos viene a ser una convocatoria a la cooperación mutua (pág. 221). Los grupos sociales, aun en una disputa entre segmentos o grupos de parientes (las que surgen de disputas entre individuos) buscan la mejor manera de resolver sus peleas en paz y restaurando el orden social. </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Tahoma"/>
              </a:rPr>
              <a:t>El rol de los mediadores en la resolución de conflictos de relevancia jurídica</a:t>
            </a:r>
            <a:endParaRPr b="0" lang="en-US" sz="3200" spc="-1" strike="noStrike">
              <a:solidFill>
                <a:srgbClr val="ccffff"/>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Otro concepto que se ha hecho importante es el de los "mediadores". Gulliver (1975:15) se refiere a los mediadores como "una tercer parte que, aunque no esté habilitado para emitir fallos, de alguna manera actúa como un facilitador en el proceso de tratar de lograr un acuerdo. La inhabilidad de los mediadores para emitir fallos, una función que pertenece a los jueces, establece su diferencia de funciones. Como "</a:t>
            </a:r>
            <a:r>
              <a:rPr b="0" i="1" lang="es-ES" sz="2000" spc="-1" strike="noStrike">
                <a:solidFill>
                  <a:srgbClr val="ffffff"/>
                </a:solidFill>
                <a:latin typeface="Arial"/>
                <a:ea typeface="Arial"/>
              </a:rPr>
              <a:t>el jefe de la piel de leopardo" de los Nuer "considerado como neutral y ...(con) cierta santidad agregada a su persona</a:t>
            </a:r>
            <a:r>
              <a:rPr b="0" lang="es-ES" sz="2000" spc="-1" strike="noStrike">
                <a:solidFill>
                  <a:srgbClr val="ffffff"/>
                </a:solidFill>
                <a:latin typeface="Arial"/>
                <a:ea typeface="Arial"/>
              </a:rPr>
              <a:t>" actúa como un mediador aunque no tiene poder para hacer cumplir sus fallos y su autoridad es solamente religiosa. El veredicto se obtiene a través de la negociación y "</a:t>
            </a:r>
            <a:r>
              <a:rPr b="0" i="1" lang="es-ES" sz="2000" spc="-1" strike="noStrike">
                <a:solidFill>
                  <a:srgbClr val="ffffff"/>
                </a:solidFill>
                <a:latin typeface="Arial"/>
                <a:ea typeface="Arial"/>
              </a:rPr>
              <a:t>la discusión total y libre es aceptada porque ambas partes quieren el problema amigablemente resuelto</a:t>
            </a:r>
            <a:r>
              <a:rPr b="0" lang="es-ES" sz="2000" spc="-1" strike="noStrike">
                <a:solidFill>
                  <a:srgbClr val="ffffff"/>
                </a:solidFill>
                <a:latin typeface="Arial"/>
                <a:ea typeface="Arial"/>
              </a:rPr>
              <a:t>" (Evans-Pritchard 1978:16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ea typeface="Arial"/>
              </a:rPr>
              <a:t>Sir H.S. Maine: del estatus al contrato.</a:t>
            </a:r>
            <a:br>
              <a:rPr sz="3200"/>
            </a:br>
            <a:endParaRPr b="0" lang="en-US" sz="32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Arial"/>
              </a:rPr>
              <a:t>La metodología histórico comparativa de Maine en el estudio del derecho muestra la tendencia general de su tiempo a considerar lo legal como no existente en las sociedades de pequeña escala, enfatizando el apego rígido y automático a la costumbre.</a:t>
            </a:r>
            <a:endParaRPr b="0" lang="en-US" sz="2400" spc="-1" strike="noStrike">
              <a:solidFill>
                <a:srgbClr val="ffffff"/>
              </a:solidFill>
              <a:latin typeface="Tahoma"/>
            </a:endParaRPr>
          </a:p>
          <a:p>
            <a:pPr marL="312120" indent="-31212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Arial"/>
              </a:rPr>
              <a:t>En el argumento de Maine, basado en su expresión, </a:t>
            </a:r>
            <a:r>
              <a:rPr b="0" i="1" lang="es-ES" sz="2400" spc="-1" strike="noStrike">
                <a:solidFill>
                  <a:srgbClr val="ffffff"/>
                </a:solidFill>
                <a:latin typeface="Tahoma"/>
                <a:ea typeface="Arial"/>
              </a:rPr>
              <a:t>"desde el estatus al contrato</a:t>
            </a:r>
            <a:r>
              <a:rPr b="0" lang="es-ES" sz="2400" spc="-1" strike="noStrike">
                <a:solidFill>
                  <a:srgbClr val="ffffff"/>
                </a:solidFill>
                <a:latin typeface="Tahoma"/>
                <a:ea typeface="Arial"/>
              </a:rPr>
              <a:t>", el derecho no habría existido en las sociedades tempranas, solo la supeditación a las reglas del patriarca, donde el individuo lograba el estatus por su posición dentro del grupo parental, de tal forma que sus derechos y deberes estaban determinados por lo que la costumbre le prescribía</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misma función de mediador la encontramos en Hoebel y Llawellyn (1961:307) en la persona cuyos procedimientos lo convierten en el "hacedor de derecho" de los cheyenes. Hoebel (1967:111) describe a los "mensajeros" (monkalum) en acción entre los Ifugaos, como mediadores "en toda negociación interfamiliar" y los presenta como "un primer paso en el desarrollo de las instituciones judici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Los desafíos de la antropología del derecho</a:t>
            </a:r>
            <a:endParaRPr b="0" lang="en-US" sz="4400" spc="-1" strike="noStrike">
              <a:solidFill>
                <a:srgbClr val="ccffff"/>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n la necesidad de analizar cómo trabajan el derecho y la costumbre en una sociedad de pequeña escala, los antropólogos han tenido que usar métodos y conceptos en un permanente estado de discusión y desarrollo. Entre otros conceptos, el de derecho (o ley) y costumbre, han sido preferido para el análisis antropológico porque establecen el terreno básico para entender cualquier otro tipo de conceptos. Pero si se enfatiza a la costumbre en el estudio del derecho, el campo de usos y costumbres introducidos en el juego del análisis son amplios y cambiantes, algo que resulta mucho más notorio en el estudio de sociedades actuales debido a la tendencia modernizante que sobrellevan las pequeñas sociedades en su camino a convertirse en estados o convivir en comunidades políticas multiculturales al interior de los estados modernos.</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219320" y="528480"/>
            <a:ext cx="6038640" cy="4500720"/>
          </a:xfrm>
          <a:prstGeom prst="rect">
            <a:avLst/>
          </a:prstGeom>
          <a:ln w="0">
            <a:noFill/>
          </a:ln>
        </p:spPr>
      </p:pic>
      <p:sp>
        <p:nvSpPr>
          <p:cNvPr id="157" name=""/>
          <p:cNvSpPr/>
          <p:nvPr/>
        </p:nvSpPr>
        <p:spPr>
          <a:xfrm>
            <a:off x="0" y="5654520"/>
            <a:ext cx="9144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os Pueblos Indígenas del mundo, lograron la aprobación de la Declaración de los Derechos Indígenas de la ONU.</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Foto: Félix Mayt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Tahoma"/>
                <a:ea typeface="Arial"/>
              </a:rPr>
              <a:t>B I B L I O G R A F I A</a:t>
            </a:r>
            <a:r>
              <a:rPr b="0" lang="es-ES" sz="4400" spc="-1" strike="noStrike">
                <a:solidFill>
                  <a:srgbClr val="ccffff"/>
                </a:solidFill>
                <a:latin typeface="Tahoma"/>
                <a:ea typeface="Arial"/>
              </a:rPr>
              <a:t> </a:t>
            </a:r>
            <a:br>
              <a:rPr sz="4400"/>
            </a:b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Beattie, J. (1964)1976, OTHER CULTURES, RKP, London. En castellano OTRAS CULTURAS, F.C.E. Mex. 1980.</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Bohannan, Paul, 1957, JUSTICE AND JUDGEMENTE AMONG THE TIV, Oxford University Pres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Bohannan, Paul, 1967, LAW AND WARFARE, The American Museum of Natural History, Garden City, New York.</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Durkheim, Emile, (1933) 1969, DIVISION OF LABOUR IN SOCIETY, The Free Press, New York.</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En castellano: DE LA DIVISION DEL TRABAJO SOCIAL, Schapire Editor, Bs.A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Evans-Pritchard, E.E. 1978, THE NUER, Oxford University Press, Oxford. LOS NUER, Anagrama, Barcelona.</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Evans-Pritchard, E.E. 1976, WITCHCRAFT ORACLES AND MAGIC AMONG THE AZANDE, Clarendon Press, Oxford. En castellano: BRUJERIA, MAGIA Y ORACULOS ENTR LOS AZANDE, Anagrama, Barcelona 1976.</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Fortes, M. 1969, KINSHIP AND THE SOCIAL ORDER, Ch.9-11. "The Ashanti", RKP, London.</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Fortes, M. and Evans-Pritchard (Eds.) 1970. AFRICAN POLITICAL SYSTEMS, Oxford University Press, Oxford.</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Firth, R. (Ed.) 1957. MAN AND CULTURE, London.</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ulliver, P.H., 1968, SOCIAL CONTROL IN AN AFRICAN SOCIETY, RKP, London.</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uiddens, A. 1975, CAPITALISM AND MODERN SOCIAL THEORY, Cambridge University Press.</a:t>
            </a:r>
            <a:endParaRPr b="0" lang="en-US" sz="1400" spc="-1" strike="noStrike">
              <a:solidFill>
                <a:srgbClr val="ffffff"/>
              </a:solidFill>
              <a:latin typeface="Tahoma"/>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luckman, Max, 1967, JUDICIAL PROCESS AMONG THE BOROTSE, Manchester University Press, Manchester.</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luckmann, Max, 1966, IDEAS AN PROCEDURES IN AFRICAN CUSTOMNARY LAW, Oxford University Pres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luckman, Max, 1965, THE IDEAS EN BOROTSE JURISPRUDENCE, Yale University Press, New Haven.</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luckman, Max, (1965)1977, POLITICS LAW AND RITUAL IN TRIBAL SOSCIETY, Blackwell, Londre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Gluckman, Max, (1956)1973, CUSTOM AND CONFLICT IN AFRICA, Blackwell, Londre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Hamnett, I., 1977, SOCIAL ANTHROPOLOGY AND LAW, ASA 14, Academic Press, Londre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Hamnett, I., 1975, CHIEFTAINSHIP AND LEGITIMACY, RKP, Londre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Hunter and Whitter, 1977, ENCYCLOPEDIA OF ANTHROPOLOGY, Harper and Row, New York.</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Hoebel, Adamson. 1964, THE LAW OF PRIMITIVE MAN, Harvard University Press, Massachusets.</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Hoebel, Adamson, MAINE, HENRY SUMNER, en ENCICLOPEDIA INTERNACIOANAL DE CIENCIAS SOCIALES. McMillan-Aguilar.</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Kuper, Adam, 1973, ANTHROPOLOGISTS AND ANTHROPOLOGY, Penguin, London. En castellano: ANTOROPOLOGÍA Y ANTROPOLOGOS. LA ESCUELA BRITANICA: 1932-1972, Anagrama</a:t>
            </a:r>
            <a:endParaRPr b="0" lang="en-US" sz="1400" spc="-1" strike="noStrike">
              <a:solidFill>
                <a:srgbClr val="ffffff"/>
              </a:solidFill>
              <a:latin typeface="Tahoma"/>
            </a:endParaRPr>
          </a:p>
          <a:p>
            <a:pPr marL="315360" indent="-31536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Lloyd, L., 1971, INTRODUCTION TO JURISPRUDENCE, Stevens and Son, Londres.</a:t>
            </a:r>
            <a:endParaRPr b="0" lang="en-US" sz="1400" spc="-1" strike="noStrike">
              <a:solidFill>
                <a:srgbClr val="ffffff"/>
              </a:solidFill>
              <a:latin typeface="Tahoma"/>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Malinowski, B., 1978, CRIME AND CUSTOM IN SAVAGE SOCIETY, RKP, Londres. En Castllano, CRIMEN Y COSTUMBRE EN LA SOCIEDAD SALVAJE, Ariel, Barcelona 1982.</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Maine, S.H.1861, ANCIENT LAW, John Murray, London.</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Mair, Lucy, 1972, AN INTRODUCTION TO SOCIAL ANTHROPOLOGY, Oxford University Press. En castellano: INTRODUCCION A LA ANTROPOLOGIA SOCIAL, Ariel, Madrid, 1970.</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Mair, Lucy, 1977, PRIMITIVE GOVERNMENT, The Scholar Press, London.</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Mitchell, G.D.(Ed.), 1977, A DICTIONARY OF SOCIOLOGY, RKP, Lond.</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Nader, L., 1965, "An ethnography of Law", en AMERICAN ANTHROPOLOGIST, Vol.67, Nº6, Part 2.</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Nader, S.F. 1956, "Reason and Unreason in African Law", En AFRICA 26, Nº2, págs. 160-173.</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Pospisil, L. 1971, Anthropology of Law s/d.</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Pospisil, L. 1967, The Attributes of Law, en Bohannan, Paul (Ed.) LAW AND WARFARE, The American Museum of Natural History, Garden City, New York.</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Radcliffe-Brown, 1968, STRUCTURE AND FUNCTION IN PRIMITIVE SOCIETY, Cohen and West Ltd, London. En Castellano, ESTRUCTURA Y FUNCION EN LA SOCIEDAD PRIMITIVA, Anagrama, Barcelona.</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Shapera, I. 1965, A HANDBOOK OF TSWANA LAW AND CUSTOM, Oxford University Press, Oxford.</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Shapera, I. 1957, Malinowski's theory of law, en Firth (Ed.) MAN AND CULTURE, de 1957. </a:t>
            </a:r>
            <a:endParaRPr b="0" lang="en-US" sz="1400" spc="-1" strike="noStrike">
              <a:solidFill>
                <a:srgbClr val="ffffff"/>
              </a:solidFill>
              <a:latin typeface="Tahoma"/>
            </a:endParaRPr>
          </a:p>
          <a:p>
            <a:pPr marL="312120" indent="-312120">
              <a:lnSpc>
                <a:spcPct val="90000"/>
              </a:lnSpc>
              <a:spcBef>
                <a:spcPts val="3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rial"/>
              </a:rPr>
              <a:t>Stone, J. 1964, LEGAL SYSTEMS AND LAWYER'S REASONING, Stevens and Sons Ltd. London</a:t>
            </a:r>
            <a:endParaRPr b="0" lang="en-US" sz="1400" spc="-1" strike="noStrike">
              <a:solidFill>
                <a:srgbClr val="ffffff"/>
              </a:solidFill>
              <a:latin typeface="Tahoma"/>
            </a:endParaRPr>
          </a:p>
          <a:p>
            <a:pPr marL="312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ea typeface="Arial"/>
              </a:rPr>
              <a:t>E. Durkheim y el imperativo de la costumbre.</a:t>
            </a:r>
            <a:br>
              <a:rPr sz="3200"/>
            </a:br>
            <a:endParaRPr b="0" lang="en-US" sz="32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Arial"/>
              </a:rPr>
              <a:t>Durkheim estableció un patrón bastante rígido para la ley originada en la costumbre. En su concepción el orden social de las comunidades primitivas sujetas a la solidaridad mecánica se mantiene por medio de la sumisión habitual a reglas de comportamiento universalmente aceptadas. Esas reglas eran fuertemente mantenidas dentro de cada segmento social debido a que ellas eran el producto de las creencias compartidas por toda la comunidad. Según esto, las faltas a tales reglas eran tomadas como un ataque en contra de toda la comunidad y severamente penalizada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En las posturas de  Maine  y  Durkheim, se puede apreciar que los "pueblos primitivos" son considerados como respondiendo en forma rígida, automática y sumisa a la costumbre, al mismo tiempo que las infracciones a la ley son tomadas como intentos en contra del cuerpo total de costumbres contenidas en la conciencia colectiv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l replanteamiento de Malinowsky</a:t>
            </a:r>
            <a:endParaRPr b="0" lang="en-US" sz="4400" spc="-1" strike="noStrike">
              <a:solidFill>
                <a:srgbClr val="ccffff"/>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Malinowski rechazó las ideas de una sumisión automática a las costumbres y de la falta de un cuerpo de reglas de obligaciones mutuas que pudieran ser vistas como reglas legales.</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Comenzando por el continuo intercambio de alimentos y otras cosas, Malinowski rechazó la existencia de una especie "comunismo primitivo" basado en la costumb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l derecho entre los trobriandese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Arial"/>
              </a:rPr>
              <a:t>Malinowsky  afirmó que entre los Trobriandeses, la sociedad en que realizó su trabajo de campo, existían ciertos deberes o compromisos mutuamente obligantes, respetados y conscientemente percibidos, basados en la satisfacción de necesidades recíprocas. La Reciprocidad era el producto del interés personal  e incluso de la ambició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3657600" y="2514600"/>
            <a:ext cx="3540240" cy="1889280"/>
            <a:chOff x="3657600" y="2514600"/>
            <a:chExt cx="3540240" cy="1889280"/>
          </a:xfrm>
        </p:grpSpPr>
        <p:sp>
          <p:nvSpPr>
            <p:cNvPr id="99" name=""/>
            <p:cNvSpPr/>
            <p:nvPr/>
          </p:nvSpPr>
          <p:spPr>
            <a:xfrm>
              <a:off x="3657600" y="2514600"/>
              <a:ext cx="3301920" cy="188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9400" spc="-1" strike="noStrike">
                  <a:solidFill>
                    <a:srgbClr val="ffffff"/>
                  </a:solidFill>
                  <a:latin typeface="Times New Roman"/>
                </a:rPr>
                <a:t> </a:t>
              </a: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100" name=""/>
            <p:cNvSpPr/>
            <p:nvPr/>
          </p:nvSpPr>
          <p:spPr>
            <a:xfrm>
              <a:off x="6959520" y="2514600"/>
              <a:ext cx="238320" cy="1889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sp>
        <p:nvSpPr>
          <p:cNvPr id="101" name=""/>
          <p:cNvSpPr/>
          <p:nvPr/>
        </p:nvSpPr>
        <p:spPr>
          <a:xfrm>
            <a:off x="762120" y="2749680"/>
            <a:ext cx="207324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ítulo/Referencia:  </a:t>
            </a:r>
            <a:br>
              <a:rPr sz="1200"/>
            </a:br>
            <a:r>
              <a:rPr b="0" lang="en-US" sz="1200" spc="-1" strike="noStrike">
                <a:solidFill>
                  <a:srgbClr val="ffffff"/>
                </a:solidFill>
                <a:latin typeface="Times New Roman"/>
              </a:rPr>
              <a:t>"Brazaletes de nácar traídos desde Kitava".</a:t>
            </a:r>
            <a:br>
              <a:rPr sz="1200"/>
            </a:br>
            <a:r>
              <a:rPr b="1" lang="en-US" sz="1200" spc="-1" strike="noStrike">
                <a:solidFill>
                  <a:srgbClr val="ffffff"/>
                </a:solidFill>
                <a:latin typeface="Times New Roman"/>
              </a:rPr>
              <a:t>Autor:  </a:t>
            </a:r>
            <a:r>
              <a:rPr b="0" lang="en-US" sz="1200" spc="-1" strike="noStrike">
                <a:solidFill>
                  <a:srgbClr val="ffffff"/>
                </a:solidFill>
                <a:latin typeface="Times New Roman"/>
              </a:rPr>
              <a:t>Bronislaw Malinowski</a:t>
            </a:r>
            <a:br>
              <a:rPr sz="1200"/>
            </a:br>
            <a:r>
              <a:rPr b="0" lang="en-US" sz="1200" spc="-1" strike="noStrike">
                <a:solidFill>
                  <a:srgbClr val="ffffff"/>
                </a:solidFill>
                <a:latin typeface="Times New Roman"/>
              </a:rPr>
              <a:t>                                                                                     </a:t>
            </a:r>
            <a:br>
              <a:rPr sz="1200"/>
            </a:br>
            <a:r>
              <a:rPr b="1" lang="en-US" sz="1200" spc="-1" strike="noStrike">
                <a:solidFill>
                  <a:srgbClr val="ffffff"/>
                </a:solidFill>
                <a:latin typeface="Times New Roman"/>
              </a:rPr>
              <a:t>Imagen No.:  </a:t>
            </a:r>
            <a:r>
              <a:rPr b="0" lang="en-US" sz="1200" spc="-1" strike="noStrike">
                <a:solidFill>
                  <a:srgbClr val="ffffff"/>
                </a:solidFill>
                <a:latin typeface="Times New Roman"/>
              </a:rPr>
              <a:t>7853</a:t>
            </a:r>
            <a:br>
              <a:rPr sz="1200"/>
            </a:br>
            <a:r>
              <a:rPr b="1" lang="en-US" sz="1200" spc="-1" strike="noStrike">
                <a:solidFill>
                  <a:srgbClr val="ffffff"/>
                </a:solidFill>
                <a:latin typeface="Times New Roman"/>
              </a:rPr>
              <a:t>Código No.:  </a:t>
            </a:r>
            <a:r>
              <a:rPr b="0" lang="en-US" sz="1200" spc="-1" strike="noStrike">
                <a:solidFill>
                  <a:srgbClr val="ffffff"/>
                </a:solidFill>
                <a:latin typeface="Times New Roman"/>
              </a:rPr>
              <a:t>E06VIII24Malinowski-pl60</a:t>
            </a:r>
            <a:br>
              <a:rPr sz="1200"/>
            </a:br>
            <a:r>
              <a:rPr b="0" lang="en-US" sz="1200" spc="-1" strike="noStrike">
                <a:solidFill>
                  <a:srgbClr val="ffffff"/>
                </a:solidFill>
                <a:latin typeface="Times New Roman"/>
              </a:rPr>
              <a:t>                                                                                     </a:t>
            </a:r>
            <a:br>
              <a:rPr sz="1200"/>
            </a:br>
            <a:r>
              <a:rPr b="1" lang="en-US" sz="1200" spc="-1" strike="noStrike">
                <a:solidFill>
                  <a:srgbClr val="ffffff"/>
                </a:solidFill>
                <a:latin typeface="Times New Roman"/>
              </a:rPr>
              <a:t>Fecha aprox. de la toma:  </a:t>
            </a:r>
            <a:br>
              <a:rPr sz="1200"/>
            </a:br>
            <a:r>
              <a:rPr b="0" lang="en-US" sz="1200" spc="-1" strike="noStrike">
                <a:solidFill>
                  <a:srgbClr val="ffffff"/>
                </a:solidFill>
                <a:latin typeface="Times New Roman"/>
              </a:rPr>
              <a:t>Octubre, 1915</a:t>
            </a:r>
            <a:br>
              <a:rPr sz="1200"/>
            </a:br>
            <a:r>
              <a:rPr b="1" lang="en-US" sz="1200" spc="-1" strike="noStrike">
                <a:solidFill>
                  <a:srgbClr val="ffffff"/>
                </a:solidFill>
                <a:latin typeface="Times New Roman"/>
              </a:rPr>
              <a:t>Fecha de publicación:  </a:t>
            </a:r>
            <a:br>
              <a:rPr sz="1200"/>
            </a:br>
            <a:r>
              <a:rPr b="0" lang="en-US" sz="1200" spc="-1" strike="noStrike">
                <a:solidFill>
                  <a:srgbClr val="ffffff"/>
                </a:solidFill>
                <a:latin typeface="Times New Roman"/>
              </a:rPr>
              <a:t>August 29, 2006 </a:t>
            </a:r>
            <a:br>
              <a:rPr sz="1200"/>
            </a:br>
            <a:r>
              <a:rPr b="0" lang="en-US" sz="1200" spc="-1" strike="noStrike">
                <a:solidFill>
                  <a:srgbClr val="ffffff"/>
                </a:solidFill>
                <a:latin typeface="Times New Roman"/>
              </a:rPr>
              <a:t>                                                                                     </a:t>
            </a:r>
            <a:br>
              <a:rPr sz="1200"/>
            </a:br>
            <a:r>
              <a:rPr b="1" lang="en-US" sz="1200" spc="-1" strike="noStrike">
                <a:solidFill>
                  <a:srgbClr val="ffffff"/>
                </a:solidFill>
                <a:latin typeface="Times New Roman"/>
              </a:rPr>
              <a:t>Tamaño Original Archivo:  </a:t>
            </a:r>
            <a:r>
              <a:rPr b="0" lang="en-US" sz="1200" spc="-1" strike="noStrike">
                <a:solidFill>
                  <a:srgbClr val="ffffff"/>
                </a:solidFill>
                <a:latin typeface="Times New Roman"/>
              </a:rPr>
              <a:t>92.8 MB</a:t>
            </a:r>
            <a:br>
              <a:rPr sz="1200"/>
            </a:br>
            <a:r>
              <a:rPr b="1" lang="en-US" sz="1200" spc="-1" strike="noStrike">
                <a:solidFill>
                  <a:srgbClr val="ffffff"/>
                </a:solidFill>
                <a:latin typeface="Times New Roman"/>
              </a:rPr>
              <a:t>Medio Original:  </a:t>
            </a:r>
            <a:r>
              <a:rPr b="0" lang="en-US" sz="1200" spc="-1" strike="noStrike">
                <a:solidFill>
                  <a:srgbClr val="ffffff"/>
                </a:solidFill>
                <a:latin typeface="Times New Roman"/>
              </a:rPr>
              <a:t>Printout </a:t>
            </a:r>
            <a:endParaRPr b="0" lang="en-US" sz="1200" spc="-1" strike="noStrike">
              <a:solidFill>
                <a:srgbClr val="ffffff"/>
              </a:solidFill>
              <a:latin typeface="Times New Roman"/>
            </a:endParaRPr>
          </a:p>
        </p:txBody>
      </p:sp>
      <p:sp>
        <p:nvSpPr>
          <p:cNvPr id="102" name=""/>
          <p:cNvSpPr/>
          <p:nvPr/>
        </p:nvSpPr>
        <p:spPr>
          <a:xfrm>
            <a:off x="4038480" y="2268360"/>
            <a:ext cx="4572000" cy="4781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9300" spc="-1" strike="noStrike">
                <a:solidFill>
                  <a:srgbClr val="ffffff"/>
                </a:solidFill>
                <a:latin typeface="Times New Roman"/>
              </a:rPr>
              <a:t> </a:t>
            </a: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cc"/>
                </a:solidFill>
                <a:latin typeface="Times New Roman"/>
              </a:rPr>
              <a:t>Goodenough Island, Papua New Guinea</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otograph by David Olson</a:t>
            </a:r>
            <a:endParaRPr b="0" lang="en-US" sz="1400" spc="-1" strike="noStrike">
              <a:solidFill>
                <a:srgbClr val="ffffff"/>
              </a:solidFill>
              <a:latin typeface="Times New Roman"/>
            </a:endParaRPr>
          </a:p>
        </p:txBody>
      </p:sp>
      <p:pic>
        <p:nvPicPr>
          <p:cNvPr id="103" name="" descr="Trobriand Islands rain forests"/>
          <p:cNvPicPr/>
          <p:nvPr/>
        </p:nvPicPr>
        <p:blipFill>
          <a:blip r:embed="rId2"/>
          <a:stretch/>
        </p:blipFill>
        <p:spPr>
          <a:xfrm>
            <a:off x="3962520" y="2868480"/>
            <a:ext cx="4572000" cy="3075120"/>
          </a:xfrm>
          <a:prstGeom prst="rect">
            <a:avLst/>
          </a:prstGeom>
          <a:ln w="0">
            <a:noFill/>
          </a:ln>
        </p:spPr>
      </p:pic>
      <p:pic>
        <p:nvPicPr>
          <p:cNvPr id="104" name="" descr="Imagen descrita en esta pagina"/>
          <p:cNvPicPr/>
          <p:nvPr/>
        </p:nvPicPr>
        <p:blipFill>
          <a:blip r:embed="rId3"/>
          <a:stretch/>
        </p:blipFill>
        <p:spPr>
          <a:xfrm>
            <a:off x="838080" y="117360"/>
            <a:ext cx="4572000" cy="254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 name=""/>
          <p:cNvGrpSpPr/>
          <p:nvPr/>
        </p:nvGrpSpPr>
        <p:grpSpPr>
          <a:xfrm>
            <a:off x="0" y="-2941560"/>
            <a:ext cx="2768760" cy="3429000"/>
            <a:chOff x="0" y="-2941560"/>
            <a:chExt cx="2768760" cy="3429000"/>
          </a:xfrm>
        </p:grpSpPr>
        <p:sp>
          <p:nvSpPr>
            <p:cNvPr id="106" name=""/>
            <p:cNvSpPr/>
            <p:nvPr/>
          </p:nvSpPr>
          <p:spPr>
            <a:xfrm>
              <a:off x="0" y="-2941560"/>
              <a:ext cx="2768760" cy="297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6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7" name=""/>
            <p:cNvSpPr/>
            <p:nvPr/>
          </p:nvSpPr>
          <p:spPr>
            <a:xfrm>
              <a:off x="0" y="30240"/>
              <a:ext cx="27687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FP</a:t>
              </a:r>
              <a:endParaRPr b="0" lang="en-US" sz="2400" spc="-1" strike="noStrike">
                <a:solidFill>
                  <a:srgbClr val="ffffff"/>
                </a:solidFill>
                <a:latin typeface="Times New Roman"/>
              </a:endParaRPr>
            </a:p>
          </p:txBody>
        </p:sp>
      </p:grpSp>
      <p:sp>
        <p:nvSpPr>
          <p:cNvPr id="108" name=""/>
          <p:cNvSpPr/>
          <p:nvPr/>
        </p:nvSpPr>
        <p:spPr>
          <a:xfrm>
            <a:off x="0" y="4874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09" name=""/>
          <p:cNvSpPr/>
          <p:nvPr/>
        </p:nvSpPr>
        <p:spPr>
          <a:xfrm>
            <a:off x="838080" y="228600"/>
            <a:ext cx="2322720" cy="848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ESTIVAL SING-SING. </a:t>
            </a:r>
            <a:br>
              <a:rPr sz="1600"/>
            </a:br>
            <a:r>
              <a:rPr b="0" lang="en-US" sz="1600" spc="-1" strike="noStrike">
                <a:solidFill>
                  <a:srgbClr val="ffffff"/>
                </a:solidFill>
                <a:latin typeface="Times New Roman"/>
              </a:rPr>
              <a:t>Más de 70 tribus se han reunido en el </a:t>
            </a:r>
            <a:r>
              <a:rPr b="1" lang="en-US" sz="1600" spc="-1" strike="noStrike">
                <a:solidFill>
                  <a:srgbClr val="ffffff"/>
                </a:solidFill>
                <a:latin typeface="Times New Roman"/>
              </a:rPr>
              <a:t>Monte Hagen, en Papua Nueva Guinea</a:t>
            </a:r>
            <a:r>
              <a:rPr b="1" lang="en-US" sz="1600" spc="-1" strike="noStrike" u="sng">
                <a:solidFill>
                  <a:srgbClr val="99ccff"/>
                </a:solidFill>
                <a:uFillTx/>
                <a:latin typeface="Times New Roman"/>
                <a:hlinkClick r:id="rId2"/>
              </a:rPr>
              <a:t>,</a:t>
            </a:r>
            <a:r>
              <a:rPr b="0" lang="en-US" sz="1600" spc="-1" strike="noStrike">
                <a:solidFill>
                  <a:srgbClr val="ffffff"/>
                </a:solidFill>
                <a:latin typeface="Times New Roman"/>
              </a:rPr>
              <a:t> para celebrar el festival folclórico más importante del año. Durante una semana los participantes han olvidado sus conflictos para demostrar lo hondo de sus tradiciones mediante danzas y representaciones.</a:t>
            </a:r>
            <a:endParaRPr b="0" lang="en-US" sz="1600" spc="-1" strike="noStrike">
              <a:solidFill>
                <a:srgbClr val="ffffff"/>
              </a:solidFill>
              <a:latin typeface="Times New Roman"/>
            </a:endParaRPr>
          </a:p>
        </p:txBody>
      </p:sp>
      <p:pic>
        <p:nvPicPr>
          <p:cNvPr id="110" name="" descr=""/>
          <p:cNvPicPr/>
          <p:nvPr/>
        </p:nvPicPr>
        <p:blipFill>
          <a:blip r:embed="rId3"/>
          <a:stretch/>
        </p:blipFill>
        <p:spPr>
          <a:xfrm>
            <a:off x="4191120" y="914400"/>
            <a:ext cx="400032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3:54:30Z</dcterms:created>
  <dc:creator>Nancy Yañez</dc:creator>
  <dc:description/>
  <dc:language>en-US</dc:language>
  <cp:lastModifiedBy> Nancy Yáñez Fuenzalida</cp:lastModifiedBy>
  <dcterms:modified xsi:type="dcterms:W3CDTF">2009-03-09T03:57:47Z</dcterms:modified>
  <cp:revision>36</cp:revision>
  <dc:subject/>
  <dc:title>ANTROPOLOGIA JURIDICA</dc:title>
</cp:coreProperties>
</file>