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30A-9778-4204-BE1E-16072B02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C13-FB52-417D-8B48-65405FD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816-3068-423E-A744-32E2212B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5FB-D27D-4970-8E03-72A08CBD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0183-909D-4327-AD07-1E78A603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5CEB-9E13-4674-8CA5-2FF734E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B655-E8E1-40EE-A941-A4A769A8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A55D-4405-4874-8531-77945F03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7B0-68D5-4C3A-944E-DE828B8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AA82-098A-49A9-86DB-8562BDD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85A4-C573-4A86-8F13-BA91DA7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B6E-9E43-424D-88DE-DD78D89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953-7CD4-40AD-B1F1-E4B3A14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A284-50E4-4341-959E-9E94A9ED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B664-8F9B-4D02-AF0A-CFE149CB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24C6-0EFE-4C52-999F-790CE22C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D21C-61B9-4FF0-8320-AAF3ACDD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D29-44FC-4BFE-B4C7-70C28668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82C-AFFF-4B01-8885-CEEF02C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E2C-9C62-41DB-9F60-E1002865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191-548A-4C10-8B3B-483509BD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937-235C-4329-B4DF-30E9F9F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78B-B4A8-4EE3-8B6D-55A7DA2B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DAE-3100-471D-86A0-D474863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1C7-4997-4612-92AB-7390710BEC7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6ED2-6128-4449-9851-758C27DB3CB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Junta de Acreedor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II, Libro IV del Código de Comerc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00720" y="155736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I.- Síndico             III.-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ólo derecho a v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ir constancia de sus    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uede acompañarse por personas que necesariamente sean oí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Í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Salvo en que la ley re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expresamente su 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06064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221000"/>
            <a:ext cx="763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484280"/>
            <a:ext cx="727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4365720"/>
            <a:ext cx="2952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sistencia del síndico y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ario        Instru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ment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smas facult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vo limitación establecid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6160" y="3141720"/>
            <a:ext cx="266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rma del mand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utorizada por el secr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Tribunal o no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3068640"/>
            <a:ext cx="576360" cy="865080"/>
          </a:xfrm>
          <a:prstGeom prst="upDownArrow">
            <a:avLst>
              <a:gd name="adj1" fmla="val 50000"/>
              <a:gd name="adj2" fmla="val 2987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285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2924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5248440"/>
            <a:ext cx="817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hibición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o           para más de una junta (salvo reemplaz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ario           para más de un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87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734080"/>
            <a:ext cx="349236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692280"/>
            <a:ext cx="30956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213000"/>
            <a:ext cx="403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520" y="85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da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040" y="1773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fraccionar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70720" y="179244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r mandato por una 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3814200" y="1593720"/>
            <a:ext cx="216000" cy="21589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9040" y="33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erde derecho de asistir a reun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junta de acr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24360" y="342864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47880" y="328464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v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nte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645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1844640"/>
            <a:ext cx="576360" cy="289080"/>
          </a:xfrm>
          <a:prstGeom prst="leftRightArrow">
            <a:avLst>
              <a:gd name="adj1" fmla="val 50000"/>
              <a:gd name="adj2" fmla="val 396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06864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3760" y="4581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n valer una porción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días anteriores a la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720" y="479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SOLO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40680" y="5445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do por un comu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0" y="623736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cuerd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licitar designación a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587700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479736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840" y="5705640"/>
            <a:ext cx="343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aplica por liquid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sociedad, o particip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unidad exclusivamente for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dicho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Constitu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333360"/>
            <a:ext cx="2519640" cy="14400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421000"/>
            <a:ext cx="1727280" cy="1079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133720"/>
            <a:ext cx="2521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y 4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2720" y="2133720"/>
            <a:ext cx="2089080" cy="1366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con 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voto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/3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71640" y="249228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364500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5084640"/>
            <a:ext cx="2016000" cy="12258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nda 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440" y="3952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a 1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0520" y="4869000"/>
            <a:ext cx="16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4797360"/>
            <a:ext cx="223920" cy="1727280"/>
          </a:xfrm>
          <a:custGeom>
            <a:avLst/>
            <a:gdLst>
              <a:gd name="textAreaLeft" fmla="*/ 0 w 223920"/>
              <a:gd name="textAreaRight" fmla="*/ 80640 w 223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479736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229360"/>
            <a:ext cx="1438200" cy="50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528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5084640"/>
            <a:ext cx="154800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sin quór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         sede del tribu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ad hoc que el tribunal des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ide             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stro de fe           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igna el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8000" y="62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69228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7893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234936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1920" y="2708280"/>
            <a:ext cx="2450160" cy="9169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ben el act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ja constancia de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tado en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01200" y="5321160"/>
            <a:ext cx="315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r a libro e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levado por el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grega a los autos c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ír cuenta que presenta el síndico provisional del estado de negocios del fallido, activo y pasivo, y de la labor que re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tificación del síndico provisional, titular y suplente, o nombran reemplazante Excepción: NO hay bienes o de poca monta (-1000 UF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alización su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ordar día y hora de reuniones ordinarias.  Mínimo una al mes. Primera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 y 45 días corridos, salvo que la junta y síndico acuerden or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ignar presidente y secretario para otras juntas (titular y sup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lquier otro acuerdo necesario para el más adecuado cumplimiento de las funciones que a la junta y al síndico comp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2421000"/>
            <a:ext cx="2232000" cy="936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0240" y="1890720"/>
            <a:ext cx="506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orme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de realización d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 los gastos de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la Qui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27280" y="206064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16360" y="270792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3213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82080" y="4221000"/>
            <a:ext cx="419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justarse a las instrucciones gen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Superintendencia de Quie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03440" y="5373720"/>
            <a:ext cx="57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 conveniente propone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a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 giro total o par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ajenación de todo o parte del activo como conju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357720"/>
            <a:ext cx="1008360" cy="22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240" y="35244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, día, hora, acordado en la primera junta (constitu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órum de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5% de créditos con derecho a voto. (102 inc.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uer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que sumen mayoría absoluta de los créditos presentes en la reunión con derecho a v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lvo que la ley exija quórum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ate         decide quien preside la reun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eside y ministro de f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Personas señaladas en la junta constit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vanta ac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 tra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rgano de la Quie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iber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er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s en sala legalmente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ocer y pronunciarse sob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forme periódico del sín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siciones que pres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ormular propos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doptar acuerdos que estime neces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índico lee el 21 bis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e exige o no al síndico garantía de fiel desempeño de su carg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lase y mo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extra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uán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z           de o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eti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acuerde en junt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7280" y="2224080"/>
            <a:ext cx="34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¼ del pasiv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2360" y="198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256536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Requisitos para su autoriz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ocatorio por aviso en el Diario Oficial (al menos 7 días corridos de anticip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tación la hace el sín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cia en el libro especial de acta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levado por el sín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scribe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residente, secretario, el o acreedores designados para l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de ellas, autorizadas por el secretario, se agregará a los autos dentro de tercero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ntregan a los acreedores cuando lo solic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596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de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3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34936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Revocación del sínd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en j.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Mayoría absoluta del pasivo con   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ignación de un síndico nuev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rt. 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378936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Tip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Quiénes concurren a las juntas de acr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.- Acreedor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1) Con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édito reconocido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verificado crédi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reconoci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udiencia del art. 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udiencia del 10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960" y="1125360"/>
            <a:ext cx="36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 hábil que no sea sáb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rior al señalado para la 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enza a funcionar e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1413000"/>
            <a:ext cx="576000" cy="287280"/>
          </a:xfrm>
          <a:prstGeom prst="leftRightArrow">
            <a:avLst>
              <a:gd name="adj1" fmla="val 50000"/>
              <a:gd name="adj2" fmla="val 3991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70828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2320" y="357336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 informa sobre la verosimi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monto de créditos no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2320" y="90792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verifican 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el segundo día hábil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a sábado anterior a la fec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ésta aud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9760" y="5157720"/>
            <a:ext cx="526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la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única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antecedentes dispon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réditos no reconocidos (impugnados o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por derecho a vo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392000" y="873000"/>
            <a:ext cx="503280" cy="3024360"/>
          </a:xfrm>
          <a:custGeom>
            <a:avLst/>
            <a:gdLst>
              <a:gd name="textAreaLeft" fmla="*/ 0 w 503280"/>
              <a:gd name="textAreaRight" fmla="*/ 181800 w 503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J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256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084640"/>
            <a:ext cx="71280" cy="15130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880" y="53737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ecia 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con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Concurren a la audi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2997360"/>
            <a:ext cx="287280" cy="136836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0" y="33051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QU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fec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imiento exclusivo para la ju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impugnar  los créditos y preferencias: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 u="sng">
                <a:solidFill>
                  <a:srgbClr val="330066"/>
                </a:solidFill>
                <a:uFillTx/>
                <a:latin typeface="Arial"/>
              </a:rPr>
              <a:t>2) Acreedores sin derecho a vo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concur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derecho a 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ancia de observacione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fir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grega al acta 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2:18:24Z</dcterms:created>
  <dc:creator>Valentina</dc:creator>
  <dc:description/>
  <dc:language>en-US</dc:language>
  <cp:lastModifiedBy>Valentina</cp:lastModifiedBy>
  <dcterms:modified xsi:type="dcterms:W3CDTF">2009-10-07T07:02:51Z</dcterms:modified>
  <cp:revision>23</cp:revision>
  <dc:subject/>
  <dc:title>Junta de Acreedores</dc:title>
</cp:coreProperties>
</file>