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EC3-5BE5-4AC3-98DC-12A44A6F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B91-7044-4891-A02E-48D5554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4B3-083A-49F5-B817-B8589907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3B2-94FE-4D5A-BD58-51C6C487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C87-5E93-4767-B149-ADBF52C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661-8DC1-46BF-B65C-CB4D0B59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E01-A193-4907-835B-5C13976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BCF-54EF-42DE-94FA-26EEB3E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B78-2F1C-467A-B33A-A5F07F09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988-A3E5-474A-ACD6-BBA8269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152-D06C-42B2-9DE9-23D3CD8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932-4F0F-438E-AC41-825B0FB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332-900E-4CE1-B5C8-00757F79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 DE  QUIEBRAS 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052640"/>
            <a:ext cx="82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JETOS ACTIVO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1.  Cualquier acreedor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aunque su crédito no sea exigible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 (Art. 43 Nº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uede ser un solo acree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¿Conveniencia para uno solo en vez de ejecutar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podrá ser declarado en quiebra aunque tenga un solo acreedor, siempre que concurran los demás requisitos leg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uga sostiene que esta norma entra en conflictos con los artículos 102, 108 Nº2 y Nº4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T.I pp 23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2.  El propio deudor.  (Art. 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al solicitar su quiebra deberá presentar por duplic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Bienes excluido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lación de juicios 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do de las deudas con indicación de acreedores y naturale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 los tít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moria de las causas del mal estado de sus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Ultimo balance si lleva contabilidad compl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a:  Según Puga el verdadero sujeto activo de la quiebra está constituido por los “acreedores concursale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os son en cuanto a colectividad el sujeto activo de la quiebr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ctos de voluntad que afectan al juicio principal son materia exclusiva de decisión de la colectividad: junta de acreedor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770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ctos que miran al interés privado del acreedor son de su sola dec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T.I  pp 2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JETOS PASIVO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1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Regla general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: Cualquier deudor en estado de insolvencia, en que se cumplan los requisit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2.  Caso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Sucesión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F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Corporación de derech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Mujer ca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Sociedad conyu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Separada totalmente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Separada parcialmente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Patrimonio reser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19700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Menor adu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Demás inca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Banc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Compañías de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E.I.R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EL CASO DEL DEUDOR ENCUB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DIFERENCIA ENTRE DEUDOR COMUN Y DEUDOR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16T13:18:00Z</dcterms:modified>
  <cp:revision>101</cp:revision>
  <dc:subject/>
  <dc:title>Diapositiva 1</dc:title>
</cp:coreProperties>
</file>