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A06-C5D5-4079-BAA7-F754F49B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1A8-F290-40E2-B373-E7F9C10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E68-1FE7-4E9C-AA95-56B67F94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056-0CAF-412E-8FE7-439AC1D5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6A2-A4F6-485B-856F-33274879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0B0-EB75-4627-8EF7-354B9A1C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AB6-013D-4067-ABDC-8CF608E7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218-0274-415C-8389-FFD64560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0C8-615D-4DC3-BAF3-A85A158C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E8B-B4F5-4229-85D5-093D25E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517-385B-4676-AEF0-53237C28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D57-1FCF-41A2-91B1-42D96EF6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D287-1994-4A95-9C50-3EEADD7FC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JUICIO  DE  QUIEBRAS 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eptiem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052640"/>
            <a:ext cx="820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JETOS ACTIVOS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.1.  Cualquier acreedor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aunque su crédito no sea exigible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. (Art. 43 Nº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uede ser un solo acreedo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¿Conveniencia para uno solo en vez de ejecutar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udor podrá ser declarado en quiebra aunque tenga un solo acreedor, siempre que concurran los demás requisitos leg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Art. 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uga sostiene que esta norma entra en conflictos con los artículos 102, 108 Nº2 y Nº4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Puga T.I pp 23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.2.  El propio deudor.  (Art. 4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udor al solicitar su quiebra deberá presentar por duplic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ventario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Bienes excluidos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lación de juicios 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do de las deudas con indicación de acreedores y naturale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 los títu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emoria de las causas del mal estado de sus nego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Ultimo balance si lleva contabilidad compl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a:  Según Puga el verdadero sujeto activo de la quiebra está constituido por los “acreedores concursale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os son en cuanto a colectividad el sujeto activo de la quiebr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actos de voluntad que afectan al juicio principal son materia exclusiva de decisión de la colectividad: junta de acreedore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981000"/>
            <a:ext cx="770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actos que miran al interés privado del acreedor son de su sola dec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Puga T.I  pp 2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JETOS PASIVOS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1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Regla general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: Cualquier deudor en estado de insolvencia, en que se cumplan los requisitos establecidos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2.  Caso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Comun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Sucesión del 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F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Corporación de derech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Mujer cas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 Sociedad conyu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 Separada totalmente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 Separada parcialmente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 Patrimonio reser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19700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Menor adu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Demás inca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Soci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Banc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Compañías de 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E.I.R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EL CASO DEL DEUDOR ENCUBI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DIFERENCIA ENTRE DEUDOR COMUN Y DEUDOR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9-16T13:18:00Z</dcterms:modified>
  <cp:revision>101</cp:revision>
  <dc:subject/>
  <dc:title>Diapositiva 1</dc:title>
</cp:coreProperties>
</file>