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BB920-8257-482C-946A-DF747154A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73D3C-E856-4F93-8F65-042BA89F5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E3BC5-2F0E-4AB1-8988-4F1F04145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8C428-F84D-4168-9291-3C82E33A0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BEBCD-3EA1-4A48-8B72-D2DC1228D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F47FC-2B2F-4994-9E1D-6AAEA67C9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F6F24-9764-42A8-878F-A8E82D6AF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5CB83-E605-4B87-99AD-223257B31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4FA72-554A-48B5-98F6-ACBA7E9D6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D132D-B2B1-4148-AE5B-E9482284F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F6267-F093-4798-99FE-2BD23E8FB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13EF6-96D6-4454-BDD3-C30D64396E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783BC-B548-45F1-99D8-3C075D4DF49D}" type="slidenum">
              <a:rPr b="0" lang="en-US"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Text Box 2"/>
          <p:cNvSpPr/>
          <p:nvPr/>
        </p:nvSpPr>
        <p:spPr>
          <a:xfrm>
            <a:off x="1566720" y="241200"/>
            <a:ext cx="45471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Universidad de Chile </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Facultad de Derecho</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Derecho Comercial </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Profesor Sr. José Luis López Blanco</a:t>
            </a:r>
            <a:endParaRPr b="0" lang="en-US" sz="2000" spc="-1" strike="noStrike">
              <a:solidFill>
                <a:srgbClr val="000000"/>
              </a:solidFill>
              <a:latin typeface="Verdana"/>
            </a:endParaRPr>
          </a:p>
        </p:txBody>
      </p:sp>
      <p:pic>
        <p:nvPicPr>
          <p:cNvPr id="42" name="Picture 3" descr="fondouch"/>
          <p:cNvPicPr/>
          <p:nvPr/>
        </p:nvPicPr>
        <p:blipFill>
          <a:blip r:embed="rId2"/>
          <a:stretch/>
        </p:blipFill>
        <p:spPr>
          <a:xfrm>
            <a:off x="1619280" y="1844640"/>
            <a:ext cx="6016680" cy="2840040"/>
          </a:xfrm>
          <a:prstGeom prst="rect">
            <a:avLst/>
          </a:prstGeom>
          <a:ln w="0">
            <a:noFill/>
          </a:ln>
        </p:spPr>
      </p:pic>
      <p:graphicFrame>
        <p:nvGraphicFramePr>
          <p:cNvPr id="43" name="Object 4"/>
          <p:cNvGraphicFramePr/>
          <p:nvPr/>
        </p:nvGraphicFramePr>
        <p:xfrm>
          <a:off x="304920" y="304920"/>
          <a:ext cx="698400" cy="1371600"/>
        </p:xfrm>
        <a:graphic>
          <a:graphicData uri="http://schemas.openxmlformats.org/presentationml/2006/ole">
            <p:oleObj r:id="rId3" spid="">
              <p:embed/>
              <p:pic>
                <p:nvPicPr>
                  <p:cNvPr id="44" name="Object 4" descr=""/>
                  <p:cNvPicPr/>
                  <p:nvPr/>
                </p:nvPicPr>
                <p:blipFill>
                  <a:blip r:embed="rId4"/>
                  <a:stretch/>
                </p:blipFill>
                <p:spPr>
                  <a:xfrm>
                    <a:off x="304920" y="304920"/>
                    <a:ext cx="698400" cy="1371600"/>
                  </a:xfrm>
                  <a:prstGeom prst="rect">
                    <a:avLst/>
                  </a:prstGeom>
                  <a:ln w="0">
                    <a:noFill/>
                  </a:ln>
                </p:spPr>
              </p:pic>
            </p:oleObj>
          </a:graphicData>
        </a:graphic>
      </p:graphicFrame>
      <p:sp>
        <p:nvSpPr>
          <p:cNvPr id="45" name="Text Box 5"/>
          <p:cNvSpPr/>
          <p:nvPr/>
        </p:nvSpPr>
        <p:spPr>
          <a:xfrm>
            <a:off x="900000" y="4941720"/>
            <a:ext cx="7345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33cc"/>
                </a:solidFill>
                <a:latin typeface="Verdana"/>
              </a:rPr>
              <a:t>Síndicos de quiebra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Times New Roman"/>
              </a:rPr>
              <a:t>Atribuciones y deberes</a:t>
            </a:r>
            <a:br>
              <a:rPr sz="4000"/>
            </a:br>
            <a:r>
              <a:rPr b="0" lang="es-ES" sz="4000" spc="-1" strike="noStrike">
                <a:solidFill>
                  <a:srgbClr val="3333cc"/>
                </a:solidFill>
                <a:latin typeface="Times New Roman"/>
              </a:rPr>
              <a:t>(art. 27L.Q)</a:t>
            </a:r>
            <a:endParaRPr b="0" lang="en-US" sz="40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1- Resguardar dichos intereses y derechos, en el juicio y fuera de él.</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2- Hacer las publicaciones e inscripciones  de las declaraciones de quiebra.</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3- Exigir del fallido que le suministre información y le entregue sus libros, papeles y documentos.</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4- Cerrar los libros de comercio del fallido.</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5- Abrir la correspondencia  y retener las cartas y documentos del fallido que tengan que ver con la quieb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Times New Roman"/>
              </a:rPr>
              <a:t>Atribuciones y deberes</a:t>
            </a:r>
            <a:br>
              <a:rPr sz="4000"/>
            </a:br>
            <a:r>
              <a:rPr b="0" lang="es-ES" sz="4000" spc="-1" strike="noStrike">
                <a:solidFill>
                  <a:srgbClr val="3333cc"/>
                </a:solidFill>
                <a:latin typeface="Times New Roman"/>
              </a:rPr>
              <a:t>(art. 27L.Q)</a:t>
            </a:r>
            <a:endParaRPr b="0" lang="en-US" sz="40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6- Proponer la fecha de cesación de pagos.</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7- Recibirse bajo inventario de los bienes de la quiebra y administrarlos.</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8-Continuar provisionalmente el giro del establecimiento del fallido.</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14-Exigir rendición de cuentas de cualquiera que haya administrado los bienes del fallido.</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23- Ejercer las demás facultades y cumplir las demás obligaciones que la ley desig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Times New Roman"/>
              </a:rPr>
              <a:t>Obligación de rendir cuenta.</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Times New Roman"/>
              </a:rPr>
              <a:t>Cuenta parcial.</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Times New Roman"/>
              </a:rPr>
              <a:t>Cuenta definitiv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Times New Roman"/>
              </a:rPr>
              <a:t>Otros casos en que se debe rendir cuenta definitiva.</a:t>
            </a:r>
            <a:endParaRPr b="0" lang="en-US" sz="40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imes New Roman"/>
              </a:rPr>
              <a:t>Cuando hay sobreseimiento definitivo ordinario.</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imes New Roman"/>
              </a:rPr>
              <a:t>En el caso de que haya una cláusula provisoria  de la quiebra mediante el sobreseimiento temporal </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imes New Roman"/>
              </a:rPr>
              <a:t>O por cualquier motivo por el que deba cesar anticipadamente en su lab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Times New Roman"/>
              </a:rPr>
              <a:t>Procedimiento.</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Presentada ante el tribunal: el juez debe dar traslado </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Los que tienen un plazo de 30 días para objetarlo. </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De no haber impugnación…</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 </a:t>
            </a:r>
            <a:r>
              <a:rPr b="0" lang="es-ES" sz="2800" spc="-1" strike="noStrike">
                <a:solidFill>
                  <a:srgbClr val="3333cc"/>
                </a:solidFill>
                <a:latin typeface="Times New Roman"/>
              </a:rPr>
              <a:t>De haber observaciones a la memoria… </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En ambos casos, las actuaciones deben ser fundadas. </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De mantenerse la impugnación…</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Times New Roman"/>
              </a:rPr>
              <a:t>Causales de cesación en el cargo</a:t>
            </a:r>
            <a:br>
              <a:rPr sz="4000"/>
            </a:br>
            <a:r>
              <a:rPr b="0" lang="es-ES" sz="4000" spc="-1" strike="noStrike">
                <a:solidFill>
                  <a:srgbClr val="3333cc"/>
                </a:solidFill>
                <a:latin typeface="Times New Roman"/>
              </a:rPr>
              <a:t>(art. 32 L.Q)</a:t>
            </a:r>
            <a:endParaRPr b="0" lang="en-US" sz="40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Haber dado cumplimiento a su cometido.</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Por no haberse confirmado la designación provisional en la junta constitutiva.</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Revocación de la junta de acreedores.</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Por renuncia.</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Por haber dejado de ser parte de la nómina nacional de síndicos Por inhabilidades sobrevinientes del art. 17.</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Remoción hecha por el juez de quiebras.</a:t>
            </a:r>
            <a:endParaRPr b="0" lang="en-US" sz="2800" spc="-1" strike="noStrike">
              <a:solidFill>
                <a:srgbClr val="000000"/>
              </a:solidFill>
              <a:latin typeface="Times New Roman"/>
            </a:endParaRPr>
          </a:p>
          <a:p>
            <a:pPr marL="343080" indent="-343080">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Por causa de muer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Times New Roman"/>
              </a:rPr>
              <a:t>Responsabilidad y remuneración.</a:t>
            </a:r>
            <a:br>
              <a:rPr sz="4000"/>
            </a:br>
            <a:endParaRPr b="0" lang="en-US" sz="40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imes New Roman"/>
              </a:rPr>
              <a:t>El síndico responde tanto civil como penalmen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imes New Roman"/>
              </a:rPr>
              <a:t>Esta fijada por ley en los art. 33 a 37, y es proporcional al monto de los fondos que se repart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7" name="Text Box 3"/>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Text Box 5"/>
          <p:cNvSpPr/>
          <p:nvPr/>
        </p:nvSpPr>
        <p:spPr>
          <a:xfrm>
            <a:off x="539640" y="1125360"/>
            <a:ext cx="7777440" cy="45972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Concepto:</a:t>
            </a:r>
            <a:endParaRPr b="0" lang="en-US" sz="2400" spc="-1" strike="noStrike">
              <a:solidFill>
                <a:srgbClr val="000000"/>
              </a:solidFill>
              <a:latin typeface="Verdana"/>
            </a:endParaRPr>
          </a:p>
        </p:txBody>
      </p:sp>
      <p:sp>
        <p:nvSpPr>
          <p:cNvPr id="49" name="Rectangle 6"/>
          <p:cNvSpPr/>
          <p:nvPr/>
        </p:nvSpPr>
        <p:spPr>
          <a:xfrm>
            <a:off x="539640" y="2205000"/>
            <a:ext cx="8209080" cy="137376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Rectangle 8"/>
          <p:cNvSpPr/>
          <p:nvPr/>
        </p:nvSpPr>
        <p:spPr>
          <a:xfrm>
            <a:off x="684360" y="1844640"/>
            <a:ext cx="8001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Los profesores Gómez  e Eyzaguirre, sostienen que los síndicos de quiebras son: “profesionales independientes, los cuales deben integrar una nómina nacional que se forma por decreto supremo.  Profesionales que cumplen con una función de asegurar en beneficio común el  producto de la realización de los bienes de la masa, no siempre coincidentes, de acreedores y deudor</a:t>
            </a:r>
            <a:r>
              <a:rPr b="1" lang="es-E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base">
                                        <p:cTn id="7"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Line 2"/>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2" name="Text Box 3"/>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Text Box 5"/>
          <p:cNvSpPr/>
          <p:nvPr/>
        </p:nvSpPr>
        <p:spPr>
          <a:xfrm>
            <a:off x="539640" y="1125360"/>
            <a:ext cx="7777440" cy="9244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Verdana"/>
            </a:endParaRPr>
          </a:p>
        </p:txBody>
      </p:sp>
      <p:sp>
        <p:nvSpPr>
          <p:cNvPr id="54" name="Rectangle 8"/>
          <p:cNvSpPr/>
          <p:nvPr/>
        </p:nvSpPr>
        <p:spPr>
          <a:xfrm>
            <a:off x="539640" y="1197000"/>
            <a:ext cx="82472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Naturaleza jurídica.</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Profesor Puga: Doble naturaleza Jurídica</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1º Órgano de la quiebra.</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2º Funcionario público.</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Profesor Puelma: Representante lega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53">
                                            <p:txEl>
                                              <p:pRg st="1" end="1"/>
                                            </p:txEl>
                                          </p:spTgt>
                                        </p:tgtEl>
                                        <p:attrNameLst>
                                          <p:attrName>style.visibility</p:attrName>
                                        </p:attrNameLst>
                                      </p:cBhvr>
                                      <p:to>
                                        <p:strVal val="visible"/>
                                      </p:to>
                                    </p:set>
                                    <p:anim calcmode="lin" valueType="num">
                                      <p:cBhvr additive="base">
                                        <p:cTn id="15"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54">
                                            <p:txEl>
                                              <p:pRg st="0" end="0"/>
                                            </p:txEl>
                                          </p:spTgt>
                                        </p:tgtEl>
                                        <p:attrNameLst>
                                          <p:attrName>style.visibility</p:attrName>
                                        </p:attrNameLst>
                                      </p:cBhvr>
                                      <p:to>
                                        <p:strVal val="visible"/>
                                      </p:to>
                                    </p:set>
                                    <p:animEffect filter="diamond(in)" transition="in">
                                      <p:cBhvr additive="repl">
                                        <p:cTn id="21" dur="2000"/>
                                        <p:tgtEl>
                                          <p:spTgt spid="54">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54">
                                            <p:txEl>
                                              <p:pRg st="3" end="3"/>
                                            </p:txEl>
                                          </p:spTgt>
                                        </p:tgtEl>
                                        <p:attrNameLst>
                                          <p:attrName>style.visibility</p:attrName>
                                        </p:attrNameLst>
                                      </p:cBhvr>
                                      <p:to>
                                        <p:strVal val="visible"/>
                                      </p:to>
                                    </p:set>
                                    <p:animEffect filter="diamond(in)" transition="in">
                                      <p:cBhvr additive="repl">
                                        <p:cTn id="26" dur="2000"/>
                                        <p:tgtEl>
                                          <p:spTgt spid="54">
                                            <p:txEl>
                                              <p:pRg st="3" end="3"/>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54">
                                            <p:txEl>
                                              <p:pRg st="4" end="4"/>
                                            </p:txEl>
                                          </p:spTgt>
                                        </p:tgtEl>
                                        <p:attrNameLst>
                                          <p:attrName>style.visibility</p:attrName>
                                        </p:attrNameLst>
                                      </p:cBhvr>
                                      <p:to>
                                        <p:strVal val="visible"/>
                                      </p:to>
                                    </p:set>
                                    <p:animEffect filter="diamond(in)" transition="in">
                                      <p:cBhvr additive="repl">
                                        <p:cTn id="31" dur="2000"/>
                                        <p:tgtEl>
                                          <p:spTgt spid="54">
                                            <p:txEl>
                                              <p:pRg st="4" end="4"/>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54">
                                            <p:txEl>
                                              <p:pRg st="5" end="5"/>
                                            </p:txEl>
                                          </p:spTgt>
                                        </p:tgtEl>
                                        <p:attrNameLst>
                                          <p:attrName>style.visibility</p:attrName>
                                        </p:attrNameLst>
                                      </p:cBhvr>
                                      <p:to>
                                        <p:strVal val="visible"/>
                                      </p:to>
                                    </p:set>
                                    <p:animEffect filter="diamond(in)" transition="in">
                                      <p:cBhvr additive="repl">
                                        <p:cTn id="36" dur="2000"/>
                                        <p:tgtEl>
                                          <p:spTgt spid="54">
                                            <p:txEl>
                                              <p:pRg st="5" end="5"/>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54">
                                            <p:txEl>
                                              <p:pRg st="6" end="6"/>
                                            </p:txEl>
                                          </p:spTgt>
                                        </p:tgtEl>
                                        <p:attrNameLst>
                                          <p:attrName>style.visibility</p:attrName>
                                        </p:attrNameLst>
                                      </p:cBhvr>
                                      <p:to>
                                        <p:strVal val="visible"/>
                                      </p:to>
                                    </p:set>
                                    <p:animEffect filter="diamond(in)" transition="in">
                                      <p:cBhvr additive="repl">
                                        <p:cTn id="41" dur="2000"/>
                                        <p:tgtEl>
                                          <p:spTgt spid="54">
                                            <p:txEl>
                                              <p:pRg st="6" end="6"/>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54">
                                            <p:txEl>
                                              <p:pRg st="7" end="7"/>
                                            </p:txEl>
                                          </p:spTgt>
                                        </p:tgtEl>
                                        <p:attrNameLst>
                                          <p:attrName>style.visibility</p:attrName>
                                        </p:attrNameLst>
                                      </p:cBhvr>
                                      <p:to>
                                        <p:strVal val="visible"/>
                                      </p:to>
                                    </p:set>
                                    <p:animEffect filter="diamond(in)" transition="in">
                                      <p:cBhvr additive="repl">
                                        <p:cTn id="46" dur="2000"/>
                                        <p:tgtEl>
                                          <p:spTgt spid="54">
                                            <p:txEl>
                                              <p:pRg st="7" end="7"/>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54">
                                            <p:txEl>
                                              <p:pRg st="10" end="10"/>
                                            </p:txEl>
                                          </p:spTgt>
                                        </p:tgtEl>
                                        <p:attrNameLst>
                                          <p:attrName>style.visibility</p:attrName>
                                        </p:attrNameLst>
                                      </p:cBhvr>
                                      <p:to>
                                        <p:strVal val="visible"/>
                                      </p:to>
                                    </p:set>
                                    <p:animEffect filter="diamond(in)" transition="in">
                                      <p:cBhvr additive="repl">
                                        <p:cTn id="51" dur="2000"/>
                                        <p:tgtEl>
                                          <p:spTgt spid="5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Times New Roman"/>
              </a:rPr>
              <a:t>Desarrollo Histórico</a:t>
            </a:r>
            <a:br>
              <a:rPr sz="4000"/>
            </a:br>
            <a:endParaRPr b="0" lang="en-US" sz="40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imes New Roman"/>
              </a:rPr>
              <a:t>1º etapa, Primer C.Co. 1885</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imes New Roman"/>
              </a:rPr>
              <a:t>2º etapa, Ley 4.558.</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imes New Roman"/>
              </a:rPr>
              <a:t>3º etapa Ley 18.175.</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imes New Roman"/>
              </a:rPr>
              <a:t>4º etapa Ley 20.08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Times New Roman"/>
              </a:rPr>
              <a:t>Requisitos y nombramiento de los síndicos.</a:t>
            </a:r>
            <a:br>
              <a:rPr sz="4000"/>
            </a:br>
            <a:endParaRPr b="0" lang="en-US" sz="4000" spc="-1" strike="noStrike">
              <a:solidFill>
                <a:srgbClr val="000000"/>
              </a:solidFill>
              <a:latin typeface="Times New Roman"/>
            </a:endParaRPr>
          </a:p>
        </p:txBody>
      </p:sp>
      <p:sp>
        <p:nvSpPr>
          <p:cNvPr id="58" name="PlaceHolder 2"/>
          <p:cNvSpPr>
            <a:spLocks noGrp="1"/>
          </p:cNvSpPr>
          <p:nvPr>
            <p:ph/>
          </p:nvPr>
        </p:nvSpPr>
        <p:spPr>
          <a:xfrm>
            <a:off x="685800" y="1413000"/>
            <a:ext cx="7631280" cy="468288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Requisitos para ser síndico: Art. 16 L.Q.</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Requisitos para ingresar a la nómina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   </a:t>
            </a:r>
            <a:r>
              <a:rPr b="0" lang="es-ES" sz="2800" spc="-1" strike="noStrike">
                <a:solidFill>
                  <a:srgbClr val="3333cc"/>
                </a:solidFill>
                <a:latin typeface="Times New Roman"/>
              </a:rPr>
              <a:t>nacional de síndicos: Art 18.</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Quienes proponen a los síndicos:</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Peticiónate de la quiebra (art.44 L.Q.),</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 </a:t>
            </a:r>
            <a:r>
              <a:rPr b="0" lang="es-ES" sz="2800" spc="-1" strike="noStrike">
                <a:solidFill>
                  <a:srgbClr val="3333cc"/>
                </a:solidFill>
                <a:latin typeface="Times New Roman"/>
              </a:rPr>
              <a:t>-El juez (art. 52 L.Q.) </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 La junta de acreedores (art. 108 LQ.</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Times New Roman"/>
              </a:rPr>
              <a:t>Tipos de síndico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imes New Roman"/>
              </a:rPr>
              <a:t>Síndico provision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imes New Roman"/>
              </a:rPr>
              <a:t>Síndico definitiv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imes New Roman"/>
              </a:rPr>
              <a:t>Síndico supl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Times New Roman"/>
              </a:rPr>
              <a:t>Quienes no pueden ser Síndicos </a:t>
            </a:r>
            <a:br>
              <a:rPr sz="4000"/>
            </a:br>
            <a:r>
              <a:rPr b="0" lang="es-ES" sz="4000" spc="-1" strike="noStrike">
                <a:solidFill>
                  <a:srgbClr val="3333cc"/>
                </a:solidFill>
                <a:latin typeface="Times New Roman"/>
              </a:rPr>
              <a:t>(art. 17.LQ.)</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Los que hayan sido condenados por crímenes o simples delitos. </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Los que desempeñen un cargo o función pública.</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Los que tuvieran incapacidad física o mental para ejercer el cargo.</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Los que hubieran de integrar la nomina nacional  de síndicos, cuando rechazaron el cargo o fueron destituid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Times New Roman"/>
              </a:rPr>
              <a:t>No pueden ser nombrados síndicos</a:t>
            </a:r>
            <a:br>
              <a:rPr sz="4000"/>
            </a:br>
            <a:r>
              <a:rPr b="0" lang="es-ES" sz="4000" spc="-1" strike="noStrike">
                <a:solidFill>
                  <a:srgbClr val="3333cc"/>
                </a:solidFill>
                <a:latin typeface="Times New Roman"/>
              </a:rPr>
              <a:t>(art. 24 LQ.)</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El cónyuge del fallido ni los parientes, hasta el cuarto grado de consanguinidad o segundo de afinidad del fallido.</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Los acreedores  y deudores del fallido o deudor y todos los que tuvieren un interés directo o indirecto en la quiebra, convenio o cesión de bienes.</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Los administradores de bienes del fallido o deudor que fuere persona natural y los hubieren tenido tal calidad dentro de los 2 años siguientes a la declaración de quiebra, convenio o cesión de bienes, como a si mismo los trabajadores de los acreedores y deudores de aqu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Times New Roman"/>
              </a:rPr>
              <a:t>No pueden ser nombrados síndicos</a:t>
            </a:r>
            <a:br>
              <a:rPr sz="4000"/>
            </a:br>
            <a:r>
              <a:rPr b="0" lang="es-ES" sz="4000" spc="-1" strike="noStrike">
                <a:solidFill>
                  <a:srgbClr val="3333cc"/>
                </a:solidFill>
                <a:latin typeface="Times New Roman"/>
              </a:rPr>
              <a:t>(art. 24 LQ.)</a:t>
            </a:r>
            <a:endParaRPr b="0" lang="en-US" sz="40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Los que tengan objetada la cuenta en alguna de sus quiebras, desde el momento en que se insistiere en uno o más reparos. Sin embargo, si las objeciones no estuvieran respaldadas por la opinión favorable de la Superintendencia de Quiebras el síndico podrá ser designado.</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Los que estuvieran suspendidos en conformidad al nº 5 del art. 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6:53:20Z</dcterms:created>
  <dc:creator>JLLB_</dc:creator>
  <dc:description/>
  <dc:language>en-US</dc:language>
  <cp:lastModifiedBy>Borito</cp:lastModifiedBy>
  <dcterms:modified xsi:type="dcterms:W3CDTF">2009-10-07T18:54:35Z</dcterms:modified>
  <cp:revision>115</cp:revision>
  <dc:subject/>
  <dc:title>Diapositiva 1</dc:title>
</cp:coreProperties>
</file>