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886E8-EE58-42B5-8E46-BB505E10D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5393E-0FB5-4ED6-9848-D9FC28C2E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1FF72-4CA8-4A3B-8A84-D5883094D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9305A-9045-488C-B322-F56DE1BE9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2D2A3-CB26-4FCE-9B54-AF327867D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38BF-1812-4C82-A45B-962E48975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D7DC-8395-4259-BF88-4ABE4B761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01B04-CAF3-49E1-B390-0B45D46E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C4133-B7CF-4F63-A16E-6BD178BD8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786BE-AC6F-41AB-8410-7D938D4D6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32EED-6CA4-4181-9665-C863FAAD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949B5-3CBF-42FF-AF84-4D1AF0576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0DE0-1B95-4377-82B9-D7E503BAF532}"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2"/>
          <p:cNvSpPr/>
          <p:nvPr/>
        </p:nvSpPr>
        <p:spPr>
          <a:xfrm>
            <a:off x="1566720" y="241200"/>
            <a:ext cx="45471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Universidad de Chile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Facultad de Derech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erecho Comercial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rofesor Sr. José Luis López Blanco</a:t>
            </a:r>
            <a:endParaRPr b="0" lang="en-US" sz="2000" spc="-1" strike="noStrike">
              <a:solidFill>
                <a:srgbClr val="000000"/>
              </a:solidFill>
              <a:latin typeface="Verdana"/>
            </a:endParaRPr>
          </a:p>
        </p:txBody>
      </p:sp>
      <p:pic>
        <p:nvPicPr>
          <p:cNvPr id="42" name="Picture 3" descr="fondouch"/>
          <p:cNvPicPr/>
          <p:nvPr/>
        </p:nvPicPr>
        <p:blipFill>
          <a:blip r:embed="rId2"/>
          <a:stretch/>
        </p:blipFill>
        <p:spPr>
          <a:xfrm>
            <a:off x="1619280" y="1844640"/>
            <a:ext cx="6016680" cy="2840040"/>
          </a:xfrm>
          <a:prstGeom prst="rect">
            <a:avLst/>
          </a:prstGeom>
          <a:ln w="0">
            <a:noFill/>
          </a:ln>
        </p:spPr>
      </p:pic>
      <p:graphicFrame>
        <p:nvGraphicFramePr>
          <p:cNvPr id="43" name="Object 4"/>
          <p:cNvGraphicFramePr/>
          <p:nvPr/>
        </p:nvGraphicFramePr>
        <p:xfrm>
          <a:off x="304920" y="304920"/>
          <a:ext cx="698400" cy="1371600"/>
        </p:xfrm>
        <a:graphic>
          <a:graphicData uri="http://schemas.openxmlformats.org/presentationml/2006/ole">
            <p:oleObj r:id="rId3" spid="">
              <p:embed/>
              <p:pic>
                <p:nvPicPr>
                  <p:cNvPr id="44" name="Object 4" descr=""/>
                  <p:cNvPicPr/>
                  <p:nvPr/>
                </p:nvPicPr>
                <p:blipFill>
                  <a:blip r:embed="rId4"/>
                  <a:stretch/>
                </p:blipFill>
                <p:spPr>
                  <a:xfrm>
                    <a:off x="304920" y="304920"/>
                    <a:ext cx="698400" cy="1371600"/>
                  </a:xfrm>
                  <a:prstGeom prst="rect">
                    <a:avLst/>
                  </a:prstGeom>
                  <a:ln w="0">
                    <a:noFill/>
                  </a:ln>
                </p:spPr>
              </p:pic>
            </p:oleObj>
          </a:graphicData>
        </a:graphic>
      </p:graphicFrame>
      <p:sp>
        <p:nvSpPr>
          <p:cNvPr id="45" name="Text Box 5"/>
          <p:cNvSpPr/>
          <p:nvPr/>
        </p:nvSpPr>
        <p:spPr>
          <a:xfrm>
            <a:off x="900000" y="4941720"/>
            <a:ext cx="734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33cc"/>
                </a:solidFill>
                <a:latin typeface="Verdana"/>
              </a:rPr>
              <a:t>Síndicos de quiebra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Atribuciones y deberes</a:t>
            </a:r>
            <a:br>
              <a:rPr sz="4000"/>
            </a:br>
            <a:r>
              <a:rPr b="0" lang="es-ES" sz="4000" spc="-1" strike="noStrike">
                <a:solidFill>
                  <a:srgbClr val="3333cc"/>
                </a:solidFill>
                <a:latin typeface="Times New Roman"/>
              </a:rPr>
              <a:t>(art. 27L.Q)</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1- Resguardar dichos intereses y derechos, en el juicio y fuera de él.</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2- Hacer las publicaciones e inscripciones  de las declaraciones de quiebra.</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3- Exigir del fallido que le suministre información y le entregue sus libros, papeles y documentos.</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4- Cerrar los libros de comercio del fallido.</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5- Abrir la correspondencia  y retener las cartas y documentos del fallido que tengan que ver con la quieb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Atribuciones y deberes</a:t>
            </a:r>
            <a:br>
              <a:rPr sz="4000"/>
            </a:br>
            <a:r>
              <a:rPr b="0" lang="es-ES" sz="4000" spc="-1" strike="noStrike">
                <a:solidFill>
                  <a:srgbClr val="3333cc"/>
                </a:solidFill>
                <a:latin typeface="Times New Roman"/>
              </a:rPr>
              <a:t>(art. 27L.Q)</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6- Proponer la fecha de cesación de pag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7- Recibirse bajo inventario de los bienes de la quiebra y administrarl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8-Continuar provisionalmente el giro del establecimiento del fallid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14-Exigir rendición de cuentas de cualquiera que haya administrado los bienes del fallid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23- Ejercer las demás facultades y cumplir las demás obligaciones que la ley desig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Times New Roman"/>
              </a:rPr>
              <a:t>Obligación de rendir cuenta.</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Cuenta parcial.</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Cuenta definitiv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Otros casos en que se debe rendir cuenta definitiva.</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Cuando hay sobreseimiento definitivo ordinario.</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En el caso de que haya una cláusula provisoria  de la quiebra mediante el sobreseimiento temporal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O por cualquier motivo por el que deba cesar anticipadamente en su lab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Times New Roman"/>
              </a:rPr>
              <a:t>Procedimient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resentada ante el tribunal: el juez debe dar traslado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tienen un plazo de 30 días para objetarlo.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De no haber impugnació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 </a:t>
            </a:r>
            <a:r>
              <a:rPr b="0" lang="es-ES" sz="2800" spc="-1" strike="noStrike">
                <a:solidFill>
                  <a:srgbClr val="3333cc"/>
                </a:solidFill>
                <a:latin typeface="Times New Roman"/>
              </a:rPr>
              <a:t>De haber observaciones a la memoria…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En ambos casos, las actuaciones deben ser fundadas.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De mantenerse la impugnación…</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Causales de cesación en el cargo</a:t>
            </a:r>
            <a:br>
              <a:rPr sz="4000"/>
            </a:br>
            <a:r>
              <a:rPr b="0" lang="es-ES" sz="4000" spc="-1" strike="noStrike">
                <a:solidFill>
                  <a:srgbClr val="3333cc"/>
                </a:solidFill>
                <a:latin typeface="Times New Roman"/>
              </a:rPr>
              <a:t>(art. 32 L.Q)</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Haber dado cumplimiento a su cometido.</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or no haberse confirmado la designación provisional en la junta constitutiva.</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Revocación de la junta de acreedores.</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or renuncia.</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or haber dejado de ser parte de la nómina nacional de síndicos Por inhabilidades sobrevinientes del art. 17.</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Remoción hecha por el juez de quiebras.</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or causa de muer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Responsabilidad y remuneración.</a:t>
            </a:r>
            <a:br>
              <a:rPr sz="4000"/>
            </a:b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El síndico responde tanto civil como penalmen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Esta fijada por ley en los art. 33 a 37, y es proporcional al monto de los fondos que se repart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 name="Text Box 3"/>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Text Box 5"/>
          <p:cNvSpPr/>
          <p:nvPr/>
        </p:nvSpPr>
        <p:spPr>
          <a:xfrm>
            <a:off x="539640" y="1125360"/>
            <a:ext cx="77774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Concepto:</a:t>
            </a:r>
            <a:endParaRPr b="0" lang="en-US" sz="2400" spc="-1" strike="noStrike">
              <a:solidFill>
                <a:srgbClr val="000000"/>
              </a:solidFill>
              <a:latin typeface="Verdana"/>
            </a:endParaRPr>
          </a:p>
        </p:txBody>
      </p:sp>
      <p:sp>
        <p:nvSpPr>
          <p:cNvPr id="49" name="Rectangle 6"/>
          <p:cNvSpPr/>
          <p:nvPr/>
        </p:nvSpPr>
        <p:spPr>
          <a:xfrm>
            <a:off x="539640" y="2205000"/>
            <a:ext cx="8209080" cy="137376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Rectangle 8"/>
          <p:cNvSpPr/>
          <p:nvPr/>
        </p:nvSpPr>
        <p:spPr>
          <a:xfrm>
            <a:off x="684360" y="1844640"/>
            <a:ext cx="8001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Los profesores Gómez  e Eyzaguirre, sostienen que los síndicos de quiebras son: “profesionales independientes, los cuales deben integrar una nómina nacional que se forma por decreto supremo.  Profesionales que cumplen con una función de asegurar en beneficio común el  producto de la realización de los bienes de la masa, no siempre coincidentes, de acreedores y deudor</a:t>
            </a:r>
            <a:r>
              <a:rPr b="1" lang="es-E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2" name="Text Box 3"/>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Text Box 5"/>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Verdana"/>
            </a:endParaRPr>
          </a:p>
        </p:txBody>
      </p:sp>
      <p:sp>
        <p:nvSpPr>
          <p:cNvPr id="54" name="Rectangle 8"/>
          <p:cNvSpPr/>
          <p:nvPr/>
        </p:nvSpPr>
        <p:spPr>
          <a:xfrm>
            <a:off x="539640" y="1197000"/>
            <a:ext cx="82472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Naturaleza jurídica.</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Profesor Puga: Doble naturaleza Jurídica</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1º Órgano de la quiebra.</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2º Funcionario públic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Profesor Puelma: Representante leg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3">
                                            <p:txEl>
                                              <p:pRg st="1" end="1"/>
                                            </p:txEl>
                                          </p:spTgt>
                                        </p:tgtEl>
                                        <p:attrNameLst>
                                          <p:attrName>style.visibility</p:attrName>
                                        </p:attrNameLst>
                                      </p:cBhvr>
                                      <p:to>
                                        <p:strVal val="visible"/>
                                      </p:to>
                                    </p:set>
                                    <p:anim calcmode="lin" valueType="num">
                                      <p:cBhvr additive="base">
                                        <p:cTn id="15"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21" dur="2000"/>
                                        <p:tgtEl>
                                          <p:spTgt spid="54">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54">
                                            <p:txEl>
                                              <p:pRg st="3" end="3"/>
                                            </p:txEl>
                                          </p:spTgt>
                                        </p:tgtEl>
                                        <p:attrNameLst>
                                          <p:attrName>style.visibility</p:attrName>
                                        </p:attrNameLst>
                                      </p:cBhvr>
                                      <p:to>
                                        <p:strVal val="visible"/>
                                      </p:to>
                                    </p:set>
                                    <p:animEffect filter="diamond(in)" transition="in">
                                      <p:cBhvr additive="repl">
                                        <p:cTn id="26" dur="2000"/>
                                        <p:tgtEl>
                                          <p:spTgt spid="5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Effect filter="diamond(in)" transition="in">
                                      <p:cBhvr additive="repl">
                                        <p:cTn id="31" dur="2000"/>
                                        <p:tgtEl>
                                          <p:spTgt spid="54">
                                            <p:txEl>
                                              <p:pRg st="4" end="4"/>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54">
                                            <p:txEl>
                                              <p:pRg st="5" end="5"/>
                                            </p:txEl>
                                          </p:spTgt>
                                        </p:tgtEl>
                                        <p:attrNameLst>
                                          <p:attrName>style.visibility</p:attrName>
                                        </p:attrNameLst>
                                      </p:cBhvr>
                                      <p:to>
                                        <p:strVal val="visible"/>
                                      </p:to>
                                    </p:set>
                                    <p:animEffect filter="diamond(in)" transition="in">
                                      <p:cBhvr additive="repl">
                                        <p:cTn id="36" dur="2000"/>
                                        <p:tgtEl>
                                          <p:spTgt spid="54">
                                            <p:txEl>
                                              <p:pRg st="5" end="5"/>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4">
                                            <p:txEl>
                                              <p:pRg st="6" end="6"/>
                                            </p:txEl>
                                          </p:spTgt>
                                        </p:tgtEl>
                                        <p:attrNameLst>
                                          <p:attrName>style.visibility</p:attrName>
                                        </p:attrNameLst>
                                      </p:cBhvr>
                                      <p:to>
                                        <p:strVal val="visible"/>
                                      </p:to>
                                    </p:set>
                                    <p:animEffect filter="diamond(in)" transition="in">
                                      <p:cBhvr additive="repl">
                                        <p:cTn id="41" dur="2000"/>
                                        <p:tgtEl>
                                          <p:spTgt spid="54">
                                            <p:txEl>
                                              <p:pRg st="6" end="6"/>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54">
                                            <p:txEl>
                                              <p:pRg st="7" end="7"/>
                                            </p:txEl>
                                          </p:spTgt>
                                        </p:tgtEl>
                                        <p:attrNameLst>
                                          <p:attrName>style.visibility</p:attrName>
                                        </p:attrNameLst>
                                      </p:cBhvr>
                                      <p:to>
                                        <p:strVal val="visible"/>
                                      </p:to>
                                    </p:set>
                                    <p:animEffect filter="diamond(in)" transition="in">
                                      <p:cBhvr additive="repl">
                                        <p:cTn id="46" dur="2000"/>
                                        <p:tgtEl>
                                          <p:spTgt spid="54">
                                            <p:txEl>
                                              <p:pRg st="7" end="7"/>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54">
                                            <p:txEl>
                                              <p:pRg st="10" end="10"/>
                                            </p:txEl>
                                          </p:spTgt>
                                        </p:tgtEl>
                                        <p:attrNameLst>
                                          <p:attrName>style.visibility</p:attrName>
                                        </p:attrNameLst>
                                      </p:cBhvr>
                                      <p:to>
                                        <p:strVal val="visible"/>
                                      </p:to>
                                    </p:set>
                                    <p:animEffect filter="diamond(in)" transition="in">
                                      <p:cBhvr additive="repl">
                                        <p:cTn id="51" dur="2000"/>
                                        <p:tgtEl>
                                          <p:spTgt spid="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Desarrollo Histórico</a:t>
            </a:r>
            <a:br>
              <a:rPr sz="4000"/>
            </a:b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1º etapa, Primer C.Co. 1885</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2º etapa, Ley 4.558.</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3º etapa Ley 18.175.</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4º etapa Ley 20.0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Requisitos y nombramiento de los síndicos.</a:t>
            </a:r>
            <a:br>
              <a:rPr sz="4000"/>
            </a:b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13000"/>
            <a:ext cx="7631280" cy="468288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Requisitos para ser síndico: Art. 16 L.Q.</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Requisitos para ingresar a la nómin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   </a:t>
            </a:r>
            <a:r>
              <a:rPr b="0" lang="es-ES" sz="2800" spc="-1" strike="noStrike">
                <a:solidFill>
                  <a:srgbClr val="3333cc"/>
                </a:solidFill>
                <a:latin typeface="Times New Roman"/>
              </a:rPr>
              <a:t>nacional de síndicos: Art 18.</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Quienes proponen a los síndico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eticiónate de la quiebra (art.44 L.Q.),</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 </a:t>
            </a:r>
            <a:r>
              <a:rPr b="0" lang="es-ES" sz="2800" spc="-1" strike="noStrike">
                <a:solidFill>
                  <a:srgbClr val="3333cc"/>
                </a:solidFill>
                <a:latin typeface="Times New Roman"/>
              </a:rPr>
              <a:t>-El juez (art. 52 L.Q.)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 La junta de acreedores (art. 108 LQ.</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Times New Roman"/>
              </a:rPr>
              <a:t>Tipos de síndico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Síndico provisio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Síndico definitiv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Síndico supl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Quienes no pueden ser Síndicos </a:t>
            </a:r>
            <a:br>
              <a:rPr sz="4000"/>
            </a:br>
            <a:r>
              <a:rPr b="0" lang="es-ES" sz="4000" spc="-1" strike="noStrike">
                <a:solidFill>
                  <a:srgbClr val="3333cc"/>
                </a:solidFill>
                <a:latin typeface="Times New Roman"/>
              </a:rPr>
              <a:t>(art. 17.LQ.)</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hayan sido condenados por crímenes o simples delitos.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desempeñen un cargo o función pública.</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tuvieran incapacidad física o mental para ejercer el cargo.</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hubieran de integrar la nomina nacional  de síndicos, cuando rechazaron el cargo o fueron destitui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No pueden ser nombrados síndicos</a:t>
            </a:r>
            <a:br>
              <a:rPr sz="4000"/>
            </a:br>
            <a:r>
              <a:rPr b="0" lang="es-ES" sz="4000" spc="-1" strike="noStrike">
                <a:solidFill>
                  <a:srgbClr val="3333cc"/>
                </a:solidFill>
                <a:latin typeface="Times New Roman"/>
              </a:rPr>
              <a:t>(art. 24 LQ.)</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El cónyuge del fallido ni los parientes, hasta el cuarto grado de consanguinidad o segundo de afinidad del fallid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s acreedores  y deudores del fallido o deudor y todos los que tuvieren un interés directo o indirecto en la quiebra, convenio o cesión de biene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s administradores de bienes del fallido o deudor que fuere persona natural y los hubieren tenido tal calidad dentro de los 2 años siguientes a la declaración de quiebra, convenio o cesión de bienes, como a si mismo los trabajadores de los acreedores y deudores de aqu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No pueden ser nombrados síndicos</a:t>
            </a:r>
            <a:br>
              <a:rPr sz="4000"/>
            </a:br>
            <a:r>
              <a:rPr b="0" lang="es-ES" sz="4000" spc="-1" strike="noStrike">
                <a:solidFill>
                  <a:srgbClr val="3333cc"/>
                </a:solidFill>
                <a:latin typeface="Times New Roman"/>
              </a:rPr>
              <a:t>(art. 24 LQ.)</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tengan objetada la cuenta en alguna de sus quiebras, desde el momento en que se insistiere en uno o más reparos. Sin embargo, si las objeciones no estuvieran respaldadas por la opinión favorable de la Superintendencia de Quiebras el síndico podrá ser designado.</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estuvieran suspendidos en conformidad al nº 5 del art. 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Borito</cp:lastModifiedBy>
  <dcterms:modified xsi:type="dcterms:W3CDTF">2009-10-07T18:54:35Z</dcterms:modified>
  <cp:revision>115</cp:revision>
  <dc:subject/>
  <dc:title>Diapositiva 1</dc:title>
</cp:coreProperties>
</file>