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4EED-62D0-4F6D-9D2D-79DB950D2B9B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6F95-67B0-44BD-A5FF-1B709B12F1CE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42C-E92E-48E4-93C0-F62BBF9B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27E-5073-4E1E-9F8B-40BB3D6E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6EC-538A-4AB4-A214-C5BF1DAB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E6E-D852-4AD0-90A3-FF6DBFFF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65F-5B27-4107-A339-473E9014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52D-49D7-49F4-8EDE-75221A2E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8B1-F6F3-4582-BBF0-8F121539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0A2-C8C3-427B-BAF3-60AFC52D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5B5-9672-47EA-9C1A-98B7DDDD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3DC-A27E-4F1B-9F22-80D2A25B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CF5-5DF6-4919-96DD-33E193ED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5F8-A611-416B-AE17-3F5A0DA1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64B-0182-46FA-A910-F7A3364C4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3" descr="fondouch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4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900000" y="4941720"/>
            <a:ext cx="734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JUICIO DE QUIEBRAS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yudante: Elizabeth Sil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etermina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ctivo y p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508720" y="2214720"/>
            <a:ext cx="2592360" cy="10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l 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0000" y="491976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PAGO A LOS ACRE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42960" y="57168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) ETAPAS FUNDAMENTALES DE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28760" y="1166760"/>
            <a:ext cx="79293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5) PRESUPUESTOS DE LA QUIEB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1_ Sujeto 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2_ Sujeto Pas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_ Ca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_ Declaración Jud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28760" y="1166760"/>
            <a:ext cx="79293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1_ Sujeto Ac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Acreedor que pudiendo configurar alguna de las causales establecidas en el Art. 43 solicita la quiebra de una persona natural o jurídica o provoca un concurso obligad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l acreedor debe cumplir con las exigencias legales.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28760" y="1166760"/>
            <a:ext cx="792936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2_ Sujeto Pas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Toda persona natural o jurídica puede ser declarada en quiebra, salvo excepciones. (ejemplo, empresas públic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s el sujeto sobre quien se dirige la acción proces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28760" y="1166760"/>
            <a:ext cx="7929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CLASIFICACIÓN DE LOS SUJETOS PAS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calificado (Art.4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Otros deu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ley presenta normas especiales respecto del menor, la mujer casada y el incapaz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528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OCIONE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785880" y="21430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l patrimonio al estado de insolv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quiebra, la cesación de pagos y la insolv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Quiebra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 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Cesación de Pago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Incumpl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Insolvenci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 Estado Patrimonial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9" descr="images QUIEBRA.jpg"/>
          <p:cNvPicPr/>
          <p:nvPr/>
        </p:nvPicPr>
        <p:blipFill>
          <a:blip r:embed="rId1"/>
          <a:stretch/>
        </p:blipFill>
        <p:spPr>
          <a:xfrm>
            <a:off x="7286760" y="3643200"/>
            <a:ext cx="1214280" cy="19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85880" y="2143080"/>
            <a:ext cx="8001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El fundamento del Juicio de quiebras es la Cesación de Pagos, ya que es la condición de todas las causales contempladas en la Le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10" descr="jUICIOS QUIEBRA.jpg"/>
          <p:cNvPicPr/>
          <p:nvPr/>
        </p:nvPicPr>
        <p:blipFill>
          <a:blip r:embed="rId1"/>
          <a:stretch/>
        </p:blipFill>
        <p:spPr>
          <a:xfrm>
            <a:off x="3357720" y="4286160"/>
            <a:ext cx="229860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28760" y="1166760"/>
            <a:ext cx="7929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2) CONCEPTO DE QUIEBRA. ANÁLI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“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l juicio de quiebra tiene por objeto realizar en un solo procedimiento los bienes de una persona natural o jurídica, a fin de proveer al pago de sus deudas, en los casos y en la forma determinados por la ley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28760" y="1166760"/>
            <a:ext cx="7929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quiebra, en otras palabras 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Conjunto de procedimientos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que tiene por objeto la realización de los bienes del deudor debido a la imposibilidad del cumplimiento igualitario de sus obligaciones </a:t>
            </a:r>
            <a:r>
              <a:rPr b="1" i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decretado judicialmente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8" descr="QCGY1CA7MGD7JCAM5RGRICA9VRK6TCAJN992YCA079NAUCALIIFHGCAIA3U9XCASJPIKKCAV2UCAJCA2TGV49CAU62COZCATHAQ8DCANHNOW7CAEN37QLCAGR0N7KCAONFOXWCARJCDT3CAAD89OM.jpg"/>
          <p:cNvPicPr/>
          <p:nvPr/>
        </p:nvPicPr>
        <p:blipFill>
          <a:blip r:embed="rId1"/>
          <a:stretch/>
        </p:blipFill>
        <p:spPr>
          <a:xfrm>
            <a:off x="5214960" y="5072040"/>
            <a:ext cx="24289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28760" y="1166760"/>
            <a:ext cx="7929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) CARACTERÍSTICAS DEL JUICIO DE QUIEB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1_ UNIVERS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Afecta a todo el activo y pasivo del deudor, salvo bienes inembarga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pierde la libre administración de sus bienes, pasando al síndico esta facultad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28760" y="1166760"/>
            <a:ext cx="7929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2_ PRODUCE ESTADO DE INDIVIS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_ IGUALDAD DE LOS ACREEDORES FRENTE A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os acreedores tienen en mismo derecho por regla general, salvo de aquellas excepciones legales (privilegios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8" descr="0L1MGCA6A0Q25CAR70NLACAN56SGCCA245D0QCA9L2E95CART43AFCAJO3GV6CAWSA22ECAHAVIYUCA2XSUEOCA73SNA8CAA3PLYYCAR3BY9VCAJVBMXGCALR9SWKCAJT2CL1CAM7UPFYCAP7IPCY.jpg"/>
          <p:cNvPicPr/>
          <p:nvPr/>
        </p:nvPicPr>
        <p:blipFill>
          <a:blip r:embed="rId1"/>
          <a:stretch/>
        </p:blipFill>
        <p:spPr>
          <a:xfrm>
            <a:off x="6215040" y="4857840"/>
            <a:ext cx="214308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28760" y="1166760"/>
            <a:ext cx="7929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_INTERVENCIÓN JURISDICCIONAL Y PRIVADA CONJU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Órganos de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Tribu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Sínd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Junta de acr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Superintendencia de Quieb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28760" y="1166760"/>
            <a:ext cx="7929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5_ PROVOCA EFECTOS RETROAC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xiste la posibilidad de poder revisar, analizar o eliminar ciertos actos celebrados por el fallido antes de la declaración de quieb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6_ PRODUCE EFECTOS PE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9" descr="3FK4JCAEWPRAXCAVQYHBCCAU4GLIMCAKIRDGRCAOPZ2JBCA41AML2CAFQEMNWCAJXYPD9CABYKQSPCA6Q4L5MCA7NCI51CAR1YU6PCAANBI9NCANSCAP5CAJ2KARMCADQTLNLCAEJCKHFCAVH6YOR.jpg"/>
          <p:cNvPicPr/>
          <p:nvPr/>
        </p:nvPicPr>
        <p:blipFill>
          <a:blip r:embed="rId1"/>
          <a:stretch/>
        </p:blipFill>
        <p:spPr>
          <a:xfrm>
            <a:off x="6357960" y="4143240"/>
            <a:ext cx="1857240" cy="12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10-05T04:56:31Z</dcterms:modified>
  <cp:revision>111</cp:revision>
  <dc:subject/>
  <dc:title>Diapositiva 1</dc:title>
</cp:coreProperties>
</file>