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23EA-3AC6-44BA-963F-A9ACA35DC16B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4184-469B-484E-ADDC-3D348B535BE8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1BE-1BFD-4375-8DD5-D9A925BB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8A5-35CE-40E9-B91E-DB228306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E81-59F7-47EF-AF82-F3D9165B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065-9688-49A8-9A33-21A951EA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20D-546D-4DB0-9943-C1175FBE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622-CA36-40B2-BA67-790186D0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242-4B16-4502-A029-CD9D6F9C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015-96AD-4AE4-B1DD-F3362DE8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7D9-E811-4E97-B7F6-AA2BA5D6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87C-0F31-4FE1-A8AF-FE6F5D1A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9BD-E5B9-4BE9-B6E2-28EEACC6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C2D-C6D1-43E5-823F-06F74D85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B650-036A-4674-AB5B-19299F306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3" descr="fondouch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4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5"/>
          <p:cNvSpPr/>
          <p:nvPr/>
        </p:nvSpPr>
        <p:spPr>
          <a:xfrm>
            <a:off x="900000" y="4941720"/>
            <a:ext cx="7345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JUICIO DE QUIEBRAS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Ayudante: Elizabeth Sil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Determina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ctivo y pa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508720" y="2214720"/>
            <a:ext cx="2592360" cy="107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l ac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00000" y="491976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PAGO A LOS ACRE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42960" y="57168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4) ETAPAS FUNDAMENTALES DE LA QUIE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28760" y="1166760"/>
            <a:ext cx="79293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5) PRESUPUESTOS DE LA QUIEB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1_ Sujeto Ac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2_ Sujeto Pas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3_ Ca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4_ Declaración Judi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28760" y="1166760"/>
            <a:ext cx="79293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1_ Sujeto Act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Acreedor que pudiendo configurar alguna de las causales establecidas en el Art. 43 solicita la quiebra de una persona natural o jurídica o provoca un concurso obligad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l acreedor debe cumplir con las exigencias legales.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28760" y="1166760"/>
            <a:ext cx="792936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2_ Sujeto Pas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Toda persona natural o jurídica puede ser declarada en quiebra, salvo excepciones. (ejemplo, empresas públic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s el sujeto sobre quien se dirige la acción proces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28760" y="1166760"/>
            <a:ext cx="7929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CLASIFICACIÓN DE LOS SUJETOS PAS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udor calificado (Art.4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udor comú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Otros deu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a ley presenta normas especiales respecto del menor, la mujer casada y el incapaz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95280" y="155736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OCIONE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785880" y="21430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l patrimonio al estado de insolv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a quiebra, la cesación de pagos y la insolv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Quiebra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  Ju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Cesación de Pago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Incumpl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Insolvenci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 Estado Patrimonial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Picture 9" descr="images QUIEBRA.jpg"/>
          <p:cNvPicPr/>
          <p:nvPr/>
        </p:nvPicPr>
        <p:blipFill>
          <a:blip r:embed="rId1"/>
          <a:stretch/>
        </p:blipFill>
        <p:spPr>
          <a:xfrm>
            <a:off x="7286760" y="3643200"/>
            <a:ext cx="1214280" cy="196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785880" y="2143080"/>
            <a:ext cx="80010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El fundamento del Juicio de quiebras es la Cesación de Pagos, ya que es la condición de todas las causales contempladas en la Le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10" descr="jUICIOS QUIEBRA.jpg"/>
          <p:cNvPicPr/>
          <p:nvPr/>
        </p:nvPicPr>
        <p:blipFill>
          <a:blip r:embed="rId1"/>
          <a:stretch/>
        </p:blipFill>
        <p:spPr>
          <a:xfrm>
            <a:off x="3357720" y="4286160"/>
            <a:ext cx="229860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28760" y="1166760"/>
            <a:ext cx="7929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2) CONCEPTO DE QUIEBRA. ANÁLI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“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l juicio de quiebra tiene por objeto realizar en un solo procedimiento los bienes de una persona natural o jurídica, a fin de proveer al pago de sus deudas, en los casos y en la forma determinados por la ley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28760" y="1166760"/>
            <a:ext cx="79293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a quiebra, en otras palabras 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Conjunto de procedimientos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 que tiene por objeto la realización de los bienes del deudor debido a la imposibilidad del cumplimiento igualitario de sus obligaciones </a:t>
            </a:r>
            <a:r>
              <a:rPr b="1" i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decretado judicialmente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  <a:ea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8" descr="QCGY1CA7MGD7JCAM5RGRICA9VRK6TCAJN992YCA079NAUCALIIFHGCAIA3U9XCASJPIKKCAV2UCAJCA2TGV49CAU62COZCATHAQ8DCANHNOW7CAEN37QLCAGR0N7KCAONFOXWCARJCDT3CAAD89OM.jpg"/>
          <p:cNvPicPr/>
          <p:nvPr/>
        </p:nvPicPr>
        <p:blipFill>
          <a:blip r:embed="rId1"/>
          <a:stretch/>
        </p:blipFill>
        <p:spPr>
          <a:xfrm>
            <a:off x="5214960" y="5072040"/>
            <a:ext cx="242892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28760" y="1166760"/>
            <a:ext cx="7929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3) CARACTERÍSTICAS DEL JUICIO DE QUIEBR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1_ UNIVERS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Afecta a todo el activo y pasivo del deudor, salvo bienes inembargab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Deudor pierde la libre administración de sus bienes, pasando al síndico esta facultad.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28760" y="1166760"/>
            <a:ext cx="79293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2_ PRODUCE ESTADO DE INDIVIS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3_ IGUALDAD DE LOS ACREEDORES FRENTE A LA QUIE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</a:t>
            </a:r>
            <a:r>
              <a:rPr b="1" i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Los acreedores tienen en mismo derecho por regla general, salvo de aquellas excepciones legales (privilegios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8" descr="0L1MGCA6A0Q25CAR70NLACAN56SGCCA245D0QCA9L2E95CART43AFCAJO3GV6CAWSA22ECAHAVIYUCA2XSUEOCA73SNA8CAA3PLYYCAR3BY9VCAJVBMXGCALR9SWKCAJT2CL1CAM7UPFYCAP7IPCY.jpg"/>
          <p:cNvPicPr/>
          <p:nvPr/>
        </p:nvPicPr>
        <p:blipFill>
          <a:blip r:embed="rId1"/>
          <a:stretch/>
        </p:blipFill>
        <p:spPr>
          <a:xfrm>
            <a:off x="6215040" y="4857840"/>
            <a:ext cx="2143080" cy="14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28760" y="1166760"/>
            <a:ext cx="79293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4_INTERVENCIÓN JURISDICCIONAL Y PRIVADA CONJU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Órganos de la quieb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Tribu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Sínd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Junta de acr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Superintendencia de Quieb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S FUNDAMENT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5280" y="1557360"/>
            <a:ext cx="8497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785880" y="2143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28760" y="1166760"/>
            <a:ext cx="7929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5_ PROVOCA EFECTOS RETROAC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Existe la posibilidad de poder revisar, analizar o eliminar ciertos actos celebrados por el fallido antes de la declaración de quieb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  <a:ea typeface="Verdana"/>
              </a:rPr>
              <a:t>6_ PRODUCE EFECTOS PE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9" descr="3FK4JCAEWPRAXCAVQYHBCCAU4GLIMCAKIRDGRCAOPZ2JBCA41AML2CAFQEMNWCAJXYPD9CABYKQSPCA6Q4L5MCA7NCI51CAR1YU6PCAANBI9NCANSCAP5CAJ2KARMCADQTLNLCAEJCKHFCAVH6YOR.jpg"/>
          <p:cNvPicPr/>
          <p:nvPr/>
        </p:nvPicPr>
        <p:blipFill>
          <a:blip r:embed="rId1"/>
          <a:stretch/>
        </p:blipFill>
        <p:spPr>
          <a:xfrm>
            <a:off x="6357960" y="4143240"/>
            <a:ext cx="1857240" cy="12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10-05T04:56:31Z</dcterms:modified>
  <cp:revision>111</cp:revision>
  <dc:subject/>
  <dc:title>Diapositiva 1</dc:title>
</cp:coreProperties>
</file>