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BF44D-230E-498E-B896-949215E0E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C999-93B8-4CEB-BB55-5BC95DA3D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A3C34-44E4-4462-8031-7E68CF301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E1DDC-5F6A-495B-8EAF-FF1D554C1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55DE-F23E-4604-8C1F-BA08574F7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20E3-9365-49B0-9CDB-5CF6971C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85A7-5F50-4BC4-A4E0-0D483B02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9665A-51ED-4F70-9467-CFD3A0BA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1BC67-2FE1-4CE7-9289-DDD8D4FB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999F-1361-4D7C-A223-AB5848B6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547F-F13D-4616-8095-0DFA89D1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628D-A819-48EA-B03A-CF79BE57D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311C-1B97-436C-A88B-65841081D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1042920" y="5157720"/>
            <a:ext cx="7345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EY DE QUIEBR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Septiembre,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8360" y="1197000"/>
            <a:ext cx="763272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acuerdos extrajudiciales y de los convenios judiciales (Artículos 169 a 21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os acuerdos extrajudiciales. (Artículos 169 y 1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convenio judicial preventivo. (Artículos 171 a 18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convenio simplemente judicial. (Artículos 186 a 18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aprobación de los convenios judiciales. (Artículos 190 a 1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os efectos del convenio. (Artículos 200 a 2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l rechazo del convenio. (Artículo 2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7.- De la nulidad e incumplimiento del convenio (Artículos 210 a 2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33336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delitos relacionados con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18 a 23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alificación de la quiebra. (Artículos 218 a 2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218. La quiebra del deudor a que se refiere el artículo 41 puede ser fortuita, culpable o fraudul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os cómplices de la quiebra fraudulenta. (Artículo 22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procedimiento de calificación. (Artículos 222 a 228) (Artículos 223, 224, 225 y 226 derog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s penas. (Artículos 229 a 234)</a:t>
            </a:r>
            <a:endParaRPr b="0" lang="en-US" sz="2400" spc="-1" strike="noStrike">
              <a:solidFill>
                <a:srgbClr val="000000"/>
              </a:solidFill>
              <a:latin typeface="Times New Roman"/>
            </a:endParaRPr>
          </a:p>
        </p:txBody>
      </p:sp>
      <p:sp>
        <p:nvSpPr>
          <p:cNvPr id="75"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5280" y="981000"/>
            <a:ext cx="82803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habilitación del fallido (Artículos 235 a 24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cesión de bienes (Artículos 241 a 25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cesión de bienes en general. (Artículo 2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cesión de bienes a un solo acreedor. (Artículos 242 a 2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 cesión de bienes a varios acreedores. (Artículos 246 a 2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anteriores. (Artículos 251 a 255)</a:t>
            </a:r>
            <a:endParaRPr b="0" lang="en-US" sz="2400" spc="-1" strike="noStrike">
              <a:solidFill>
                <a:srgbClr val="000000"/>
              </a:solidFill>
              <a:latin typeface="Times New Roman"/>
            </a:endParaRPr>
          </a:p>
        </p:txBody>
      </p:sp>
      <p:sp>
        <p:nvSpPr>
          <p:cNvPr id="7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95280" y="981000"/>
            <a:ext cx="82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Fi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256 a 2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Transitori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 7)</a:t>
            </a:r>
            <a:endParaRPr b="0" lang="en-US" sz="2400" spc="-1" strike="noStrike">
              <a:solidFill>
                <a:srgbClr val="000000"/>
              </a:solidFill>
              <a:latin typeface="Times New Roman"/>
            </a:endParaRPr>
          </a:p>
        </p:txBody>
      </p:sp>
      <p:sp>
        <p:nvSpPr>
          <p:cNvPr id="8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2400" spc="-1" strike="noStrike">
                <a:solidFill>
                  <a:srgbClr val="3333cc"/>
                </a:solidFill>
                <a:latin typeface="Times New Roman"/>
              </a:rPr>
              <a:t>Libr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Nota: el artículo único inciso segundo de la Ley 20080, publicada el 24.11.2005, ordenó incorporar la Ley 18175 y sus modificaciones al Código de Comercio, sin señalar la secuencia numérica correspondiente en el presente Código. Excluyó de ésta incorporación, el Título II, el que se mantiene en la Ley 18175 como Ley Orgánica 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981000"/>
            <a:ext cx="820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isposiciones gene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 al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 1°. La presente ley trata de los siguientes concursos: la quiebra; los convenios regulados en el Título XII; y las cesiones de bienes del Título X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El juicio de quiebra tiene por objeto realizar en un solo procedimiento los bienes de una persona natural o jurídica, a fin de proveer al pago de sus deudas, en los casos y en la forma determinados por la l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0920" y="981000"/>
            <a:ext cx="785016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Superintendencia de Quieb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síndicos (Artículos 14 a 3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nómina nacional de síndicos. (Artículos 14 a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designación de síndico y la asunción al cargo. (Artículos 23 a 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atribuciones y deberes de los síndicos. (Artículos 27 y 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e la cuenta del síndico y de la cesación en el cargo. (Artículos 29 a 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muneración del síndico. (Artículos 33 a 3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6.- De la responsabilidad de los síndicos. (Artículo 3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68360" y="1052640"/>
            <a:ext cx="78501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declaración de quieb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39 a 6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fijación de la fecha de la cesación de pag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1 a 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os efectos de la declaración de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64 a 9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Efectos inmediatos. (Artículos 64 a 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Efectos retroactivos de la declaración de quiebra de todo deudor. (Artículos 74 y 75)</a:t>
            </a:r>
            <a:endParaRPr b="0" lang="en-US" sz="2400" spc="-1" strike="noStrike">
              <a:solidFill>
                <a:srgbClr val="000000"/>
              </a:solidFill>
              <a:latin typeface="Times New Roman"/>
            </a:endParaRPr>
          </a:p>
        </p:txBody>
      </p:sp>
      <p:sp>
        <p:nvSpPr>
          <p:cNvPr id="57"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24000" y="1052640"/>
            <a:ext cx="80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Efectos retroactivos especiales de la declaración de quiebra del deudor que ejerciere una actividad comercial, industrial, minera o agrícola. (Artículos 76 a 7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4.- Disposiciones comunes a los dos párrafos precedentes. (Artículos 80 y 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0. Sobre la prescripción de las acciones a que se refieren los dos párrafos anteriores: dos años, contados desde la fecha del acto o contrato, plazo que podrá suspend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81. las acciones se tramitarán con arreglo al procedimiento suma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5.- De la reivindicación, resolución y retención. (Artículos 82 a 93)</a:t>
            </a:r>
            <a:endParaRPr b="0" lang="en-US" sz="2400" spc="-1" strike="noStrike">
              <a:solidFill>
                <a:srgbClr val="000000"/>
              </a:solidFill>
              <a:latin typeface="Times New Roman"/>
            </a:endParaRPr>
          </a:p>
        </p:txBody>
      </p:sp>
      <p:sp>
        <p:nvSpPr>
          <p:cNvPr id="60"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4000" y="981000"/>
            <a:ext cx="81356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incautación e inventar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94 a 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V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s Juntas de Acreedores (Artículos 101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isposiciones generales. (Artículos 101 a 1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1. Los acreedores se reunirán en junta de acuerdo a las reglas del presente Títu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2. Sobre el derecho a v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3. Sobre la asistencia personal o por medio de mandatario (formalidades del mand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2400" spc="-1" strike="noStrike">
                <a:solidFill>
                  <a:srgbClr val="3333cc"/>
                </a:solidFill>
                <a:latin typeface="Times New Roman"/>
              </a:rPr>
              <a:t>Art. 104. Prohibición de fraccionar los créditos una vez declarada la quiebra.</a:t>
            </a:r>
            <a:endParaRPr b="0" lang="en-US" sz="2400" spc="-1" strike="noStrike">
              <a:solidFill>
                <a:srgbClr val="000000"/>
              </a:solidFill>
              <a:latin typeface="Times New Roman"/>
            </a:endParaRPr>
          </a:p>
        </p:txBody>
      </p:sp>
      <p:sp>
        <p:nvSpPr>
          <p:cNvPr id="63"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primera junta de acreedores. (Artículos 105 a 1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 las reuniones ordinarias y extraordinarias y de la continuación efectiva del giro del fallido. (Artículos 110 a 1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realización del 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20 a 1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39640" y="1197000"/>
            <a:ext cx="7632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 la liquidación del pasivo (Artículos 131 a 1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 la verificación de créditos. (Artículos 131 a 14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 la graduación de créditos y su pago. (Artículos 147 a 1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Título 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Del sobreseimiento en los procedimientos de la quieb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Artículos 157 a 1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1.- Del sobreseimiento en general. (Artículo 15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2.- Del sobreseimiento temporal. (Artículos 158 a 16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3.- Del sobreseimiento definitivo. (Artículos 164 a 168)</a:t>
            </a:r>
            <a:endParaRPr b="0" lang="en-US" sz="2400" spc="-1" strike="noStrike">
              <a:solidFill>
                <a:srgbClr val="000000"/>
              </a:solidFill>
              <a:latin typeface="Times New Roman"/>
            </a:endParaRPr>
          </a:p>
        </p:txBody>
      </p:sp>
      <p:sp>
        <p:nvSpPr>
          <p:cNvPr id="69"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EY DE QUIEB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Referencia05</cp:lastModifiedBy>
  <dcterms:modified xsi:type="dcterms:W3CDTF">2009-09-10T14:16:51Z</dcterms:modified>
  <cp:revision>135</cp:revision>
  <dc:subject/>
  <dc:title>Diapositiva 1</dc:title>
</cp:coreProperties>
</file>