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1A6505-0879-4332-94E9-40D37627E3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DD294F-63F6-4038-936E-0981C0F705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71827B-1AE2-4B1B-9BA0-B091A5633B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555881-FF49-41F1-ADE9-C49206F776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6DA874-A25D-4A3A-BDD0-9057B6E63A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91A131-0F7D-40B1-BB52-7CB9A04C8E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A2B68E-A779-45C6-B100-59059F13F5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D33CEF-3275-41EA-86AE-22BF2CA2C0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1DADB1-8FEF-4275-B717-42F63E2CC1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A28052-0872-457D-A673-CAB7ADD1C5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204C1-7D21-4AA7-BA3C-F60DE7E807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23485-9B8B-420D-8BE1-AA5346D1D8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DC69F-9E05-4257-A605-9306DAE6AC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oleObject" Target="../embeddings/oleObject1.bin"/><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1219320" y="200160"/>
            <a:ext cx="48898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Times New Roman"/>
              </a:rPr>
              <a:t>Universidad de Chil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Times New Roman"/>
              </a:rPr>
              <a:t>Facultad de Derech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Times New Roman"/>
              </a:rPr>
              <a:t>Derecho Comercial II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Times New Roman"/>
              </a:rPr>
              <a:t>Profesor Sr. José Luis López Blanco</a:t>
            </a:r>
            <a:endParaRPr b="0" lang="en-US" sz="2400" spc="-1" strike="noStrike">
              <a:solidFill>
                <a:srgbClr val="000000"/>
              </a:solidFill>
              <a:latin typeface="Times New Roman"/>
            </a:endParaRPr>
          </a:p>
        </p:txBody>
      </p:sp>
      <p:pic>
        <p:nvPicPr>
          <p:cNvPr id="42" name="" descr=""/>
          <p:cNvPicPr/>
          <p:nvPr/>
        </p:nvPicPr>
        <p:blipFill>
          <a:blip r:embed="rId2"/>
          <a:stretch/>
        </p:blipFill>
        <p:spPr>
          <a:xfrm>
            <a:off x="1619280" y="1844640"/>
            <a:ext cx="6016680" cy="2840040"/>
          </a:xfrm>
          <a:prstGeom prst="rect">
            <a:avLst/>
          </a:prstGeom>
          <a:ln w="0">
            <a:noFill/>
          </a:ln>
        </p:spPr>
      </p:pic>
      <p:graphicFrame>
        <p:nvGraphicFramePr>
          <p:cNvPr id="43" name=""/>
          <p:cNvGraphicFramePr/>
          <p:nvPr/>
        </p:nvGraphicFramePr>
        <p:xfrm>
          <a:off x="304920" y="304920"/>
          <a:ext cx="698400" cy="1371600"/>
        </p:xfrm>
        <a:graphic>
          <a:graphicData uri="http://schemas.openxmlformats.org/presentationml/2006/ole">
            <p:oleObj r:id="rId3" spid="">
              <p:embed/>
              <p:pic>
                <p:nvPicPr>
                  <p:cNvPr id="44" name="" descr=""/>
                  <p:cNvPicPr/>
                  <p:nvPr/>
                </p:nvPicPr>
                <p:blipFill>
                  <a:blip r:embed="rId4"/>
                  <a:stretch/>
                </p:blipFill>
                <p:spPr>
                  <a:xfrm>
                    <a:off x="304920" y="304920"/>
                    <a:ext cx="698400" cy="1371600"/>
                  </a:xfrm>
                  <a:prstGeom prst="rect">
                    <a:avLst/>
                  </a:prstGeom>
                  <a:ln w="0">
                    <a:noFill/>
                  </a:ln>
                </p:spPr>
              </p:pic>
            </p:oleObj>
          </a:graphicData>
        </a:graphic>
      </p:graphicFrame>
      <p:sp>
        <p:nvSpPr>
          <p:cNvPr id="45" name=""/>
          <p:cNvSpPr/>
          <p:nvPr/>
        </p:nvSpPr>
        <p:spPr>
          <a:xfrm>
            <a:off x="1042920" y="5157720"/>
            <a:ext cx="73454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a:rPr>
              <a:t>LEY DE QUIEBRA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Arial"/>
              </a:rPr>
              <a:t>Septiembre, 2009</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468360" y="1197000"/>
            <a:ext cx="7632720" cy="5946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Título XI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De los acuerdos extrajudiciales y de los convenios judiciales (Artículos 169 a 217)</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1.- De los acuerdos extrajudiciales. (Artículos 169 y 17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2.- Del convenio judicial preventivo. (Artículos 171 a 18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3.- Del convenio simplemente judicial. (Artículos 186 a 189)</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4.- De la aprobación de los convenios judiciales. (Artículos 190 a 199)</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5.- De los efectos del convenio. (Artículos 200 a 208)</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6.- Del rechazo del convenio. (Artículo 209)</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7.- De la nulidad e incumplimiento del convenio (Artículos 210 a 217)</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395280" y="333360"/>
            <a:ext cx="738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Arial"/>
              </a:rPr>
              <a:t>LEY DE QUIEBR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539640" y="1197000"/>
            <a:ext cx="7632720" cy="484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Título XII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De los delitos relacionados con las quiebra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Artículos 218 a 234)</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1.- De la calificación de la quiebra. (Artículos 218 a 22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	</a:t>
            </a:r>
            <a:r>
              <a:rPr b="1" lang="es-ES" sz="2400" spc="-1" strike="noStrike">
                <a:solidFill>
                  <a:srgbClr val="3333cc"/>
                </a:solidFill>
                <a:latin typeface="Times New Roman"/>
              </a:rPr>
              <a:t>Art. 218. La quiebra del deudor a que se refiere el artículo 41 puede ser fortuita, culpable o fraudulen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2.- De los cómplices de la quiebra fraudulenta. (Artículo 22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3.- Del procedimiento de calificación. (Artículos 222 a 228) (Artículos 223, 224, 225 y 226 derogado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4.- De las penas. (Artículos 229 a 234)</a:t>
            </a:r>
            <a:endParaRPr b="0" lang="en-US" sz="2400" spc="-1" strike="noStrike">
              <a:solidFill>
                <a:srgbClr val="000000"/>
              </a:solidFill>
              <a:latin typeface="Times New Roman"/>
            </a:endParaRPr>
          </a:p>
        </p:txBody>
      </p:sp>
      <p:sp>
        <p:nvSpPr>
          <p:cNvPr id="75" name=""/>
          <p:cNvSpPr/>
          <p:nvPr/>
        </p:nvSpPr>
        <p:spPr>
          <a:xfrm>
            <a:off x="358920" y="304920"/>
            <a:ext cx="738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Arial"/>
              </a:rPr>
              <a:t>LEY DE QUIEBR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395280" y="981000"/>
            <a:ext cx="8280360" cy="521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Título XIV</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De la rehabilitación del fallido (Artículos 235 a 240)</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Título XV</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De la cesión de bienes (Artículos 241 a 255)</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1.- De la cesión de bienes en general. (Artículo 24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2.- De la cesión de bienes a un solo acreedor. (Artículos 242 a 24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3.- De la cesión de bienes a varios acreedores. (Artículos 246 a 25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4.- Disposiciones comunes a los dos párrafos anteriores. (Artículos 251 a 255)</a:t>
            </a:r>
            <a:endParaRPr b="0" lang="en-US" sz="2400" spc="-1" strike="noStrike">
              <a:solidFill>
                <a:srgbClr val="000000"/>
              </a:solidFill>
              <a:latin typeface="Times New Roman"/>
            </a:endParaRPr>
          </a:p>
        </p:txBody>
      </p:sp>
      <p:sp>
        <p:nvSpPr>
          <p:cNvPr id="78" name=""/>
          <p:cNvSpPr/>
          <p:nvPr/>
        </p:nvSpPr>
        <p:spPr>
          <a:xfrm>
            <a:off x="358920" y="304920"/>
            <a:ext cx="738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Arial"/>
              </a:rPr>
              <a:t>LEY DE QUIEBR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395280" y="981000"/>
            <a:ext cx="828036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Título Fina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Artículos 256 a 263)</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Artículos Transitorio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Artículos 1 a 7)</a:t>
            </a:r>
            <a:endParaRPr b="0" lang="en-US" sz="2400" spc="-1" strike="noStrike">
              <a:solidFill>
                <a:srgbClr val="000000"/>
              </a:solidFill>
              <a:latin typeface="Times New Roman"/>
            </a:endParaRPr>
          </a:p>
        </p:txBody>
      </p:sp>
      <p:sp>
        <p:nvSpPr>
          <p:cNvPr id="81" name=""/>
          <p:cNvSpPr/>
          <p:nvPr/>
        </p:nvSpPr>
        <p:spPr>
          <a:xfrm>
            <a:off x="358920" y="304920"/>
            <a:ext cx="738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Arial"/>
              </a:rPr>
              <a:t>LEY DE QUIEBR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539640" y="1197000"/>
            <a:ext cx="763272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Arial"/>
              </a:rPr>
              <a:t>  </a:t>
            </a:r>
            <a:r>
              <a:rPr b="1" lang="es-ES" sz="2400" spc="-1" strike="noStrike">
                <a:solidFill>
                  <a:srgbClr val="3333cc"/>
                </a:solidFill>
                <a:latin typeface="Times New Roman"/>
              </a:rPr>
              <a:t>Libro IV</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De las quiebra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Nota: el artículo único inciso segundo de la Ley 20080, publicada el 24.11.2005, ordenó incorporar la Ley 18175 y sus modificaciones al Código de Comercio, sin señalar la secuencia numérica correspondiente en el presente Código. Excluyó de ésta incorporación, el Título II, el que se mantiene en la Ley 18175 como Ley Orgánica de la Superintendencia de Quiebra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358920" y="304920"/>
            <a:ext cx="738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Arial"/>
              </a:rPr>
              <a:t>LEY DE QUIEBR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539640" y="981000"/>
            <a:ext cx="820908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Título 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Disposiciones general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Artículos 1° al 6°)</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Art. 1°. La presente ley trata de los siguientes concursos: la quiebra; los convenios regulados en el Título XII; y las cesiones de bienes del Título XV.</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	</a:t>
            </a:r>
            <a:r>
              <a:rPr b="1" lang="es-ES" sz="2400" spc="-1" strike="noStrike">
                <a:solidFill>
                  <a:srgbClr val="3333cc"/>
                </a:solidFill>
                <a:latin typeface="Times New Roman"/>
              </a:rPr>
              <a:t>El juicio de quiebra tiene por objeto realizar en un solo procedimiento los bienes de una persona natural o jurídica, a fin de proveer al pago de sus deudas, en los casos y en la forma determinados por la le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358920" y="304920"/>
            <a:ext cx="738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Arial"/>
              </a:rPr>
              <a:t>LEY DE QUIEBR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250920" y="981000"/>
            <a:ext cx="7850160" cy="5946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Título I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De la Superintendencia de Quiebra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Título II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De los síndicos (Artículos 14 a 38)</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1.- De la nómina nacional de síndicos. (Artículos 14 a 2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2.- De la designación de síndico y la asunción al cargo. (Artículos 23 a 26)</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3.- De las atribuciones y deberes de los síndicos. (Artículos 27 y 28)</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4.- De la cuenta del síndico y de la cesación en el cargo. (Artículos 29 a 3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5.- De la remuneración del síndico. (Artículos 33 a 37)</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6.- De la responsabilidad de los síndicos. (Artículo 38)</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358920" y="304920"/>
            <a:ext cx="738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Arial"/>
              </a:rPr>
              <a:t>LEY DE QUIEBR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468360" y="1052640"/>
            <a:ext cx="7850160" cy="558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Título IV</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De la declaración de quiebra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Artículos 39 a 60)</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Título V</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De la fijación de la fecha de la cesación de pago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Artículos 61 a 63)</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Título V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De los efectos de la declaración de quiebr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Artículos 64 a 93)</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1.- Efectos inmediatos. (Artículos 64 a 73)</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2.- Efectos retroactivos de la declaración de quiebra de todo deudor. (Artículos 74 y 75)</a:t>
            </a:r>
            <a:endParaRPr b="0" lang="en-US" sz="2400" spc="-1" strike="noStrike">
              <a:solidFill>
                <a:srgbClr val="000000"/>
              </a:solidFill>
              <a:latin typeface="Times New Roman"/>
            </a:endParaRPr>
          </a:p>
        </p:txBody>
      </p:sp>
      <p:sp>
        <p:nvSpPr>
          <p:cNvPr id="57" name=""/>
          <p:cNvSpPr/>
          <p:nvPr/>
        </p:nvSpPr>
        <p:spPr>
          <a:xfrm>
            <a:off x="358920" y="304920"/>
            <a:ext cx="738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Arial"/>
              </a:rPr>
              <a:t>LEY DE QUIEBR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324000" y="1052640"/>
            <a:ext cx="806436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3.- Efectos retroactivos especiales de la declaración de quiebra del deudor que ejerciere una actividad comercial, industrial, minera o agrícola. (Artículos 76 a 79)</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4.- Disposiciones comunes a los dos párrafos precedentes. (Artículos 80 y 8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	</a:t>
            </a:r>
            <a:r>
              <a:rPr b="1" lang="es-ES" sz="2400" spc="-1" strike="noStrike">
                <a:solidFill>
                  <a:srgbClr val="3333cc"/>
                </a:solidFill>
                <a:latin typeface="Times New Roman"/>
              </a:rPr>
              <a:t>Art. 80. Sobre la prescripción de las acciones a que se refieren los dos párrafos anteriores: dos años, contados desde la fecha del acto o contrato, plazo que podrá suspender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	</a:t>
            </a:r>
            <a:r>
              <a:rPr b="1" lang="es-ES" sz="2400" spc="-1" strike="noStrike">
                <a:solidFill>
                  <a:srgbClr val="3333cc"/>
                </a:solidFill>
                <a:latin typeface="Times New Roman"/>
              </a:rPr>
              <a:t>Art. 81. las acciones se tramitarán con arreglo al procedimiento sumari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5.- De la reivindicación, resolución y retención. (Artículos 82 a 93)</a:t>
            </a:r>
            <a:endParaRPr b="0" lang="en-US" sz="2400" spc="-1" strike="noStrike">
              <a:solidFill>
                <a:srgbClr val="000000"/>
              </a:solidFill>
              <a:latin typeface="Times New Roman"/>
            </a:endParaRPr>
          </a:p>
        </p:txBody>
      </p:sp>
      <p:sp>
        <p:nvSpPr>
          <p:cNvPr id="60" name=""/>
          <p:cNvSpPr/>
          <p:nvPr/>
        </p:nvSpPr>
        <p:spPr>
          <a:xfrm>
            <a:off x="358920" y="304920"/>
            <a:ext cx="738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Arial"/>
              </a:rPr>
              <a:t>LEY DE QUIEBR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324000" y="981000"/>
            <a:ext cx="8135640" cy="558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Título VI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De la incautación e inventari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Artículos 94 a 100)</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Título VII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De las Juntas de Acreedores (Artículos 101 a 119)</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1.- Disposiciones generales. (Artículos 101 a 104)</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	</a:t>
            </a:r>
            <a:r>
              <a:rPr b="1" lang="es-ES" sz="2400" spc="-1" strike="noStrike">
                <a:solidFill>
                  <a:srgbClr val="3333cc"/>
                </a:solidFill>
                <a:latin typeface="Times New Roman"/>
              </a:rPr>
              <a:t>Art. 101. Los acreedores se reunirán en junta de acuerdo a las reglas del presente Títul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	</a:t>
            </a:r>
            <a:r>
              <a:rPr b="1" lang="es-ES" sz="2400" spc="-1" strike="noStrike">
                <a:solidFill>
                  <a:srgbClr val="3333cc"/>
                </a:solidFill>
                <a:latin typeface="Times New Roman"/>
              </a:rPr>
              <a:t>Art. 102. Sobre el derecho a vot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	</a:t>
            </a:r>
            <a:r>
              <a:rPr b="1" lang="es-ES" sz="2400" spc="-1" strike="noStrike">
                <a:solidFill>
                  <a:srgbClr val="3333cc"/>
                </a:solidFill>
                <a:latin typeface="Times New Roman"/>
              </a:rPr>
              <a:t>Art. 103. Sobre la asistencia personal o por medio de mandatario (formalidades del mandat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	</a:t>
            </a:r>
            <a:r>
              <a:rPr b="1" lang="es-ES" sz="2400" spc="-1" strike="noStrike">
                <a:solidFill>
                  <a:srgbClr val="3333cc"/>
                </a:solidFill>
                <a:latin typeface="Times New Roman"/>
              </a:rPr>
              <a:t>Art. 104. Prohibición de fraccionar los créditos una vez declarada la quiebra.</a:t>
            </a:r>
            <a:endParaRPr b="0" lang="en-US" sz="2400" spc="-1" strike="noStrike">
              <a:solidFill>
                <a:srgbClr val="000000"/>
              </a:solidFill>
              <a:latin typeface="Times New Roman"/>
            </a:endParaRPr>
          </a:p>
        </p:txBody>
      </p:sp>
      <p:sp>
        <p:nvSpPr>
          <p:cNvPr id="63" name=""/>
          <p:cNvSpPr/>
          <p:nvPr/>
        </p:nvSpPr>
        <p:spPr>
          <a:xfrm>
            <a:off x="358920" y="304920"/>
            <a:ext cx="738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Arial"/>
              </a:rPr>
              <a:t>LEY DE QUIEBR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539640" y="1197000"/>
            <a:ext cx="7632720" cy="494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2.- De la primera junta de acreedores. (Artículos 105 a 109)</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3.- De las reuniones ordinarias y extraordinarias y de la continuación efectiva del giro del fallido. (Artículos 110 a 119)</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Título IX</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De la realización del Activ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Artículos 120 a 13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6" name=""/>
          <p:cNvSpPr/>
          <p:nvPr/>
        </p:nvSpPr>
        <p:spPr>
          <a:xfrm>
            <a:off x="358920" y="304920"/>
            <a:ext cx="738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Arial"/>
              </a:rPr>
              <a:t>LEY DE QUIEBR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539640" y="1197000"/>
            <a:ext cx="7632720" cy="5123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Título X</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De la liquidación del pasivo (Artículos 131 a 156)</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1.- De la verificación de créditos. (Artículos 131 a 146)</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2.- De la graduación de créditos y su pago. (Artículos 147 a 156)</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Título X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Del sobreseimiento en los procedimientos de la quiebr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Artículos 157 a 168)</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1.- Del sobreseimiento en general. (Artículo 157)</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2.- Del sobreseimiento temporal. (Artículos 158 a 163)</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3.- Del sobreseimiento definitivo. (Artículos 164 a 168)</a:t>
            </a:r>
            <a:endParaRPr b="0" lang="en-US" sz="2400" spc="-1" strike="noStrike">
              <a:solidFill>
                <a:srgbClr val="000000"/>
              </a:solidFill>
              <a:latin typeface="Times New Roman"/>
            </a:endParaRPr>
          </a:p>
        </p:txBody>
      </p:sp>
      <p:sp>
        <p:nvSpPr>
          <p:cNvPr id="69" name=""/>
          <p:cNvSpPr/>
          <p:nvPr/>
        </p:nvSpPr>
        <p:spPr>
          <a:xfrm>
            <a:off x="358920" y="304920"/>
            <a:ext cx="738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Arial"/>
              </a:rPr>
              <a:t>LEY DE QUIEBR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4T16:53:20Z</dcterms:created>
  <dc:creator>JLLB_</dc:creator>
  <dc:description/>
  <dc:language>en-US</dc:language>
  <cp:lastModifiedBy>Referencia05</cp:lastModifiedBy>
  <dcterms:modified xsi:type="dcterms:W3CDTF">2009-09-10T14:16:51Z</dcterms:modified>
  <cp:revision>135</cp:revision>
  <dc:subject/>
  <dc:title>Diapositiva 1</dc:title>
</cp:coreProperties>
</file>