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B165-CAE2-42E6-BCBD-9949F44E9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8B3A-85F5-4882-823C-536E2FD61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12F1-8BEE-4EFE-9D4F-A05405144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2D3A-6719-4911-AE0F-043BF1905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ECA5B-5F50-457E-A479-0D14E88E6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3FF8B-4504-410F-AA5B-F6A8430DB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5308C-6931-43D0-93AB-29FB71FAE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D702A-09CF-42F1-801A-2B14AE476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1BA7A-DECE-4A32-ACBF-8196979D8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4239A-4E22-41BE-B599-94954A346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9B093-6550-4EA6-893A-E9C32FD3C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D75B-95A9-4246-84B2-87BBCF4A8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D022A-99C5-4B75-92EB-A6629B671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4723D-E7C8-4DDA-BE85-855A8A84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F04B9-F6AC-4259-B5B2-0BC6F2FF3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BA690-9CDB-4664-AE7D-9B9381091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59A80-DA97-4F5F-B18B-FACBD8803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3F52-A68E-478A-900D-0E8CB950B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DB6B-F93F-488C-AD08-91EC69121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9F3B-E197-40C5-BB6B-007C54605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5348-E926-4C0A-871C-C3A5284E0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878C-B424-4D3C-BBD8-F34820C9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4443-A9EE-4451-9B69-FB572D783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E673-1259-4E7C-8E46-7F05F61D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FEC21-7E71-4BC0-9A39-7A6D442AB678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5533E-FC37-4DCE-8A4B-FA74FECC01C7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330066"/>
                </a:solidFill>
                <a:latin typeface="Arial"/>
              </a:rPr>
              <a:t>Junta de Acreedore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ítulo VIII, Libro IV del Código de Comercio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4500720" y="1557360"/>
            <a:ext cx="0" cy="4751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II.- Síndico             III.- Fallid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ólo derecho a voz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xigir constancia de sus     observ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Puede acompañarse por personas que necesariamente sean oíd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Íd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s-CL" sz="1800" spc="-1" strike="noStrike">
                <a:solidFill>
                  <a:srgbClr val="330066"/>
                </a:solidFill>
                <a:latin typeface="Arial"/>
              </a:rPr>
              <a:t>Salvo en que la ley requi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0066"/>
                </a:solidFill>
                <a:latin typeface="Arial"/>
              </a:rPr>
              <a:t>expresamente su consent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050920" y="2205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11640" y="2060640"/>
            <a:ext cx="720720" cy="576360"/>
          </a:xfrm>
          <a:prstGeom prst="rightArrow">
            <a:avLst>
              <a:gd name="adj1" fmla="val 50000"/>
              <a:gd name="adj2" fmla="val 31262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11280" y="4221000"/>
            <a:ext cx="7632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11280" y="1484280"/>
            <a:ext cx="7273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95280" y="4365720"/>
            <a:ext cx="2952720" cy="718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Asistencia del síndico y fallid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andatario        Instrumento Públ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nstrumento Priv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anda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ismas facult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lvo limitación establecida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867280" y="328464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46160" y="3141720"/>
            <a:ext cx="2663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Firma del mandan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utorizada por el secret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el Tribunal o notar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87280" y="3068640"/>
            <a:ext cx="576360" cy="865080"/>
          </a:xfrm>
          <a:prstGeom prst="upDownArrow">
            <a:avLst>
              <a:gd name="adj1" fmla="val 50000"/>
              <a:gd name="adj2" fmla="val 29879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11280" y="285264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411280" y="2924280"/>
            <a:ext cx="57636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23800" y="5248440"/>
            <a:ext cx="8170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hibición: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un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mandato           para más de una junta (salvo reemplaz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puede: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un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mandatario           para más de un acree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780000" y="5877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51280" y="6524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5734080"/>
            <a:ext cx="3492360" cy="1123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24000" y="692280"/>
            <a:ext cx="3095640" cy="792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692360" y="3213000"/>
            <a:ext cx="4032000" cy="792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96520" y="857160"/>
            <a:ext cx="233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clarada la Quie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9040" y="177336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hibición de fraccionar crédi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770720" y="1792440"/>
            <a:ext cx="339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torgar mandato por una par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l créd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3814200" y="1593720"/>
            <a:ext cx="216000" cy="2158920"/>
          </a:xfrm>
          <a:custGeom>
            <a:avLst/>
            <a:gdLst>
              <a:gd name="textAreaLeft" fmla="*/ 0 w 216000"/>
              <a:gd name="textAreaRight" fmla="*/ 78120 w 216000"/>
              <a:gd name="textAreaTop" fmla="*/ 56160 h 2158920"/>
              <a:gd name="textAreaBottom" fmla="*/ 210276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769040" y="335772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ierde derecho de asistir a reuni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la junta de acree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5724360" y="3428640"/>
            <a:ext cx="6494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347880" y="3284640"/>
            <a:ext cx="279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traven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presentante del créd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724360" y="3645000"/>
            <a:ext cx="57636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979640" y="1484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995640" y="1844640"/>
            <a:ext cx="576360" cy="289080"/>
          </a:xfrm>
          <a:prstGeom prst="leftRightArrow">
            <a:avLst>
              <a:gd name="adj1" fmla="val 50000"/>
              <a:gd name="adj2" fmla="val 39691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26920" y="3068640"/>
            <a:ext cx="720720" cy="2305080"/>
          </a:xfrm>
          <a:custGeom>
            <a:avLst/>
            <a:gdLst>
              <a:gd name="textAreaLeft" fmla="*/ 96480 w 720720"/>
              <a:gd name="textAreaRight" fmla="*/ 624240 w 720720"/>
              <a:gd name="textAreaTop" fmla="*/ 403200 h 2305080"/>
              <a:gd name="textAreaBottom" fmla="*/ 167112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553760" y="4581360"/>
            <a:ext cx="377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agan valer una porción del créd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30 días anteriores a la decla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372720" y="4797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UN SOLO V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164360" y="5084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440680" y="5445000"/>
            <a:ext cx="33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presentado por un comun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071600" y="6237360"/>
            <a:ext cx="49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n acuerdo </a:t>
            </a:r>
            <a:r>
              <a:rPr b="0" lang="es-C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solicitar designación al Tribu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877080" y="5877000"/>
            <a:ext cx="358920" cy="360360"/>
          </a:xfrm>
          <a:prstGeom prst="downArrow">
            <a:avLst>
              <a:gd name="adj1" fmla="val 50000"/>
              <a:gd name="adj2" fmla="val 2510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292720" y="4797360"/>
            <a:ext cx="936720" cy="287280"/>
          </a:xfrm>
          <a:prstGeom prst="rightArrow">
            <a:avLst>
              <a:gd name="adj1" fmla="val 50000"/>
              <a:gd name="adj2" fmla="val 81516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59840" y="5705640"/>
            <a:ext cx="3432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No se aplica por liquidación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una sociedad, o participación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munidad exclusivamente form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or dicho crédi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71280" y="227664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Junta Constitutiv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826920" y="333360"/>
            <a:ext cx="2519640" cy="1440000"/>
          </a:xfrm>
          <a:prstGeom prst="irregularSeal1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nt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116000" y="2421000"/>
            <a:ext cx="1727280" cy="1079280"/>
          </a:xfrm>
          <a:prstGeom prst="ellipse">
            <a:avLst/>
          </a:prstGeom>
          <a:solidFill>
            <a:srgbClr val="66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ario Ofi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348000" y="2133720"/>
            <a:ext cx="2521080" cy="6476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30 y 40 días háb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979640" y="1628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732720" y="2133720"/>
            <a:ext cx="2089080" cy="13665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Junta Constitu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2 o más con  derec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 voto </a:t>
            </a:r>
            <a:r>
              <a:rPr b="0" lang="es-C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2/3 pasi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2771640" y="2492280"/>
            <a:ext cx="50508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94036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380360" y="3645000"/>
            <a:ext cx="718920" cy="1368360"/>
          </a:xfrm>
          <a:prstGeom prst="downArrow">
            <a:avLst>
              <a:gd name="adj1" fmla="val 50000"/>
              <a:gd name="adj2" fmla="val 47584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732720" y="5084640"/>
            <a:ext cx="2016000" cy="1225800"/>
          </a:xfrm>
          <a:prstGeom prst="ellipse">
            <a:avLst/>
          </a:prstGeom>
          <a:solidFill>
            <a:srgbClr val="66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gunda ci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491440" y="3952800"/>
            <a:ext cx="209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5 a 10 días háb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430520" y="4869000"/>
            <a:ext cx="1641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u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aturale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ircunsta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227640" y="4797360"/>
            <a:ext cx="223920" cy="1727280"/>
          </a:xfrm>
          <a:custGeom>
            <a:avLst/>
            <a:gdLst>
              <a:gd name="textAreaLeft" fmla="*/ 0 w 223920"/>
              <a:gd name="textAreaRight" fmla="*/ 80640 w 223920"/>
              <a:gd name="textAreaTop" fmla="*/ 45000 h 1727280"/>
              <a:gd name="textAreaBottom" fmla="*/ 168228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780000" y="4797360"/>
            <a:ext cx="360360" cy="1727280"/>
          </a:xfrm>
          <a:custGeom>
            <a:avLst/>
            <a:gdLst>
              <a:gd name="textAreaLeft" fmla="*/ 230400 w 360360"/>
              <a:gd name="textAreaRight" fmla="*/ 360720 w 360360"/>
              <a:gd name="textAreaTop" fmla="*/ 45000 h 1727280"/>
              <a:gd name="textAreaBottom" fmla="*/ 1682280 h 172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195640" y="5229360"/>
            <a:ext cx="1438200" cy="5047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or avi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1835280" y="551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79280" y="5084640"/>
            <a:ext cx="1548000" cy="8654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Junta Constituti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(sin quóru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ugar          sede del tribu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ugar ad hoc que el tribunal desig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eside              Ju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inistro de fe           secre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signa el ju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908000" y="620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908000" y="692280"/>
            <a:ext cx="503280" cy="43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195640" y="24210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987640" y="3716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987640" y="3789360"/>
            <a:ext cx="576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940360" y="2349360"/>
            <a:ext cx="503280" cy="1871640"/>
          </a:xfrm>
          <a:custGeom>
            <a:avLst/>
            <a:gdLst>
              <a:gd name="textAreaLeft" fmla="*/ 0 w 503280"/>
              <a:gd name="textAreaRight" fmla="*/ 181800 w 503280"/>
              <a:gd name="textAreaTop" fmla="*/ 48600 h 1871640"/>
              <a:gd name="textAreaBottom" fmla="*/ 1823040 h 18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51920" y="2708280"/>
            <a:ext cx="2450160" cy="916920"/>
          </a:xfrm>
          <a:prstGeom prst="rect">
            <a:avLst/>
          </a:prstGeom>
          <a:noFill/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scriben el acta 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ja constancia de l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ratado en la reun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740720" y="3789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001200" y="5321160"/>
            <a:ext cx="31521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corporar a libro espec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levado por el sínd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agrega a los autos cop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utoriz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0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Materi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Oír cuenta que presenta el síndico provisional del estado de negocios del fallido, activo y pasivo, y de la labor que realiz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atificación del síndico provisional, titular y suplente, o nombran reemplazante Excepción: NO hay bienes o de poca monta (-1000 UF</a:t>
            </a:r>
            <a:r>
              <a:rPr b="0" lang="es-C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realización sumari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cordar día y hora de reuniones ordinarias.  Mínimo una al mes. Primera </a:t>
            </a:r>
            <a:r>
              <a:rPr b="0" lang="es-C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30 y 45 días corridos, salvo que la junta y síndico acuerden ora fech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ignar presidente y secretario para otras juntas (titular y suplen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ualquier otro acuerdo necesario para el más adecuado cumplimiento de las funciones que a la junta y al síndico compe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4000" y="170028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Junta Ordinari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684360" y="2421000"/>
            <a:ext cx="2232000" cy="9367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sínd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90240" y="1890720"/>
            <a:ext cx="50637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forme compl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grama de realización del ac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imación de los gastos de administ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 la Qui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2627280" y="2060640"/>
            <a:ext cx="12970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2916360" y="2707920"/>
            <a:ext cx="1079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700360" y="3213000"/>
            <a:ext cx="1224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372360" y="3573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582080" y="4221000"/>
            <a:ext cx="41994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justarse a las instrucciones genera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la Superintendencia de Quieb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03440" y="5373720"/>
            <a:ext cx="573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 es conveniente propone la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ontinuación efe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el giro total o parcial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, 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ajenación de todo o parte del activo como conjunt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 amb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11280" y="3357720"/>
            <a:ext cx="1008360" cy="223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25240" y="352440"/>
            <a:ext cx="617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ugar, día, hora, acordado en la primera junta (constitutiv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Quórum de Constit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2 o más acreedores </a:t>
            </a:r>
            <a:r>
              <a:rPr b="0" lang="es-C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25% de créditos con derecho a voto. (102 inc.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Acuerd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2 o más acreedores que sumen mayoría absoluta de los créditos presentes en la reunión con derecho a vo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alvo que la ley exija quórum espe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mpate         decide quien preside la reun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Preside y ministro de fe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      Personas señaladas en la junta constitu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levanta acta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de lo trat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763640" y="3068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332000" y="400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635280" y="465300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Característic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Órgano de la Quiebr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Deliberan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oberan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Acuerdos en sala legalmente constitu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Materias    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onocer y pronunciarse sobr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Informe periódico del sínd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proposiciones que presen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Formular proposic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Adoptar acuerdos que estime necesari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índico lee el 21 bis </a:t>
            </a:r>
            <a:r>
              <a:rPr b="0" lang="es-CL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se exige o no al síndico garantía de fiel desempeño de su cargo </a:t>
            </a:r>
            <a:r>
              <a:rPr b="0" lang="es-CL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clase y mont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94920" y="1773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Junta extraordinari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Cuánd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Juez           de ofi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 petición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uando se acuerde en junta ant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057280" y="2224080"/>
            <a:ext cx="347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índ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perintend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creedores </a:t>
            </a:r>
            <a:r>
              <a:rPr b="0" lang="es-C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¼ del pasivo c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 a v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2360" y="1989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763640" y="2060640"/>
            <a:ext cx="576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211640" y="2421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211640" y="2565360"/>
            <a:ext cx="8650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211640" y="2637000"/>
            <a:ext cx="792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35120" y="5032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0066"/>
                </a:solidFill>
                <a:latin typeface="Arial"/>
              </a:rPr>
              <a:t>Requisitos para su autorización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vocatorio por aviso en el Diario Oficial (al menos 7 días corridos de anticipació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itación la hace el sínd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stancia en el libro especial de actas </a:t>
            </a:r>
            <a:r>
              <a:rPr b="0" lang="es-C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llevado por el sínd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uscribe </a:t>
            </a:r>
            <a:r>
              <a:rPr b="0" lang="es-C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residente, secretario, el o acreedores designados para la ses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pia de ellas, autorizadas por el secretario, se agregará a los autos dentro de tercero d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 entregan a los acreedores cuando lo solici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575960" y="2492280"/>
            <a:ext cx="223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u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bjeto de la reun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543480" y="3952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067280" y="2349360"/>
            <a:ext cx="360360" cy="1295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Revocación del síndic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ólo en j. extraordinar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Acuerdo </a:t>
            </a:r>
            <a:r>
              <a:rPr b="0" lang="es-CL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 Mayoría absoluta del pasivo con    derecho a vo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Designación de un síndico nuevo </a:t>
            </a:r>
            <a:r>
              <a:rPr b="0" lang="es-CL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 art. 10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124000" y="3789360"/>
            <a:ext cx="43200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Tip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Junta constitu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Junta ordinar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Junta extraordinar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Quiénes concurren a las juntas de acreedo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Acreedo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índ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Falli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I.- Acreedores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 u="sng">
                <a:solidFill>
                  <a:srgbClr val="000000"/>
                </a:solidFill>
                <a:uFillTx/>
                <a:latin typeface="Arial"/>
              </a:rPr>
              <a:t>1) Con derecho a vo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rédito reconocidos </a:t>
            </a:r>
            <a:r>
              <a:rPr b="0" lang="es-CL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 verificado crédi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No reconocido </a:t>
            </a:r>
            <a:r>
              <a:rPr b="0" lang="es-CL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 Audiencia del art. 10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4995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Audiencia del 102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55960" y="1125360"/>
            <a:ext cx="360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ía hábil que no sea sáb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nterior al señalado para la ju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ienza a funcionar el Tribu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067280" y="1413000"/>
            <a:ext cx="576000" cy="287280"/>
          </a:xfrm>
          <a:prstGeom prst="leftRightArrow">
            <a:avLst>
              <a:gd name="adj1" fmla="val 50000"/>
              <a:gd name="adj2" fmla="val 39914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211640" y="2708280"/>
            <a:ext cx="84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erb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632320" y="3573360"/>
            <a:ext cx="403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índico informa sobre la verosimilitu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Y monto de créditos no reconoc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792320" y="907920"/>
            <a:ext cx="366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creedores verifican crédi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asta el segundo día hábil 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 sea sábado anterior a la fech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ésta audi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209760" y="5157720"/>
            <a:ext cx="5267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alla en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única insta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ase de antecedentes disponib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obre créditos no reconocidos (impugnados o n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onto por derecho a vot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5400000">
            <a:off x="4392000" y="873000"/>
            <a:ext cx="503280" cy="3024360"/>
          </a:xfrm>
          <a:custGeom>
            <a:avLst/>
            <a:gdLst>
              <a:gd name="textAreaLeft" fmla="*/ 0 w 503280"/>
              <a:gd name="textAreaRight" fmla="*/ 181800 w 503280"/>
              <a:gd name="textAreaTop" fmla="*/ 78840 h 3024360"/>
              <a:gd name="textAreaBottom" fmla="*/ 2945520 h 302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643280" y="3141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067280" y="45813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Ju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192560" y="4673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843280" y="5084640"/>
            <a:ext cx="71280" cy="1513080"/>
          </a:xfrm>
          <a:custGeom>
            <a:avLst/>
            <a:gdLst>
              <a:gd name="textAreaLeft" fmla="*/ 45720 w 71280"/>
              <a:gd name="textAreaRight" fmla="*/ 71640 w 71280"/>
              <a:gd name="textAreaTop" fmla="*/ 39240 h 1513080"/>
              <a:gd name="textAreaBottom" fmla="*/ 1473840 h 151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4880" y="5373720"/>
            <a:ext cx="23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precia anteced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n conci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0066"/>
                </a:solidFill>
                <a:latin typeface="Arial"/>
              </a:rPr>
              <a:t>Concurren a la audiencia: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l Sínd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l falli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Los acreedores                                                                                                                            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708360" y="2997360"/>
            <a:ext cx="287280" cy="1368360"/>
          </a:xfrm>
          <a:custGeom>
            <a:avLst/>
            <a:gdLst>
              <a:gd name="textAreaLeft" fmla="*/ 0 w 287280"/>
              <a:gd name="textAreaRight" fmla="*/ 103680 w 28728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287600" y="3305160"/>
            <a:ext cx="223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I QUI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efect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Reconocimiento exclusivo para la junt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ueden impugnar  los créditos y preferencias:    </a:t>
            </a:r>
            <a:r>
              <a:rPr b="0" lang="es-CL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 el sínd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CL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los acreedo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CL" sz="3200" spc="-1" strike="noStrike" u="sng">
                <a:solidFill>
                  <a:srgbClr val="330066"/>
                </a:solidFill>
                <a:uFillTx/>
                <a:latin typeface="Arial"/>
              </a:rPr>
              <a:t>2) Acreedores sin derecho a voto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ueden concurri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in derecho a vo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onstancia de observaciones </a:t>
            </a:r>
            <a:r>
              <a:rPr b="0" lang="es-CL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 fir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 agrega al acta pertinen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02:18:24Z</dcterms:created>
  <dc:creator>Valentina</dc:creator>
  <dc:description/>
  <dc:language>en-US</dc:language>
  <cp:lastModifiedBy>Valentina</cp:lastModifiedBy>
  <dcterms:modified xsi:type="dcterms:W3CDTF">2009-10-07T07:02:51Z</dcterms:modified>
  <cp:revision>23</cp:revision>
  <dc:subject/>
  <dc:title>Junta de Acreedores</dc:title>
</cp:coreProperties>
</file>