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830F-6582-4A33-B6F1-C3C6C44A2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FC93-69D3-40C9-9D3F-C30F414D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888E-E8D9-4D87-BD29-62A172D07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CC16-08BA-4275-9630-657470939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E5CA-74BF-4752-90C9-6F5EC8D90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2F1C-406E-43B9-ADED-CBC4D0E7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419A-51C0-453C-9611-8B92FCF8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8EA4-D8CF-4453-83C7-3BD43FF6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5782-4846-4B9E-B55D-FF618130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BA47-6473-44B1-87A5-69A3B736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DDAA-BF56-430E-A757-EC9E12C1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8ACA-43E3-4D3E-9AF6-77CE7194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A75A-6D78-436B-AC82-CC2B3E6A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4E0D-2B89-46A0-AB17-B4CF8E1C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9E87-1DD2-40D3-8A1C-C7EC6CC0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8033-3174-4C1F-BB61-118326091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1DD6-FE84-4325-A895-1ACFB03E4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1CD6-E4E0-4EA3-A876-A59BB440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712D-E262-48AE-9687-2662436A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C17D-6085-45B2-86B4-C23F7525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7B38-24CD-468A-8C88-90B26457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1BA5-B3A3-42A9-B493-AB8280EB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B00C-F9D9-46F0-83C8-168F7938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53F5-B9D6-4ADC-B916-04B1356B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7CA8-9FBE-4899-8ED9-AF19A34ECD18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46CD-254A-4A3D-A9EB-AC5628B48107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330066"/>
                </a:solidFill>
                <a:latin typeface="Arial"/>
              </a:rPr>
              <a:t>Junta de Acreedore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VIII, Libro IV del Código de Comercio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500720" y="1557360"/>
            <a:ext cx="0" cy="4751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II.- Síndico             III.- Fallid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ólo derecho a vo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igir constancia de sus     obser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uede acompañarse por personas que necesariamente sean oíd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Íd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s-CL" sz="1800" spc="-1" strike="noStrike">
                <a:solidFill>
                  <a:srgbClr val="330066"/>
                </a:solidFill>
                <a:latin typeface="Arial"/>
              </a:rPr>
              <a:t>Salvo en que la ley requ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0066"/>
                </a:solidFill>
                <a:latin typeface="Arial"/>
              </a:rPr>
              <a:t>expresamente su consent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50920" y="22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060640"/>
            <a:ext cx="720720" cy="576360"/>
          </a:xfrm>
          <a:prstGeom prst="rightArrow">
            <a:avLst>
              <a:gd name="adj1" fmla="val 50000"/>
              <a:gd name="adj2" fmla="val 31262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4221000"/>
            <a:ext cx="763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1280" y="1484280"/>
            <a:ext cx="7273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95280" y="4365720"/>
            <a:ext cx="2952720" cy="71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Asistencia del síndico y fallid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ndatario        Instrumento Púb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strumento Priv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nda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ismas facult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lvo limitación establecida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67280" y="3284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6160" y="3141720"/>
            <a:ext cx="266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irma del manda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utorizada por el secret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l Tribunal o nota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87280" y="3068640"/>
            <a:ext cx="576360" cy="865080"/>
          </a:xfrm>
          <a:prstGeom prst="upDownArrow">
            <a:avLst>
              <a:gd name="adj1" fmla="val 50000"/>
              <a:gd name="adj2" fmla="val 2987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11280" y="2852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11280" y="2924280"/>
            <a:ext cx="576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3800" y="5248440"/>
            <a:ext cx="817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hibición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u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mandato           para más de una junta (salvo reemplaz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puede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u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mandatario           para más de un acr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80000" y="587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51280" y="6524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5734080"/>
            <a:ext cx="3492360" cy="1123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692280"/>
            <a:ext cx="309564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92360" y="3213000"/>
            <a:ext cx="4032000" cy="79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6520" y="857160"/>
            <a:ext cx="23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clarada la Qui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9040" y="177336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hibición de fraccionar créd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70720" y="1792440"/>
            <a:ext cx="33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torgar mandato por una pa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l créd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3814200" y="1593720"/>
            <a:ext cx="216000" cy="2158920"/>
          </a:xfrm>
          <a:custGeom>
            <a:avLst/>
            <a:gdLst>
              <a:gd name="textAreaLeft" fmla="*/ 0 w 216000"/>
              <a:gd name="textAreaRight" fmla="*/ 78120 w 216000"/>
              <a:gd name="textAreaTop" fmla="*/ 56160 h 2158920"/>
              <a:gd name="textAreaBottom" fmla="*/ 210276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69040" y="33577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ierde derecho de asistir a reun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la junta de acr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724360" y="3428640"/>
            <a:ext cx="6494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47880" y="3284640"/>
            <a:ext cx="27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raven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resentante del créd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24360" y="3645000"/>
            <a:ext cx="576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79640" y="1484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95640" y="1844640"/>
            <a:ext cx="576360" cy="289080"/>
          </a:xfrm>
          <a:prstGeom prst="leftRightArrow">
            <a:avLst>
              <a:gd name="adj1" fmla="val 50000"/>
              <a:gd name="adj2" fmla="val 39691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6920" y="3068640"/>
            <a:ext cx="720720" cy="2305080"/>
          </a:xfrm>
          <a:custGeom>
            <a:avLst/>
            <a:gdLst>
              <a:gd name="textAreaLeft" fmla="*/ 96480 w 720720"/>
              <a:gd name="textAreaRight" fmla="*/ 624240 w 720720"/>
              <a:gd name="textAreaTop" fmla="*/ 403200 h 2305080"/>
              <a:gd name="textAreaBottom" fmla="*/ 167112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53760" y="4581360"/>
            <a:ext cx="377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agan valer una porción del créd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0 días anteriores a la decla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372720" y="4797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 SOLO V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164360" y="508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40680" y="5445000"/>
            <a:ext cx="33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resentado por un comu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071600" y="6237360"/>
            <a:ext cx="49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n acuerdo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olicitar designación al Tribu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77080" y="5877000"/>
            <a:ext cx="358920" cy="360360"/>
          </a:xfrm>
          <a:prstGeom prst="downArrow">
            <a:avLst>
              <a:gd name="adj1" fmla="val 50000"/>
              <a:gd name="adj2" fmla="val 251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92720" y="4797360"/>
            <a:ext cx="936720" cy="287280"/>
          </a:xfrm>
          <a:prstGeom prst="rightArrow">
            <a:avLst>
              <a:gd name="adj1" fmla="val 50000"/>
              <a:gd name="adj2" fmla="val 81516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9840" y="5705640"/>
            <a:ext cx="3432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o se aplica por liquidación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a sociedad, o participación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munidad exclusivamente form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or dicho créd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71280" y="2276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Junta Constitutiv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826920" y="333360"/>
            <a:ext cx="2519640" cy="144000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nt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16000" y="2421000"/>
            <a:ext cx="1727280" cy="107928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ario Of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348000" y="2133720"/>
            <a:ext cx="2521080" cy="647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0 y 40 días háb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79640" y="1628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732720" y="2133720"/>
            <a:ext cx="2089080" cy="1366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unta Constitu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2 o más con  der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 voto </a:t>
            </a:r>
            <a:r>
              <a:rPr b="0" lang="es-C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2/3 pas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771640" y="2492280"/>
            <a:ext cx="5050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94036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380360" y="3645000"/>
            <a:ext cx="718920" cy="1368360"/>
          </a:xfrm>
          <a:prstGeom prst="downArrow">
            <a:avLst>
              <a:gd name="adj1" fmla="val 50000"/>
              <a:gd name="adj2" fmla="val 47584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732720" y="5084640"/>
            <a:ext cx="2016000" cy="122580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gunda ci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491440" y="395280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5 a 10 días háb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30520" y="4869000"/>
            <a:ext cx="164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atural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rcunst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227640" y="4797360"/>
            <a:ext cx="223920" cy="1727280"/>
          </a:xfrm>
          <a:custGeom>
            <a:avLst/>
            <a:gdLst>
              <a:gd name="textAreaLeft" fmla="*/ 0 w 223920"/>
              <a:gd name="textAreaRight" fmla="*/ 80640 w 22392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780000" y="4797360"/>
            <a:ext cx="360360" cy="1727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95640" y="5229360"/>
            <a:ext cx="1438200" cy="5047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r avi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1835280" y="551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9280" y="5084640"/>
            <a:ext cx="1548000" cy="865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Junta Constitu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sin quóru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ugar          sede del tribu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ugar ad hoc que el tribunal desi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side              Ju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inistro de fe           secre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signa el ju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908000" y="620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08000" y="692280"/>
            <a:ext cx="50328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95640" y="2421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987640" y="3716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987640" y="378936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40360" y="2349360"/>
            <a:ext cx="503280" cy="1871640"/>
          </a:xfrm>
          <a:custGeom>
            <a:avLst/>
            <a:gdLst>
              <a:gd name="textAreaLeft" fmla="*/ 0 w 503280"/>
              <a:gd name="textAreaRight" fmla="*/ 181800 w 50328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51920" y="2708280"/>
            <a:ext cx="2450160" cy="916920"/>
          </a:xfrm>
          <a:prstGeom prst="rect">
            <a:avLst/>
          </a:prstGeom>
          <a:noFill/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scriben el acta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ja constancia de 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tado en la reun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740720" y="3789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01200" y="5321160"/>
            <a:ext cx="3152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corporar a libro espec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levado por el sínd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agrega a los autos cop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tor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0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Mater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ír cuenta que presenta el síndico provisional del estado de negocios del fallido, activo y pasivo, y de la labor que reali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atificación del síndico provisional, titular y suplente, o nombran reemplazante Excepción: NO hay bienes o de poca monta (-1000 UF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realización sumari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ordar día y hora de reuniones ordinarias.  Mínimo una al mes. Primera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30 y 45 días corridos, salvo que la junta y síndico acuerden ora fech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ignar presidente y secretario para otras juntas (titular y suplen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ualquier otro acuerdo necesario para el más adecuado cumplimiento de las funciones que a la junta y al síndico compe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000" y="1700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Junta Ordinar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84360" y="2421000"/>
            <a:ext cx="2232000" cy="9367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sínd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90240" y="1890720"/>
            <a:ext cx="5063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forme compl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grama de realización del a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imación de los gastos de administ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 la Qui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2627280" y="2060640"/>
            <a:ext cx="12970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916360" y="2707920"/>
            <a:ext cx="1079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00360" y="3213000"/>
            <a:ext cx="1224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372360" y="357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82080" y="4221000"/>
            <a:ext cx="4199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justarse a las instrucciones gener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la Superintendencia de Quieb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03440" y="5373720"/>
            <a:ext cx="573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es conveniente propone l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ntinuación ef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l giro total o parcial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ajenación de todo o parte del activo como conjunt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am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11280" y="3357720"/>
            <a:ext cx="1008360" cy="223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5240" y="352440"/>
            <a:ext cx="617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ugar, día, hora, acordado en la primera junta (constituti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Quórum de Constit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2 o más acreedores </a:t>
            </a:r>
            <a:r>
              <a:rPr b="0" lang="es-C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25% de créditos con derecho a voto. (102 inc.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cuer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2 o más acreedores que sumen mayoría absoluta de los créditos presentes en la reunión con derecho a vo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alvo que la ley exija quórum espe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mpate         decide quien preside la reun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reside y ministro de fe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 Personas señaladas en la junta constitu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levanta act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de lo tra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6364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32000" y="400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35280" y="4653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Característic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Órgano de la Quieb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elibera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obera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cuerdos en sala legalmente constitu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Materias    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ocer y pronunciarse sob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Informe periódico del sínd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roposiciones que presen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Formular proposi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doptar acuerdos que estime necesar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índico lee el 21 bis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se exige o no al síndico garantía de fiel desempeño de su cargo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clase y mon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4920" y="177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Junta extraordinar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Cuánd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Juez           de of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petició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ando se acuerde en junta an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57280" y="2224080"/>
            <a:ext cx="34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ín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erinten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reedores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¼ del pasivo c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v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2360" y="1989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63640" y="206064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11640" y="2421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11640" y="2565360"/>
            <a:ext cx="865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11640" y="2637000"/>
            <a:ext cx="79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5120" y="5032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0066"/>
                </a:solidFill>
                <a:latin typeface="Arial"/>
              </a:rPr>
              <a:t>Requisitos para su autorizació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vocatorio por aviso en el Diario Oficial (al menos 7 días corridos de anticipació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itación la hace el sínd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stancia en el libro especial de actas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llevado por el sínd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uscribe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residente, secretario, el o acreedores designados para la se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pia de ellas, autorizadas por el secretario, se agregará a los autos dentro de tercero d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entregan a los acreedores cuando lo solici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5960" y="249228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jeto de la reun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43480" y="395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067280" y="2349360"/>
            <a:ext cx="360360" cy="12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Revocación del síndic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ólo en j. extraordina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cuerdo </a:t>
            </a:r>
            <a:r>
              <a:rPr b="0" lang="es-CL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Mayoría absoluta del pasivo con    derecho a vo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esignación de un síndico nuevo </a:t>
            </a:r>
            <a:r>
              <a:rPr b="0" lang="es-CL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art. 10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124000" y="3789360"/>
            <a:ext cx="432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Tip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Junta constitu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Junta ordina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Junta extraordina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Quiénes concurren a las juntas de acreedo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creed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índ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Falli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I.- Acreedore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1) Con derecho a vo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rédito reconocidos </a:t>
            </a:r>
            <a:r>
              <a:rPr b="0" lang="es-CL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verificado crédi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No reconocido </a:t>
            </a:r>
            <a:r>
              <a:rPr b="0" lang="es-CL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Audiencia del art. 1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499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Audiencia del 10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5960" y="1125360"/>
            <a:ext cx="360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ía hábil que no sea sáb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nterior al señalado para la ju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ienza a funcionar el Tribu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67280" y="1413000"/>
            <a:ext cx="576000" cy="287280"/>
          </a:xfrm>
          <a:prstGeom prst="leftRightArrow">
            <a:avLst>
              <a:gd name="adj1" fmla="val 50000"/>
              <a:gd name="adj2" fmla="val 39914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11640" y="2708280"/>
            <a:ext cx="84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r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32320" y="3573360"/>
            <a:ext cx="40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índico informa sobre la verosimilitu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 monto de créditos no recono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92320" y="907920"/>
            <a:ext cx="36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reedores verifican crédi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asta el segundo día hábil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sea sábado anterior a la fech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ésta audi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09760" y="5157720"/>
            <a:ext cx="5267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lla e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única inst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se de antecedentes disponib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bre créditos no reconocidos (impugnados o 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nto por derecho a vot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4392000" y="873000"/>
            <a:ext cx="503280" cy="3024360"/>
          </a:xfrm>
          <a:custGeom>
            <a:avLst/>
            <a:gdLst>
              <a:gd name="textAreaLeft" fmla="*/ 0 w 503280"/>
              <a:gd name="textAreaRight" fmla="*/ 181800 w 50328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43280" y="3141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67280" y="4581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Ju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92560" y="4673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43280" y="5084640"/>
            <a:ext cx="71280" cy="1513080"/>
          </a:xfrm>
          <a:custGeom>
            <a:avLst/>
            <a:gdLst>
              <a:gd name="textAreaLeft" fmla="*/ 45720 w 71280"/>
              <a:gd name="textAreaRight" fmla="*/ 71640 w 7128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4880" y="5373720"/>
            <a:ext cx="23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precia anteced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n conci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0066"/>
                </a:solidFill>
                <a:latin typeface="Arial"/>
              </a:rPr>
              <a:t>Concurren a la audiencia: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l Sínd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l falli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os acreedores                                                                                      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08360" y="2997360"/>
            <a:ext cx="287280" cy="1368360"/>
          </a:xfrm>
          <a:custGeom>
            <a:avLst/>
            <a:gdLst>
              <a:gd name="textAreaLeft" fmla="*/ 0 w 287280"/>
              <a:gd name="textAreaRight" fmla="*/ 103680 w 2872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87600" y="3305160"/>
            <a:ext cx="22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 QU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efect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Reconocimiento exclusivo para la jun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ueden impugnar  los créditos y preferencias:    </a:t>
            </a:r>
            <a:r>
              <a:rPr b="0" lang="es-CL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el sínd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CL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os acreed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CL" sz="3200" spc="-1" strike="noStrike" u="sng">
                <a:solidFill>
                  <a:srgbClr val="330066"/>
                </a:solidFill>
                <a:uFillTx/>
                <a:latin typeface="Arial"/>
              </a:rPr>
              <a:t>2) Acreedores sin derecho a voto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ueden concurr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in derecho a vo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nstancia de observaciones </a:t>
            </a:r>
            <a:r>
              <a:rPr b="0" lang="es-CL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fir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agrega al acta pertin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02:18:24Z</dcterms:created>
  <dc:creator>Valentina</dc:creator>
  <dc:description/>
  <dc:language>en-US</dc:language>
  <cp:lastModifiedBy>Valentina</cp:lastModifiedBy>
  <dcterms:modified xsi:type="dcterms:W3CDTF">2009-10-07T07:02:51Z</dcterms:modified>
  <cp:revision>23</cp:revision>
  <dc:subject/>
  <dc:title>Junta de Acreedores</dc:title>
</cp:coreProperties>
</file>