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6DD-44D4-49CB-81D8-47962568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F89-2AB0-424C-B9CF-C14402CD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F9D-F290-40D0-843F-235BB9B7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B7C-0C0B-4C6C-8115-37830C62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6D6-2724-42C8-A041-6880927D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270-7F81-4863-92F3-70F17483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EE9-974A-468A-8ED6-8A9FD819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B94-F4F5-4FD4-BF27-8584705E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5DE-17CC-4620-9E73-B277B88B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AE7-C8FA-4503-A625-077ED291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C19-5BC4-40F9-9A0A-6B96823F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8C1-CC4C-4721-8F59-1CA5B498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BA17-697B-4678-9B2C-2EDF0F927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042920" y="4869000"/>
            <a:ext cx="73454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SERVACION Y REALIZACION A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Octubre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05264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.  CONCEPTO GENERALES     (Ricardo Sandoval. Pág 147 y sig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junto de normas relativas a las facultades que la ley entrega al síndico y la junta de acreedores para incautarse de los bienes del fallido, administrarlos y realizar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  INCAUTACION   (Art. 94 Nº1 L.Q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Asumido oficialmente el car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Presencia de Ministro de Fe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Secretario del Tribu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No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Otro designado por ju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Reco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Lib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Documentos                                    del 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Colocarlos en lugar seg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.  CONSERVADOR Y REALIZACIÓN DE 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05264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 INVENTARIO  (Art. 94 Nº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ormar a más tardar el día siguiente háb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ventario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Todos los lib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Correspondencia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del de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Docu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jando constancia del estad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Maquinar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Utiles y equ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Todo derecho o pretensión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esenci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Secretario del Tribu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No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Otro Ministro de Fe designado por juez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05264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  NO EXISTEN  BIENES  (Art. 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breseimiento 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  NUEVOS BIENES POR INVENTARIAR  (Art. 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repite 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6.  OBLIGACION DE INFORMAR  (Art. 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fallido está obligado a indicar y poner a disposición del 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n caso de fuga o fallecimiento, sus colaboradores más cerc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7.  OBJECIONES AL INVENTARIO  (Art. 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lazo 15 días desde publicación del av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llido o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052640"/>
            <a:ext cx="8135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  PARALIZACION ACTIVIDADES   (Art. 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síndico podrá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Hasta la primera junta de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gún lo estime conveniente a los intereses de la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1   Cerrar bajo sello y paraliz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odo o p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ocales, oficinas o establecimientos del 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9.   CONTINUACIÓN PROVISIONAL DEL GIRO  (Art. 99 y 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cisión exclusiva del 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inuar el giro provisional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n forma total o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ólo podrá ejecutar actos que tiendan a facilitar la realización de los bienes o preparar una liquidación progres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10-15T13:08:27Z</dcterms:modified>
  <cp:revision>118</cp:revision>
  <dc:subject/>
  <dc:title>Diapositiva 1</dc:title>
</cp:coreProperties>
</file>