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13EA-9151-418A-A374-0015FE7CB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28F8-ACD0-4624-936C-177234AB5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21CB-BF0B-41C0-BD23-1E862EDA5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2150-A4F8-40C4-A1C8-7728D4838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4DB1-17AD-4E0C-BAEC-F0D04C738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2B92-3A93-4733-A1CD-1F7BF4E64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573F-5FDA-429A-B766-6F6BB66AE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92C4-FAA4-48A3-966D-8C94D0DA4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1EE9-4906-4A33-AF3E-2F37CC23A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488A-2C4C-4226-A881-FD45680B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44A6-E096-497F-8449-9329B0F7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A0D9-576F-4698-8073-BA16E40B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46976-FEB3-47E5-8A43-5AE92D6F3C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200160"/>
            <a:ext cx="488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Universidad de Ch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Facultad de Der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Derecho Comercial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Profesor Sr. José Luis López Blan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1042920" y="4869000"/>
            <a:ext cx="734544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Arial"/>
              </a:rPr>
              <a:t>JUICIO DE QUIEB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CONSERVACION Y REALIZACION AC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Octubre,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1052640"/>
            <a:ext cx="7632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1.  CONCEPTO GENERALES     (Ricardo Sandoval. Pág 147 y sig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Conjunto de normas relativas a las facultades que la ley entrega al síndico y la junta de acreedores para incautarse de los bienes del fallido, administrarlos y realizarl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2.  INCAUTACION   (Art. 94 Nº1 L.Q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- Asumido oficialmente el car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- Presencia de Ministro de Fe: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-Secretario del Tribu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-No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-Otro designado por jue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- </a:t>
            </a:r>
            <a:r>
              <a:rPr b="1" lang="es-ES" sz="1800" spc="-1" strike="noStrike" u="sng">
                <a:solidFill>
                  <a:srgbClr val="3333cc"/>
                </a:solidFill>
                <a:uFillTx/>
                <a:latin typeface="Arial"/>
              </a:rPr>
              <a:t>Reco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-Lib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-Documentos                                    del fall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-Bie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- Colocarlos en lugar segu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8920" y="304920"/>
            <a:ext cx="73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JUICIO DE QUIEBRA.  CONSERVADOR Y REALIZACIÓN DE AC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052640"/>
            <a:ext cx="7632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3. INVENTARIO  (Art. 94 Nº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Formar a más tardar el día siguiente háb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Inventario 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-Todos los lib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-Correspondencia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del deu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-Docum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-Bie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Dejando constancia del estado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-Maquinari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-Utiles y equip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-Todo derecho o pretensión de terc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Presencia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-Secretario del Tribu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-No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-Otro Ministro de Fe designado por juez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JUICIO DE QUIE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1052640"/>
            <a:ext cx="7632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4.  NO EXISTEN  BIENES  (Art. 9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Sobreseimiento tempo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5.  NUEVOS BIENES POR INVENTARIAR  (Art. 9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Se repite el proc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6.  OBLIGACION DE INFORMAR  (Art. 9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l fallido está obligado a indicar y poner a disposición del sínd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n caso de fuga o fallecimiento, sus colaboradores más cerca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7.  OBJECIONES AL INVENTARIO  (Art. 9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Plazo 15 días desde publicación del avi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Fallido o acree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JUICIO DE QUIE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1052640"/>
            <a:ext cx="81356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8.  PARALIZACION ACTIVIDADES   (Art. 1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l síndico podrá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Hasta la primera junta de acree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Según lo estime conveniente a los intereses de la m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8.1   Cerrar bajo sello y paralizar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    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Todo o pa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     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Locales, oficinas o establecimientos del fall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9.   CONTINUACIÓN PROVISIONAL DEL GIRO  (Art. 99 y 1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Decisión exclusiva del sínd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Continuar el giro provisionalm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n forma total o par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Sólo podrá ejecutar actos que tiendan a facilitar la realización de los bienes o preparar una liquidación progres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JUICIO DE QUIE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pc</cp:lastModifiedBy>
  <dcterms:modified xsi:type="dcterms:W3CDTF">2009-10-15T13:08:27Z</dcterms:modified>
  <cp:revision>118</cp:revision>
  <dc:subject/>
  <dc:title>Diapositiva 1</dc:title>
</cp:coreProperties>
</file>