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D0F-F348-4799-BAC5-23E97A81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7C9-89F4-4125-A431-2C3FDBFD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086-B874-4012-906A-1526D8F3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908-6C57-4E1A-A3AC-456E7AC8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751-6507-4F31-A0F2-6F0FB807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3B0-16EE-45FF-8F6A-675010D8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6F8-048A-4AD2-99F9-ADB8D36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FEA-AAF6-4010-9060-8611180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91B-3FA8-49F4-A82C-59ABB77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182-D14B-4359-852A-373ED8E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3A3-578C-4330-B212-606977EE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3BB-3322-4F07-AEE2-D525D42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4778-19DA-41E1-939B-6E1BEA70E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JUICIO  DE  QUIEBRAS 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eptiem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0.  ALIMENTOS DEL FALLIDO.  Art.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comú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CCION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cepto y 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IT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pueden solicitarla.  Art.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ACTERISTICAS  (Puga 27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rrenunci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desis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procede abandono del proce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rescrip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98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   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l deudor. Art. 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l acreedor.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DIMIENTO.  Art.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compe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nunciará a la brevedad po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 SOLICITADA POR EL DEUDOR. (  Art. 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1. Deberá indicar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 de todos sus bienes, indicación de lugar, valor estimativo y gravám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lación de ju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do de deudas con indicación de acreedores y naturaleza de los tít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moria de las causas directas del mal estado de sus negocios, informando inversiones efectuadas con los créditos y detal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998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 lleva contabilidad completa, debe presentar último balance y cuentas de resul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2. Tram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cita a tres acreedores con mayor créditos, o los que hubiere si son me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por céd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eptor de turno, tiene plazo 3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extemporánea no invalida aud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udiencia al tercer día de última no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celebra con los que as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designa síndico titular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 no asisten, se repite c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aso de falta de acuerdo se designa por sort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99864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  SOLICITADA POR ACRE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1. Se deberá indicar: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echos constitu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ompañar doc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frecer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ner síndico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ale vista UF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rédito preferente 2472 Nº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2. Tramitación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udiencia del deu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ácter inform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udor puede con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debe cerciorarse por todos los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dios a su alc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99864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   LA SENTENCIA DE QUIEBRA.  Art.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1.  Declaración si el deudor está comprendido en el artículo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2.  Designación de síndico provisional titular y supl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den de incau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3.  Orden de entregar correspo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4.  Orden de acumular todos los ju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5.  Advertencia al público de no pagar ni entregar mercaderías a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6.  Emplazamiento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7.  Orden de notificar a los acreedores fuera de la Re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8.  Orden de inscribir la declaración de quiebra en el Registro de Interdicciones y Prohibiciones del C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B  Sentencia en caso de desaparecimiento o 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ción de cu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C  Not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l fallido, acreedores y terceros por medio de un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 los síndicos:  por el Secretario del Tribunal u otro Ministro de 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9.  RECURSO DE REPOSICION  (Art. 57 y sigui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urso especialís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cidente de re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itulares: 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ercer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  (sólo rectifi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lazo: Fatal 10 días de no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bjeto:  Se deje sin efecto resolución declaratoria de quieb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rectifique calificación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vinientes:  El actor del incid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ante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adyuvantes:  Tercer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má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spención:  En caso de ONI el síndico adoptará todas las medidas necesarias para la conservación del activo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odrá vender bienes sujetos a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 acuerdo del deudor o autorización judicial podrá vender bienes sujetos a desvalorización o conservación dispendi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elaciones:  Resoluciones durante tramitación del incidente son inapel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olución que deniega la quiebra no es susceptible  de reposición.  Sólo apelación ambos ef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olución que acoge reposición es apelable en ambos ef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9-29T21:01:40Z</dcterms:modified>
  <cp:revision>110</cp:revision>
  <dc:subject/>
  <dc:title>Diapositiva 1</dc:title>
</cp:coreProperties>
</file>