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469-CEA1-4777-A840-97E8A76C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B5E-D3A4-488D-A6D4-E31F085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6D1-1649-4E83-84F6-23AF7620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876-81EB-429A-85A1-79EA4CDC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DA2-3B04-4055-800C-827BD83F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772-A669-40B7-BC49-7F26FA7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18D-C750-41E5-A6FD-24358B4F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BC4-28E0-4182-95FC-DA946211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4FC-6068-4DC2-AB6D-7F0CD6F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C84-6008-4C85-82AF-4737010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B67-656D-437A-A0DC-7BB7DA8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E81-F625-4054-AABB-10F9BD8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6E29-27C0-448D-85CE-63BA066F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JUICIO  DE  QUIEBRAS 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0.  ALIMENTOS DEL FALLIDO.  Art.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omú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CCIO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 y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ueden solicitarla.  Art.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ACTERISTICAS  (Puga 27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rrenunc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desis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rocede abandono del proce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rescri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98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deudor. Art.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acreedor.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DIMIENTO.  Art.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omp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nunciará a la brevedad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 SOLICITADA POR EL DEUDOR. (  Art. 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1. Deberá indicar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 todos sus bienes, indicación de lugar, valor estimativo y gravám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lación de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do de deudas con indicación de acreedores y naturaleza de los tít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moria de las causas directas del mal estado de sus negocios, informando inversiones efectuadas con los créditos y deta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998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lleva contabilidad completa, debe presentar último balance y cuentas de resul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2. Tram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ita a tres acreedores con mayor créditos, o los que hubiere si son me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por céd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eptor de turno, tiene plazo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extemporánea no invalida au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al tercer día de última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celebra con los que as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designa síndic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no asisten, se repite c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aso de falta de acuerdo se designa por sort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99864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  SOLICITADA POR 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1. Se deberá indicar: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echos constitu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ompañar 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frecer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síndico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ale vista UF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 preferente 2472 Nº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2. Tramitación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del deu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ácter in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puede con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debe cerciorarse por todos los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dios a su alc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9864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 LA SENTENCIA DE QUIEBRA.  Art.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1.  Declaración si el deudor está comprendido en el artículo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2.  Designación de síndico provisional titular y supl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den de incau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3.  Orden de entregar correspo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4.  Orden de acumular todos los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5.  Advertencia al público de no pagar ni entregar mercaderías a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6.  Emplazamiento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7.  Orden de notificar a los acreedores fuera de 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8.  Orden de inscribir la declaración de quiebra en el Registro de Interdicciones y Prohibiciones del C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B  Sentencia en caso de desaparecimiento o 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de cu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C  Not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l fallido, acreedores y terceros por medio de un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 los síndicos:  por el Secretario del Tribunal u otro Ministro de 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RECURSO DE REPOSICION  (Art. 57 y sigui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urso especialí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cidente de 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: 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 (sólo rectifi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zo: Fatal 10 días de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bjeto:  Se deje sin efecto resolución declaratoria de quieb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rectifique calificación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vinientes:  El actor del incid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ante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adyuvantes:  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á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spención:  En caso de ONI el síndico adoptará todas las medidas necesarias para la conservación del activo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drá vender bienes sujetos a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 acuerdo del deudor o autorización judicial podrá vender bienes sujetos a desvalorización o conservación dispendi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elaciones:  Resoluciones durante tramitación del incidente son inapel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deniega la quiebra no es susceptible  de reposición.  Sólo apelació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acoge reposición es apelable e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29T21:01:40Z</dcterms:modified>
  <cp:revision>110</cp:revision>
  <dc:subject/>
  <dc:title>Diapositiva 1</dc:title>
</cp:coreProperties>
</file>