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A99-9E88-4CA9-81FE-A8243DE5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7448-DB5A-46E0-A29A-1507AA59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926-AA9A-45F6-97B1-C916231F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396-1624-46AA-9FC1-26501EC3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CCC-7BFE-4287-85A0-1706019D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C984-EC69-428C-AFE7-3DB6B047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5FE-D8A2-483E-84AC-DC4FCEB1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206-6BE0-467D-857B-762AC429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DD3-6717-443D-A4DA-874BBB3C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35D5-C044-4ADC-8362-A1C482B0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E14F-20D9-42E6-AF49-DD8FB1CB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A8F-85DF-4E96-B76F-555DE1A6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6DAF-6A09-4FD7-A3E6-E2069EE1F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042920" y="4797360"/>
            <a:ext cx="7345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ORGANOS DE LA QUI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Octubre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052640"/>
            <a:ext cx="763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9.  Juntas Extraordin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creto del juez de o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etición del Sín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etición Superinten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reedores representen ¼ pasivo con derecho a v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uerdo junta ordinaria 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itación debe indicar objeto prec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ólo se tratan esas mate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tificación avisos Diario Oficial 7 días de anticip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vocación Síndico      Sólo Junta extraordi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Mayoría absoluta pas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G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05264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  SUPERINTENDENCIA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egislación reciente eliminó sindicatura general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1.  Se crea Superintendencia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2. Fun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iscalizar actuaciones de Sín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terpretar administrativamente las leyes respecto de personas fisca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xaminar libros documentos y otros relativos a las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mpartir instrucciones generales obligatorias a los sínd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bjetar cuentas de administración de los sínd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oner en conocimiento de los Tribunales o juntas de acreedores cualquier infr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cibir denunc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levar registro de las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plicar sanciones a Síndicos y administr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G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98100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NTECEDENTES GENE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icio ordinario         En general derecho pri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mandante            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mandado              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ribunal                     Pasivo               Sen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tereses priv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tereses públ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udor fal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Muchos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ribunal                                            Varios proced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índico                                             Administrador realiz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nta de acreedores                       Derecho de dis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uperintendencia de quiebras       Superv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G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12536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  EL TRIBU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mpetencia según C.O.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ntencia de quiebra después de audiencia del deu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suelve además según diversos procedimientos otras mate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curso de reposición  Art. 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etición síndico continuación efectiva    Art. 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uotas y garantías exclusión disidentes  Art. 1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ijar fecha de cesación de pagos  Art. 61 – 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ciones revocatorias concursales  Art. 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G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98100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   EL SINDICO  Arts. 14 - 3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1.  Concep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fesional independiente:        Ingeniero 10 semes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ador aud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ador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bo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jercicio 5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probar examen Superinte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tegrar nóm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 tenga inha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 haya sido exclu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2.  Nombramiento e insta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olicitud deudor          Art. 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itación acreedores    Señalan nombres 3 Sínd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ólo uno se designa en la sen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G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125360"/>
            <a:ext cx="79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olicitud acreedores   Art. 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etición de quiebra debe proponer nombre Síndico titular y 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juez lo designa en la sentencia de quiebra   Art. 25 y 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índico debe aceptar el cargo y jurar   Art. 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nta constitutiva     Art.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atifica Síndicos provisionales titular y supl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signa reemplazantes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3.  Fun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sguardo intereses y derechos          Fallido y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ca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inuación provisoria g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G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12536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poner continuación efectiva g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poner fecha cesación de pa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mpugnar créd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ratar créd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ndir cu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alizar los 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jecutar acuerdos junta de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4.  Remuneración Síndico  Art. 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porcional reparto de fo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luctúa entre 20% sobre UF 2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Hasta 1% sobre UF 1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5.  Responsabilidad  Art. 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ivil                 Culpa de v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l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sponsabilidad pe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G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12536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NTA DE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1  Concep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samblea que se constituye y reúne para adoptar acuerdos en el juicio de quiebras conformidad a la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2. Derecho a voto    Art. 1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réditos reconoc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réditos no reconocidos pero autorizado por el juez, segú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cedimiento Art. 1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3. Constitución y acuer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constituyen con dos o más acreedores que represente un % no inferior al 20% de los créditos con derecho a voto, salvo disposición 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G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98100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uer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Voto conforme de no menos dos acreedores que sumen mayoría absoluta de los créditos presentes con derecho a v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mpates resuelve quien presida la reun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5.  Derecho a voz sin v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reedores que verificaron y no tienen crédito recono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in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al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6.  Primera junta o junta constitu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de del Tribunal o lugar designado por és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os o más acreedores con derecho a voto que representen 2/3 del pasiv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 quórum:  segunda citación 5/10 d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eside juez y ministro de fe secre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G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05264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7.  Materia primera ju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uenta Sín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atificación Síndico provi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signación nuevo Sín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ijar fecha reuniones ordin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imera reunión ordinaria: 30/45 días corridos salvo acue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signación presidente y secretario titular y 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bable producto activo UF 1.000:  realización sum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8.  Primera junta ordinaria   Junta de planificación  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forme completo del Sín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grama realización a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lan de pago del pas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timación gastos de administración de l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inuación efectiva del g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G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10-22T13:21:06Z</dcterms:modified>
  <cp:revision>124</cp:revision>
  <dc:subject/>
  <dc:title>Diapositiva 1</dc:title>
</cp:coreProperties>
</file>