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339D-50E2-4513-922A-0B1F942C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54CD-44E7-4F55-9E2B-BB128218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3289-2CDD-47CA-877F-45DF6518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8377-8D9D-4AB4-82D3-8912D2D6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3DF9-30BD-4F0C-806B-E1D57B39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440-1993-4917-A48E-AFE10D68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D17-2942-4995-BE95-ADBA3D54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C170-00FC-4E5E-82F7-FD525726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A0E-9684-4ADA-BB85-8F9E7F2C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B213-66EE-4CF0-99D9-4DF0893E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E95B-DC1E-4955-A6D0-74B244FB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3408-0C21-4F96-901B-63A8C1A1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E04A-E7FE-4180-A1B4-CD5D8901A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042920" y="4797360"/>
            <a:ext cx="7345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ORGANOS DE LA QUI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Octubre,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052640"/>
            <a:ext cx="763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9.  Juntas Extraordin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creto del juez de o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etición del Sínd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etición Superintend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creedores representen ¼ pasivo con derecho a v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cuerdo junta ordinaria 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itación debe indicar objeto preci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ólo se tratan esas mate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tificación avisos Diario Oficial 7 días de anticip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vocación Síndico      Sólo Junta extraordi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Mayoría absoluta pas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RG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05264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  SUPERINTENDENCIA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egislación reciente eliminó sindicatura general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1.  Se crea Superintendencia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2. Fun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iscalizar actuaciones de Sínd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terpretar administrativamente las leyes respecto de personas fisca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xaminar libros documentos y otros relativos a las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mpartir instrucciones generales obligatorias a los sínd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bjetar cuentas de administración de los sínd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oner en conocimiento de los Tribunales o juntas de acreedores cualquier infr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cibir denunci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levar registro de las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plicar sanciones a Síndicos y administr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RG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98100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NTECEDENTES GENE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Juicio ordinario         En general derecho pri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mandante            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mandado              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Tribunal                     Pasivo               Sen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tereses priv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tereses públ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udor fall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Muchos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Tribunal                                            Varios proced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índico                                             Administrador realiz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Junta de acreedores                       Derecho de dispo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uperintendencia de quiebras       Superv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RG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12536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  EL TRIBU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mpetencia según C.O.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ntencia de quiebra después de audiencia del deu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suelve además según diversos procedimientos otras mate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curso de reposición  Art. 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etición síndico continuación efectiva    Art. 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uotas y garantías exclusión disidentes  Art. 1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ijar fecha de cesación de pagos  Art. 61 – 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cciones revocatorias concursales  Art. 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RG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98100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   EL SINDICO  Arts. 14 - 3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1.  Concep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fesional independiente:        Ingeniero 10 semes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tador aud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tador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bo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jercicio 5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probar examen Superinten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tegrar nóm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 tenga inha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 haya sido exclu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2.  Nombramiento e insta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olicitud deudor          Art. 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itación acreedores    Señalan nombres 3 Sínd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ólo uno se designa en la sen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RG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125360"/>
            <a:ext cx="79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olicitud acreedores   Art. 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etición de quiebra debe proponer nombre Síndico titular y 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juez lo designa en la sentencia de quiebra   Art. 25 y 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índico debe aceptar el cargo y jurar   Art. 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Junta constitutiva     Art.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atifica Síndicos provisionales titular y supl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signa reemplazantes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3.  Fun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sguardo intereses y derechos          Fallido y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ca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tinuación provisoria g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RG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12536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poner continuación efectiva g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poner fecha cesación de pa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mpugnar créd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tratar créd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ndir cu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alizar los bi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jecutar acuerdos junta de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4.  Remuneración Síndico  Art. 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porcional reparto de fo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luctúa entre 20% sobre UF 2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Hasta 1% sobre UF 1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5.  Responsabilidad  Art. 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ivil                 Culpa de v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l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sponsabilidad pe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RG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12536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JUNTA DE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1  Concep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samblea que se constituye y reúne para adoptar acuerdos en el juicio de quiebras conformidad a la 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2. Derecho a voto    Art. 1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réditos reconoc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réditos no reconocidos pero autorizado por el juez, segú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cedimiento Art. 1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3. Constitución y acuer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constituyen con dos o más acreedores que represente un % no inferior al 20% de los créditos con derecho a voto, salvo disposición 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RG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98100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cuer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Voto conforme de no menos dos acreedores que sumen mayoría absoluta de los créditos presentes con derecho a v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mpates resuelve quien presida la reun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5.  Derecho a voz sin v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creedores que verificaron y no tienen crédito recono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ind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all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6.  Primera junta o junta constitu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de del Tribunal o lugar designado por és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os o más acreedores con derecho a voto que representen 2/3 del pasiv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 quórum:  segunda citación 5/10 d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eside juez y ministro de fe secre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RG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05264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7.  Materia primera ju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uenta Sínd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atificación Síndico provis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signación nuevo Sínd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ijar fecha reuniones ordin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imera reunión ordinaria: 30/45 días corridos salvo acue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signación presidente y secretario titular y 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bable producto activo UF 1.000:  realización sum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8.  Primera junta ordinaria   Junta de planificación  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forme completo del Sínd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grama realización a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lan de pago del pas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stimación gastos de administración de la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tinuación efectiva del g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RG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9-10-22T13:21:06Z</dcterms:modified>
  <cp:revision>124</cp:revision>
  <dc:subject/>
  <dc:title>Diapositiva 1</dc:title>
</cp:coreProperties>
</file>