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3E79-7356-44B6-8A29-DC69A045A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0D46-E55E-4046-AD9D-FF36ED8D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EE53-B1F8-4C35-92BA-9A71102D7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F68D-0597-4C79-BCDE-1CBD43B92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A46D-14EA-4796-BE5D-183A4E30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B46F-1A6E-4579-9A23-AC601658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92BD-6073-4184-8444-F1B75B54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859B-CEEC-4ECA-BF3F-1CACEACE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84E5-5388-4C14-BCFC-CEFB9697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5CB8-3148-477A-BD18-CF220AB8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CC7F-F114-4349-BEA2-77DB90DE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6FF2-24C3-4B2A-9CA1-E7C3E0F9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EFBA-6CDF-4E79-9645-0C69ECA22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00160"/>
            <a:ext cx="488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erecho Comercial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rofesor Sr. José Luis López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71640" y="4941720"/>
            <a:ext cx="73454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Arial"/>
              </a:rPr>
              <a:t>JUICIO  DE QUIEBRA 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Octubre,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981000"/>
            <a:ext cx="7632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FECTOS DE LA SENTENCIA DE QUI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e producen desde que se dicta la sen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e producen </a:t>
            </a:r>
            <a:r>
              <a:rPr b="1" i="1" lang="es-ES" sz="1800" spc="-1" strike="noStrike">
                <a:solidFill>
                  <a:srgbClr val="3333cc"/>
                </a:solidFill>
                <a:latin typeface="Arial"/>
              </a:rPr>
              <a:t>erga ombres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stas son excepciones a reglas genera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  Art. 3 Código Civil: sólo las par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rt. 38 CPC: desde que se notifiqu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jempl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rt. 64: </a:t>
            </a:r>
            <a:r>
              <a:rPr b="1" lang="es-ES" sz="1800" spc="-1" strike="noStrike" u="sng">
                <a:solidFill>
                  <a:srgbClr val="3333cc"/>
                </a:solidFill>
                <a:uFillTx/>
                <a:latin typeface="Arial"/>
              </a:rPr>
              <a:t>Pronunciada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la sentencia el fallido queda inhibido de pleno derecho de la administración de todos sus bienes prese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rt. 66: Los derechos de los acreedores quedan fijados irrevocablemente en el estado que tenían el día de su pronunciam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981000"/>
            <a:ext cx="7777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rt. 72:  Con relación a los bienes de la masa son inoponibles los actos o contratos a título gratuito que el deudor ejecute desde los 10 días antes de la fecha de cesación de pagos hasta el día de la declaración de la quieb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rt. 94:  Permite al Síndico adoptar de inmediato todas las providencias necesarias para incautarse de los bienes del falli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2.   EFECTOS DE LA SENTENCIA EN EL 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2.1.  Efectos inmedi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2.2.  Efectos retroac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2.3.  Efectos en ciertas acciones judi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981000"/>
            <a:ext cx="7777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3.   PRINCIPAL EFECTO INMEDI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3.1.  El desasimiento    (Art. 64 inciso 1º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s la inhibición que afecta de pleno derecho al fallido respecto de sus facultades de administrar y disponer de todos sus bienes presentes (salvo aquellos que sean inembargables) una vez pronunciada la sentencia de quieb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l desasimiento no transfiere la propiedad de los bienes del fallido a sus acreedores, sino que sólo la facultad de disponer de ellos y de sus frutos hasta pagarse de sus crédi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76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La administración pasa al Sínd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l fallido no puede comparecer en juicio como demandante o demandado en relación a los bienes de la quieb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l fallido conserva la administración de los bienes personales de la mujer y de sus hijos y de los que tenga usufructo leg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l desasimiento comprende los bienes futuros que adquiera el fallido a título gratui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Los que adquiera a título oneroso quedan sujetos a intervención pero los acreedores sólo tendrán derecho a los beneficios líquidos, dejando al fallido lo necesario para su aliment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052640"/>
            <a:ext cx="76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4.     NATURALEZA JURIDICA DEL DESAS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l fallido conserva el dominio de sus bienes personales se le priva de la facultad de administrarl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omprende todos los bienes presentes salvo los inembargab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5.    OTROS EFECTOS INMEDI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5.1.  Fijación irrevocable de los créditos.  Art. 6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5.2.  Exigibilidad de las deudas.  Art. 67 y 6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5.3.  Compensación.  Art. 6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5.4.  Acumulación de juicios.  Art. 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5.5.  Suspensión de ejecuciones individuales.  Art. 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105264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FECTOS RETROACTIVOS  (Arts. 74 al 8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pc</cp:lastModifiedBy>
  <dcterms:modified xsi:type="dcterms:W3CDTF">2009-10-08T14:29:30Z</dcterms:modified>
  <cp:revision>103</cp:revision>
  <dc:subject/>
  <dc:title>Diapositiva 1</dc:title>
</cp:coreProperties>
</file>