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619E4-57CA-47AE-A43F-A26F7C00E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AC53C-84A8-487B-8ABD-371CAD68B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ACBB-DACE-4FF7-87E5-D5C8CC1A2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6AD5C-0CEF-44E9-A88D-C7EB99784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CA8C-AAB3-4429-A6D4-4EE12825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5681A-6A4F-4E10-8856-6838237DDF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75B25-47D3-45B9-BB05-FCAB09268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FA21A-8684-48F0-B367-2A2A5E41B4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C3EF-EFD9-4F84-A087-4BBE31233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98088-53B7-4B49-8C8E-3B6EADC71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164B-B053-4B8D-966C-631818FEB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02DBE-E9FA-4588-A42D-9808636EC5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486306-EB98-4D06-9539-F8CCA065603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971640" y="4941720"/>
            <a:ext cx="73454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Arial"/>
              </a:rPr>
              <a:t>JUICIO  DE QUIEBRA V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cc"/>
                </a:solidFill>
                <a:latin typeface="Arial"/>
              </a:rPr>
              <a:t>Octubre, 200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68360" y="981000"/>
            <a:ext cx="763272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FECTOS DE LA SENTENCIA DE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e producen desde que se dicta la sentenci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Se producen </a:t>
            </a:r>
            <a:r>
              <a:rPr b="1" i="1" lang="es-ES" sz="1800" spc="-1" strike="noStrike">
                <a:solidFill>
                  <a:srgbClr val="3333cc"/>
                </a:solidFill>
                <a:latin typeface="Arial"/>
              </a:rPr>
              <a:t>erga ombres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stas son excepciones a reglas general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-  Art. 3 Código Civil: sólo las part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 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rt. 38 CPC: desde que se notifiqu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jemplo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rt. 64: </a:t>
            </a:r>
            <a:r>
              <a:rPr b="1" lang="es-ES" sz="1800" spc="-1" strike="noStrike" u="sng">
                <a:solidFill>
                  <a:srgbClr val="3333cc"/>
                </a:solidFill>
                <a:uFillTx/>
                <a:latin typeface="Arial"/>
              </a:rPr>
              <a:t>Pronunciada</a:t>
            </a: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la sentencia el fallido queda inhibido de pleno derecho de la administración de todos sus bienes present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rt. 66: Los derechos de los acreedores quedan fijados irrevocablemente en el estado que tenían el día de su pronunciamien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395280" y="981000"/>
            <a:ext cx="7777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rt. 72:  Con relación a los bienes de la masa son inoponibles los actos o contratos a título gratuito que el deudor ejecute desde los 10 días antes de la fecha de cesación de pagos hasta el día de la declaración de la quieb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Art. 94:  Permite al Síndico adoptar de inmediato todas las providencias necesarias para incautarse de los bienes del fallid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2.   EFECTOS DE LA SENTENCIA EN EL TIEMP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2.1.  Efectos inmedi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2.2.  Efectos retroactiv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2.3.  Efectos en ciertas acciones judicial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981000"/>
            <a:ext cx="7777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   PRINCIPAL EFECTO INMEDIA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3.1.  El desasimiento    (Art. 64 inciso 1º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s la inhibición que afecta de pleno derecho al fallido respecto de sus facultades de administrar y disponer de todos sus bienes presentes (salvo aquellos que sean inembargables) una vez pronunciada la sentencia de quieb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l desasimiento no transfiere la propiedad de los bienes del fallido a sus acreedores, sino que sólo la facultad de disponer de ellos y de sus frutos hasta pagarse de sus crédit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50920" y="1125360"/>
            <a:ext cx="763272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La administración pasa al Síndic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l fallido no puede comparecer en juicio como demandante o demandado en relación a los bienes de la quieb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l fallido conserva la administración de los bienes personales de la mujer y de sus hijos y de los que tenga usufructo legal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l desasimiento comprende los bienes futuros que adquiera el fallido a título gratuit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Los que adquiera a título oneroso quedan sujetos a intervención pero los acreedores sólo tendrán derecho a los beneficios líquidos, dejando al fallido lo necesario para su alimentac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24000" y="1052640"/>
            <a:ext cx="76327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4.     NATURALEZA JURIDICA DEL DESASIMI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l fallido conserva el dominio de sus bienes personales se le priva de la facultad de administrarlo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Comprende todos los bienes presentes salvo los inembargabl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5.    OTROS EFECTOS INMEDIAT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5.1.  Fijación irrevocable de los créditos.  Art. 6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5.2.  Exigibilidad de las deudas.  Art. 67 y 6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5.3.  Compensación.  Art. 6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5.4.  Acumulación de juicios.  Art. 7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5.5.  Suspensión de ejecuciones individuales.  Art. 7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0" y="914400"/>
            <a:ext cx="693432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4000" y="1052640"/>
            <a:ext cx="76327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3333cc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EFECTOS RETROACTIVOS  (Arts. 74 al 81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33cc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358920" y="304920"/>
            <a:ext cx="738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Arial"/>
              </a:rPr>
              <a:t>JUICIO DE QUIEBR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pc</cp:lastModifiedBy>
  <dcterms:modified xsi:type="dcterms:W3CDTF">2009-10-08T14:29:30Z</dcterms:modified>
  <cp:revision>103</cp:revision>
  <dc:subject/>
  <dc:title>Diapositiva 1</dc:title>
</cp:coreProperties>
</file>