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80F-3CE2-4832-B6E5-8BA0C55E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61A-0D10-401D-816F-2CEA682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C28-BBA0-4774-97C1-438EC6B0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7B3-F5B8-4C81-A7A5-7099803F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816-2E21-413B-85AE-9616C88F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A68-7844-4170-A226-F62DDC8B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BDC-2AAE-4BEF-8580-6F1B9E7D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18A-12A8-4949-9BE2-8A31275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010-7F8C-47BC-8825-DC417B9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8F0-FBB9-48D3-B155-3F9EECAB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11A-EE63-43CC-9A67-808E5CA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4B0-5FBD-48A1-B6D4-51C1440B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D82D-166B-4748-9D4C-D8CD7241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494172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JUICIO  DE QUIEBRA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DE LA SENTENCIA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ducen desde que se dicta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ducen 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erga ombres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s son excepciones a reglas gener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Art. 3 Código Civil: sólo las p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38 CPC: desde que se notifiq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64: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ronunciad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la sentencia el fallido queda inhibido de pleno derecho de la administración de todos sus bienes pres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66: Los derechos de los acreedores quedan fijados irrevocablemente en el estado que tenían el día de su pronunci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98100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72:  Con relación a los bienes de la masa son inoponibles los actos o contratos a título gratuito que el deudor ejecute desde los 10 días antes de la fecha de cesación de pagos hasta el día de la declaración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94:  Permite al Síndico adoptar de inmediato todas las providencias necesarias para incautarse de los bienes del fall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 EFECTOS DE LA SENTENCIA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1.  Efectos inmedi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2.  Efectos retro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3.  Efectos en ciertas acciones judi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PRINCIPAL EFECTO INMED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.  El desasimiento    (Art. 64 inciso 1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la inhibición que afecta de pleno derecho al fallido respecto de sus facultades de administrar y disponer de todos sus bienes presentes (salvo aquellos que sean inembargables) una vez pronunciada la sentencia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sasimiento no transfiere la propiedad de los bienes del fallido a sus acreedores, sino que sólo la facultad de disponer de ellos y de sus frutos hasta pagarse de sus crédi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dministración pasa al Sínd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no puede comparecer en juicio como demandante o demandado en relación a los bienes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conserva la administración de los bienes personales de la mujer y de sus hijos y de los que tenga usufructo leg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sasimiento comprende los bienes futuros que adquiera el fallido a título gratu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que adquiera a título oneroso quedan sujetos a intervención pero los acreedores sólo tendrán derecho a los beneficios líquidos, dejando al fallido lo necesario para su 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   NATURALEZA JURIDICA DEL DESAS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conserva el dominio de sus bienes personales se le priva de la facultad de administrar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rende todos los bienes presentes salvo los inembarg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    OTROS EFECTOS INMEDI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1.  Fijación irrevocable de los créditos.  Art.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2.  Exigibilidad de las deudas.  Art. 67 y 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3.  Compensación.  Art. 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4.  Acumulación de juicios.  Art.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5.  Suspensión de ejecuciones individuales.  Art. 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RETROACTIVOS  (Arts. 74 al 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08T14:29:30Z</dcterms:modified>
  <cp:revision>103</cp:revision>
  <dc:subject/>
  <dc:title>Diapositiva 1</dc:title>
</cp:coreProperties>
</file>