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D01D-32B8-452F-9C71-8B37C130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0B3-F157-4274-B493-716C268C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4CD-8561-4A9A-B69C-55EE39F0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4361-4397-4998-8BB3-5A5B833C1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7D6-2DF3-4596-B5D2-806ED518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58FA-57C6-43F5-96DA-04AF430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82B4-A7C4-4380-95F9-D3D22415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4C07-C599-47A9-99F3-4A50BFC0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92F-6F5D-47E7-9AA9-B9BFEF89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208D-3D3B-45DE-BE56-85694FB9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3CE-4B41-4C7A-9AE3-B3247DE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7D7D-A750-4309-962D-8ADD8EB3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27DA-6E1F-41B8-8C59-E124C0235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 DE CONTINUACÍON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trata de una 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se termina la actividad correspondiente a su objeto o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or eso se habla de conti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LASES Y DIFER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visora. Art. 99 L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iva. Art. 112 L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QUIS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.  Situación excepcional.  Ar. 99 L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usa grave que la justifiqu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utorización del Tribu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pués de declaración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Hasta antes de Primera Jun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05264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2  Regla General.  Art. 1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n cualquier oportun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Total o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opuesta por 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 por dos o má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probación en Junta por 2/3 del pasivo con derecho a v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102:  Conocer el detalle comp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OPORTUNIDAD PROCES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spués de Junta de Planificación.  Art.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ACUERDO DE CONTINUACIÓN  Art. 1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r el giro del 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acuerdo deb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Ser fund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ndicar el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terminar los bienes que compr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cultades a los admin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cultade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981000"/>
            <a:ext cx="7632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6  EXCLUSION DE DISIDENTES   Art. 112 inciso 3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reedores  por la continuación pueden excluir disid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agándoles la cuota que le cor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tendidos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arácter del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eferencia del crédi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Importe del a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O bien: asegurándoles el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terminación 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cu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Garantía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Determinada por el Tribunal o yendo al Síndico o a la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alvo acuer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9810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TUACION ACREEDORES PRENDARIOS E HIPOTECARIO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112 inciso 2º y Art. 1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i decretada la continuación hay hipotecas, prendas o bienes sujetos a r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se suspende el derecho propio de estos a la ejecución de los bienes af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 menos que consientan expresa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8.  SITUACIÓN DE CREDITOS DE LA CONTI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ersiguen solamente en los bienes de la contin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Gozan de preferencia respecto de los demá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alcanzan a los bienes hipotecados, pignorados o retenidos de los acreedores que no consintier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efieren a los créditos de los acreedores hipotecarios, prendarios y retencionarios que consintieron sólo si los bienes no gravados comprendidos en la continuación efectiva son insufici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8100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9.   SITUACION DE CIERTOS CONTRATOS  (Puga Vial T II Pág 6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cepto general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de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dministración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ren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ratos de traba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rav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minis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0  RESPONSA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ón provis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ón efec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981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0.  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cordado por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No puede exceder un a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uede ser prorrogado a lo menos 15 días antes de la expi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uede prorrogar por más plazo si se hubiera acordado enajenación de activos como unidad económ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1.  TERMINO DE LA CONTIUACIÓN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Que estén pagados todos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Vencimiento del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Prórroga del 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lausura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spensión de l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98100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2.  EFECTOS DE LA CONTINUACION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creedores se pagan con lo producido en la actividad económic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impide la realización de bie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alvo continuidad pa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3.   ADMINISTRACIÓN DE LA CONTINUAC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3.1  Regla gen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Síndico es el administ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3.2.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La Junta designa otro administrador en el acue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Después de vencido el plazo de un año, no puede ser el Sínd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052640"/>
            <a:ext cx="7632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14   RESPONSABILIDAD DE LOS ADMIN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ponsabilidades de todo mandatario.  Art. 113 Inc. 4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Responden de culpa leve.  Art. 2129 Código Ci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Síndico responde de culpa levísima.  Art. 38 L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dministradores deben rendir cuenta.  Art.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administradores están sujetos a fiscaliz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Junta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Fall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uperintend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índico.  Art. 113 y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NTINUACION EFECTIVA DEL G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20T21:12:20Z</dcterms:modified>
  <cp:revision>113</cp:revision>
  <dc:subject/>
  <dc:title>Diapositiva 1</dc:title>
</cp:coreProperties>
</file>