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86C-DBBE-49BC-8AFC-7687963F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DD9-7E2E-4E42-8337-CACB6876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D61F-2D47-4E11-A38B-FE62DE6E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D11-3320-4879-81A4-DC5D4472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3240-7BD7-4846-8E31-EA2C5F73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3B7F-3C26-460C-A404-DE58972B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8A8-DDB9-4180-8AB3-F5BE0E5F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8D23-8530-436D-9304-76C73A36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E546-A444-4B19-9270-52C1DACF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51A-103B-4C34-9FCA-0EEF1E79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B2A-FC7C-498C-888D-BBF65FB0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CD68-8EE2-4948-9B15-78360A37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D996-DA96-4B88-BB22-E9AC35AE6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71640" y="501336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JUICIO   DE  QUIEBRAS 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Septiembre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98100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3.  Teoría administrat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Marca el interés de orden público en todo proceso de quie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ta afecta a toda la esfera económica de la socie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Estado debe organizarse para atender las múltiples necesidades sociales, juridicas y económicas, que se producen en una quie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4.  Teoría dual o bi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s normas referidas a quiebra son tanto materiales como proces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n Chile la sostiene el profesor Carlos Conch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8100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5.  Teoría procesali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 la que sostiene Puga V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quiebra no crea ni extingue derechos ni obligac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 una formalidad jurisdiccional para obtener el pago de los créditos de un deudor insolvente dentro de la </a:t>
            </a:r>
            <a:r>
              <a:rPr b="1" i="1" lang="es-ES" sz="1800" spc="-1" strike="noStrike">
                <a:solidFill>
                  <a:srgbClr val="3333cc"/>
                </a:solidFill>
                <a:latin typeface="Arial"/>
              </a:rPr>
              <a:t>par condictio creditoru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ARACTERISTICAS DEL 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ceso jud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encio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ceso ci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ceso ejecu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xtraordi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 realización de 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05264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AUSALES DE L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Ley de Quiebras.  Art. 43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ualquiera de los acreedores podrá solicitar la aclaración de quiebra,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aún cuando su crédito no sea exigible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, en los siguientes ca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1.   Cuando el deudor que ejerza una actividad comercial, industrial, minera o agrícola, cese en el pago de una obligación mercantil con el solicitante, cuyo título sea ejecu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  Cuando el deudor contra el cual existieren tres o más títulos ejecutivos y vencidos, provenientes de obligaciones diversas y estuvieren iniciadas. a lo menos, dos ejecuciones, no hubiere presentado en todas éstas, dentro de los cuatro días siguientes a los respectivos requerimientos, bienes bastantes para responder a las prestaciones que adeude y las cost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763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  Cuando el deudor se fugue del territorio de la República o se oculte, dejando cerradas sus oficinas o establecimientos, sin haber nombrado persona que administre sus bienes, con facultades para dar cumplimiento a sus obligaciones y contestar nuevas deman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¿Se requieren títulos ejecutiv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¿Pueden fugarse las sociedad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Gómez y Eyzaguirre.  Pp 131 / 16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197000"/>
            <a:ext cx="763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CEPTOS DOCTRIN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juicio de quiebras es un juicio universal para liquidar y calificar la situación del comerciante quebrado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Diccionario R.A.L. citado en Gómez y Eyzaguirre pp 2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ta.  La quiebra no afecta solo a los comercia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quiebra persigue proveer al pago de los acreedores de un deudor que no se encuentra en condiciones de satisfacer en forma íntegra y oportuna sus deuda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Gabriel Palma.  Citado en Gómez y Eyzaguirre pp 2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9280" y="836640"/>
            <a:ext cx="7777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proceso de quiebras se nos presenta integrado simultáneamente en dos sistemas íntimamente vinculados: el sistema de los efectos de las obligaciones y el esquema de los procedimientos concursales, constituyendo una ejecución forzosa colectiva que tiene por finalidad la  satisfacción  de los acreedores bajo la ley  de igualdad llamada </a:t>
            </a:r>
            <a:r>
              <a:rPr b="1" i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par condictio creditorium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, y el resguardo de los intereses generales, vinculados al desarrollo del crédito público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Carlos Concha citado por Gómez y Eyzaguirre pp 4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  DEFINICION 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juicio de quiebra tiene por objeto realizar en un solo procedimiento los bienes de una persona natural o jurídica, a fin de proveer al pago de sus deudas, en los casos y en la forma determinados por la le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Ley de Quiebras.  Art 1º, inciso 2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98100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   PRINCIPIOS FORMATIVOS DEL PROCESO DE QUIEB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Puga T.I pp 24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1 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Univers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ceso de ejecución univers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mprende todo el patrimonio realizable del deu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on demandantes todos los acreedores con créditos existentes a la declaración de quie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acumulan todos los juicios en contra del deudor que digan relación con su patrimon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quiebra produce para el fallido y todos sus acreedores un estado indivisible.  Comprenderá, en consecuencia, todos los bienes de aquel y todas sus obligaciones, aún cuando no sean de plazo vencido, salvo aquellos bienes y obligaciones que la ley expresamente exceptúe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Ley de Quiebras. Art. 2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2. 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U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odas las controversias relativas al patrimonio del deudor deben ser conocidos en un solo proceso y ante un mismo tribu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3. 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Principios dispositivo e inquis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n la quiebra se combinan intereses de orden público y de orden privad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regla general en el proceso es el principio inquisitivo:  la tramitación queda entregada al juez, síndico y junta de acree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iertas actuaciones se efectúan en el interés pri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ción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Verificación de créd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964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mpugnación de créd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981000"/>
            <a:ext cx="763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4. 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Orden consecutivo legal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(Puga Dercho Concursal T II pp 2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proceso de quiebra está ordenado por etap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tapa de cono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ase de aper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ase de ver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tapa de apremio o ejec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ase de embar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ase de realización del a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ase de pag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tapa de suspensión o claus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obrese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ven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5264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5  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Concen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mplica el principio de la economía procesal o celeridad proces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etapa de apertura tiene un mecanismo propio similar al juicio ejecu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controversia sólo puede iniciarse después de la declaratoria de quiebra.  Recurso especial de reposi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juez tiene facultades para proceder de oficio en la determinación de la veracidad de la causal de quiebra invoc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6  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Bilateralidad de la aud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incipio esencial en el sistema jurídico chile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spués de decretada la quiebra nace la controvers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pueden impugnar los créditos verific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05264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7. 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Inmed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te principio no se da de manera perfecta en el proceso de quie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principio exige una relación directa del juez con las partes y su deber de recibir directamente todas las prueb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n este caso, el sujeto activo es la suma de todos los acreedores concursales, que no es un órgano de funcionamiento permanente en el proce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8. 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Eventu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s partes deben aportar todos los medios de ataque y defensa de una sola v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rtículo 45 Ley de Quiebra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Verificación de créd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98100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ATURALEZA JURIDICA DE L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Puga Derecho Concursal TI 15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(Gómez y Eyzaguirre pp 4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1.  Diferencia entre quiebra 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ven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esión de 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alificación criminal de l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iquidación administrativa de un ban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2.  Teoría de derecho material o sustanciali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quiebra es parte del proceso del sistema del comercio en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n el juicio de quiebra importan mucho las normas sustantivas: prelación de créd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asimila el concepto de “estado de quiebra” a una situación relativa a otros estados de derecho civ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09-21T20:44:07Z</dcterms:modified>
  <cp:revision>115</cp:revision>
  <dc:subject/>
  <dc:title>Diapositiva 1</dc:title>
</cp:coreProperties>
</file>