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1649-6940-4727-9274-E7F15C6B1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2622-CB8E-4637-869E-7B76B6CDA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D8DB-FA3C-4585-BB00-C443384C9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8D8D-1908-4194-92AA-41A9F9224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8D62-2F47-496F-92CC-E26267930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ADFC-7DED-46E8-A015-3CF572FB6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7233-C1F4-4A6C-945B-535A2628E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8267-E51A-4D0F-9762-70100CBDE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50CA-2AB7-49E7-87FD-83595133B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FDF0-0772-483D-9D27-588731DEF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02E5-55F7-472C-AEA3-2B9E4E00A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18D5-48F6-40FA-A757-7D3FED2C0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8D23A-2D65-4459-AD1E-244C130993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9320" y="200160"/>
            <a:ext cx="4889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Universidad de Chi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Facultad de Derec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Derecho Comercial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Profesor Sr. José Luis López Blan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619280" y="1844640"/>
            <a:ext cx="6016680" cy="2840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" name=""/>
          <p:cNvGraphicFramePr/>
          <p:nvPr/>
        </p:nvGraphicFramePr>
        <p:xfrm>
          <a:off x="304920" y="304920"/>
          <a:ext cx="698400" cy="137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304920"/>
                    <a:ext cx="698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971640" y="5013360"/>
            <a:ext cx="734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Arial"/>
              </a:rPr>
              <a:t>JUICIO   DE  QUIEBRAS  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Septiembre, 200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95280" y="981000"/>
            <a:ext cx="7632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4.3.  Teoría administrativ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Marca el interés de orden público en todo proceso de quieb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Esta afecta a toda la esfera económica de la socieda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El Estado debe organizarse para atender las múltiples necesidades sociales, juridicas y económicas, que se producen en una quieb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4.4.  Teoría dual o bifron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Las normas referidas a quiebra son tanto materiales como procesa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En Chile la sostiene el profesor Carlos Conch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58920" y="304920"/>
            <a:ext cx="73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JUICIO DE QUIEB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981000"/>
            <a:ext cx="76327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4.5.  Teoría procesalis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Es la que sostiene Puga Vi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La quiebra no crea ni extingue derechos ni obligacion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Es una formalidad jurisdiccional para obtener el pago de los créditos de un deudor insolvente dentro de la </a:t>
            </a:r>
            <a:r>
              <a:rPr b="1" i="1" lang="es-ES" sz="1800" spc="-1" strike="noStrike">
                <a:solidFill>
                  <a:srgbClr val="3333cc"/>
                </a:solidFill>
                <a:latin typeface="Arial"/>
              </a:rPr>
              <a:t>par condictio creditoru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CARACTERISTICAS DEL JUICIO DE QUIEB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Proceso judi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Contencio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Proceso civ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Proceso ejecut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Extraordin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De realización de bie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58920" y="304920"/>
            <a:ext cx="73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JUICIO DE QUIEB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95280" y="1052640"/>
            <a:ext cx="7632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CAUSALES DE LA QUIEB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        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(Ley de Quiebras.  Art. 43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Cualquiera de los acreedores podrá solicitar la aclaración de quiebra, </a:t>
            </a:r>
            <a:r>
              <a:rPr b="1" lang="es-ES" sz="1800" spc="-1" strike="noStrike" u="sng">
                <a:solidFill>
                  <a:srgbClr val="3333cc"/>
                </a:solidFill>
                <a:uFillTx/>
                <a:latin typeface="Arial"/>
              </a:rPr>
              <a:t>aún cuando su crédito no sea exigible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, en los siguientes cas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1.   Cuando el deudor que ejerza una actividad comercial, industrial, minera o agrícola, cese en el pago de una obligación mercantil con el solicitante, cuyo título sea ejecutiv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2.  Cuando el deudor contra el cual existieren tres o más títulos ejecutivos y vencidos, provenientes de obligaciones diversas y estuvieren iniciadas. a lo menos, dos ejecuciones, no hubiere presentado en todas éstas, dentro de los cuatro días siguientes a los respectivos requerimientos, bienes bastantes para responder a las prestaciones que adeude y las cost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58920" y="304920"/>
            <a:ext cx="73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JUICIO DE QUIEB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39640" y="1197000"/>
            <a:ext cx="76327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3.  Cuando el deudor se fugue del territorio de la República o se oculte, dejando cerradas sus oficinas o establecimientos, sin haber nombrado persona que administre sus bienes, con facultades para dar cumplimiento a sus obligaciones y contestar nuevas demand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-  ¿Se requieren títulos ejecutivo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- ¿Pueden fugarse las sociedade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(Gómez y Eyzaguirre.  Pp 131 / 16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58920" y="304920"/>
            <a:ext cx="73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JUICIO DE QUIEB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24000" y="1197000"/>
            <a:ext cx="7632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CONCEPTOS DOCTRINAR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“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El juicio de quiebras es un juicio universal para liquidar y calificar la situación del comerciante quebrado”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(Diccionario R.A.L. citado en Gómez y Eyzaguirre pp 2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Nota.  La quiebra no afecta solo a los comerciant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“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La quiebra persigue proveer al pago de los acreedores de un deudor que no se encuentra en condiciones de satisfacer en forma íntegra y oportuna sus deudas”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(Gabriel Palma.  Citado en Gómez y Eyzaguirre pp 2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58920" y="304920"/>
            <a:ext cx="73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JUICIO DE QUIEB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79280" y="836640"/>
            <a:ext cx="77774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“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El proceso de quiebras se nos presenta integrado simultáneamente en dos sistemas íntimamente vinculados: el sistema de los efectos de las obligaciones y el esquema de los procedimientos concursales, constituyendo una ejecución forzosa colectiva que tiene por finalidad la  satisfacción  de los acreedores bajo la ley  de igualdad llamada </a:t>
            </a:r>
            <a:r>
              <a:rPr b="1" i="1" lang="es-ES" sz="1800" spc="-1" strike="noStrike" u="sng">
                <a:solidFill>
                  <a:srgbClr val="3333cc"/>
                </a:solidFill>
                <a:uFillTx/>
                <a:latin typeface="Arial"/>
              </a:rPr>
              <a:t>par condictio creditorium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, y el resguardo de los intereses generales, vinculados al desarrollo del crédito público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(Carlos Concha citado por Gómez y Eyzaguirre pp 49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2.  DEFINICION LEG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“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El juicio de quiebra tiene por objeto realizar en un solo procedimiento los bienes de una persona natural o jurídica, a fin de proveer al pago de sus deudas, en los casos y en la forma determinados por la ley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(Ley de Quiebras.  Art 1º, inciso 2º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920" y="304920"/>
            <a:ext cx="73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JUICIO DE QUIEB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95280" y="981000"/>
            <a:ext cx="76327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3.   PRINCIPIOS FORMATIVOS DEL PROCESO DE QUIEBR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      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(Puga T.I pp 24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3.1  </a:t>
            </a:r>
            <a:r>
              <a:rPr b="1" lang="es-ES" sz="1800" spc="-1" strike="noStrike" u="sng">
                <a:solidFill>
                  <a:srgbClr val="3333cc"/>
                </a:solidFill>
                <a:uFillTx/>
                <a:latin typeface="Arial"/>
              </a:rPr>
              <a:t>Universa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Proceso de ejecución univers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Comprende todo el patrimonio realizable del deudo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Son demandantes todos los acreedores con créditos existentes a la declaración de quieb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Se acumulan todos los juicios en contra del deudor que digan relación con su patrimoni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“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La quiebra produce para el fallido y todos sus acreedores un estado indivisible.  Comprenderá, en consecuencia, todos los bienes de aquel y todas sus obligaciones, aún cuando no sean de plazo vencido, salvo aquellos bienes y obligaciones que la ley expresamente exceptúe.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(Ley de Quiebras. Art. 2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58920" y="304920"/>
            <a:ext cx="73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JUICIO DE QUIEB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1197000"/>
            <a:ext cx="7632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3.2.  </a:t>
            </a:r>
            <a:r>
              <a:rPr b="1" lang="es-ES" sz="1800" spc="-1" strike="noStrike" u="sng">
                <a:solidFill>
                  <a:srgbClr val="3333cc"/>
                </a:solidFill>
                <a:uFillTx/>
                <a:latin typeface="Arial"/>
              </a:rPr>
              <a:t>Un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Todas las controversias relativas al patrimonio del deudor deben ser conocidos en un solo proceso y ante un mismo tribun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3.3.  </a:t>
            </a:r>
            <a:r>
              <a:rPr b="1" lang="es-ES" sz="1800" spc="-1" strike="noStrike" u="sng">
                <a:solidFill>
                  <a:srgbClr val="3333cc"/>
                </a:solidFill>
                <a:uFillTx/>
                <a:latin typeface="Arial"/>
              </a:rPr>
              <a:t>Principios dispositivo e inquisit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En la quiebra se combinan intereses de orden público y de orden privado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La regla general en el proceso es el principio inquisitivo:  la tramitación queda entregada al juez, síndico y junta de acreedor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Ciertas actuaciones se efectúan en el interés priva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79640" indent="-457200">
              <a:lnSpc>
                <a:spcPct val="100000"/>
              </a:lnSpc>
              <a:buClr>
                <a:srgbClr val="3333cc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Acción de quieb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79640" indent="-457200">
              <a:lnSpc>
                <a:spcPct val="100000"/>
              </a:lnSpc>
              <a:buClr>
                <a:srgbClr val="3333cc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Verificación de crédi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79640" indent="-457200">
              <a:lnSpc>
                <a:spcPct val="100000"/>
              </a:lnSpc>
              <a:buClr>
                <a:srgbClr val="3333cc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Impugnación de crédi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8920" y="304920"/>
            <a:ext cx="73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JUICIO DE QUIEB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95280" y="981000"/>
            <a:ext cx="76327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3.4.  </a:t>
            </a:r>
            <a:r>
              <a:rPr b="1" lang="es-ES" sz="1800" spc="-1" strike="noStrike" u="sng">
                <a:solidFill>
                  <a:srgbClr val="3333cc"/>
                </a:solidFill>
                <a:uFillTx/>
                <a:latin typeface="Arial"/>
              </a:rPr>
              <a:t>Orden consecutivo legal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  (Puga Dercho Concursal T II pp 29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El proceso de quiebra está ordenado por etapa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Etapa de conoci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3333cc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Fase de apert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3333cc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Fase de verific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Etapa de apremio o ejecu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3333cc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Fase de embarg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3333cc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Fase de realización del act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3333cc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Fase de pag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Etapa de suspensión o claus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3333cc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Sobreseimien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3333cc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Conven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58920" y="304920"/>
            <a:ext cx="73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JUICIO DE QUIEB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1052640"/>
            <a:ext cx="7632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3.5   </a:t>
            </a:r>
            <a:r>
              <a:rPr b="1" lang="es-ES" sz="1800" spc="-1" strike="noStrike" u="sng">
                <a:solidFill>
                  <a:srgbClr val="3333cc"/>
                </a:solidFill>
                <a:uFillTx/>
                <a:latin typeface="Arial"/>
              </a:rPr>
              <a:t>Concent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Implica el principio de la economía procesal o celeridad proces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La etapa de apertura tiene un mecanismo propio similar al juicio ejecutiv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La controversia sólo puede iniciarse después de la declaratoria de quiebra.  Recurso especial de reposi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El juez tiene facultades para proceder de oficio en la determinación de la veracidad de la causal de quiebra invocad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3.6   </a:t>
            </a:r>
            <a:r>
              <a:rPr b="1" lang="es-ES" sz="1800" spc="-1" strike="noStrike" u="sng">
                <a:solidFill>
                  <a:srgbClr val="3333cc"/>
                </a:solidFill>
                <a:uFillTx/>
                <a:latin typeface="Arial"/>
              </a:rPr>
              <a:t>Bilateralidad de la audi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Principio esencial en el sistema jurídico chilen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Después de decretada la quiebra nace la controvers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Se pueden impugnar los créditos verificad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8920" y="304920"/>
            <a:ext cx="73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JUICIO DE QUIEB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68360" y="1052640"/>
            <a:ext cx="7632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3.7.  </a:t>
            </a:r>
            <a:r>
              <a:rPr b="1" lang="es-ES" sz="1800" spc="-1" strike="noStrike" u="sng">
                <a:solidFill>
                  <a:srgbClr val="3333cc"/>
                </a:solidFill>
                <a:uFillTx/>
                <a:latin typeface="Arial"/>
              </a:rPr>
              <a:t>Inmedi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Este principio no se da de manera perfecta en el proceso de quieb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El principio exige una relación directa del juez con las partes y su deber de recibir directamente todas las prueb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En este caso, el sujeto activo es la suma de todos los acreedores concursales, que no es un órgano de funcionamiento permanente en el proces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3.8.  </a:t>
            </a:r>
            <a:r>
              <a:rPr b="1" lang="es-ES" sz="1800" spc="-1" strike="noStrike" u="sng">
                <a:solidFill>
                  <a:srgbClr val="3333cc"/>
                </a:solidFill>
                <a:uFillTx/>
                <a:latin typeface="Arial"/>
              </a:rPr>
              <a:t>Eventua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Las partes deben aportar todos los medios de ataque y defensa de una sola vez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Ejemplo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Artículo 45 Ley de Quiebras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Verificación de crédi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58920" y="304920"/>
            <a:ext cx="73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JUICIO DE QUIEB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981000"/>
            <a:ext cx="7777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NATURALEZA JURIDICA DE LA QUIEB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        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(Puga Derecho Concursal TI 15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        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(Gómez y Eyzaguirre pp 4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4.1.  Diferencia entre quiebra 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Conven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Cesión de bie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Calificación criminal de la quieb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Liquidación administrativa de un ban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4.2.  Teoría de derecho material o sustancialist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La quiebra es parte del proceso del sistema del comercio en gener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En el juicio de quiebra importan mucho las normas sustantivas: prelación de crédi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Se asimila el concepto de “estado de quiebra” a una situación relativa a otros estados de derecho civi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58920" y="304920"/>
            <a:ext cx="73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JUICIO DE QUIEB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16:53:20Z</dcterms:created>
  <dc:creator>JLLB_</dc:creator>
  <dc:description/>
  <dc:language>en-US</dc:language>
  <cp:lastModifiedBy>pc</cp:lastModifiedBy>
  <dcterms:modified xsi:type="dcterms:W3CDTF">2009-09-21T20:44:07Z</dcterms:modified>
  <cp:revision>115</cp:revision>
  <dc:subject/>
  <dc:title>Diapositiva 1</dc:title>
</cp:coreProperties>
</file>