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C3E-220C-4B6D-80B3-948FD16C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5BE-7E71-483F-B54D-CFDA119E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857-6A34-4444-9DD8-C7412624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C81-D238-4428-9C28-557B8366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970E-968B-4E91-8117-14EDD284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5C6F-F2B7-4EEB-8067-D0D1C707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FA62-9CF2-425F-9F09-2CCF3CF6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5A0-518F-4094-B96E-63B5C8E8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B07-40D9-496C-A616-FA16825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5125-DB46-476F-B897-04B31AC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6040-E1E7-4A68-83A4-3E00333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3FB-CEF4-44DE-B231-2F9E731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0964-7219-43A6-93D5-47778A1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846C-4D8F-4AD9-BCC9-6C5678C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5C69-1558-4C7A-B122-2B47E59F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F742-F351-4BFE-8675-955F8E10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8403-783B-4992-B6BC-5E0141B9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67D-5E54-439A-A571-CAEC8C0A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835-C557-4064-B491-4373AAF4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2A9-80BD-4859-890D-BF6C2CB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E10-6AAD-45CC-A39B-7778A0DF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3D3-0016-46B6-B4AE-3E2CF31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2F7-3061-4F33-B37C-C113FB1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E8B-B286-4734-B7FB-67B3D94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76BF-3167-48F7-9B08-5CF01110D478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79C0-CB2B-406D-A058-DDA46E97E980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cc"/>
                </a:solidFill>
                <a:latin typeface="Tahoma"/>
              </a:rPr>
              <a:t>Introducción: Quieb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Distinciones lingüíst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erminología que la ley (Códigos Civil y de Comercio) trata como sinóni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Cesación de pa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insolv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Mal estado de los negocios del deu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-qui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finición: Es la objetiva incapacidad de p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 bien la cesación de pagos es el término más técnico y el que se constituye como causal de la quiebra, todos son usados indistinta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insolvencia ha de verse como la falta de capacidad de pago. Se puede tener más activos que pasivos y ser insolvente de todos mo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Acepciones del término Quieb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ecto de la sentencia de quiebra: desas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ceso o juicio de quieb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recho concursal = Derecho de quieb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solvencia o cesación de pa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Tahoma"/>
              </a:rPr>
              <a:t>Mensaje del Código de Comerci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eria que con anterioridad estaba obsoleta. Consideraba estipulaciones de la Ordenanza de Bilbao, la Novísima Recopilación y otras antigu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ey del año 1865 que tomó como base el código de Comercio francés de 1908 modificado en 193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rende innovaciones conceptuales y procesales con miras a una perspectiva más justa de la quiebra respecto del deudor y de igualdad respecto de los acreedores entre 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uga Vial, Juan Esteban. Derecho Concursal: El Juicio de Quieb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ensaje del Código de Comer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20:33:42Z</dcterms:created>
  <dc:creator>Lucarna16</dc:creator>
  <dc:description/>
  <dc:language>en-US</dc:language>
  <cp:lastModifiedBy>Lucarna16</cp:lastModifiedBy>
  <dcterms:modified xsi:type="dcterms:W3CDTF">2009-09-10T20:40:12Z</dcterms:modified>
  <cp:revision>3</cp:revision>
  <dc:subject/>
  <dc:title>Introducción: Quiebras</dc:title>
</cp:coreProperties>
</file>