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1EE-B8E7-49A4-8C62-75C2412E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AD6-6856-4201-8B8B-9097E7CD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0C8-0C1C-4CE8-9BB4-C2862240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C59-838B-4DE0-8FC4-0F41399A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11A4-F21B-4A8B-82FF-E3C5D092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943-D43B-408E-9662-2219A251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5201-243B-45FF-AF5F-E42860A0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775A-EC1B-48B3-8654-161F55C9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C870-AE0C-421C-BCCD-4DFCC42E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0527-0200-4E10-937F-FA1274A4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F622-A116-42D1-B04E-2CE2E04A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EF6-26ED-4B17-AC49-92D25749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1888-2FAF-41F4-A76D-F3C07317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BFB9-48BC-4A95-9BB5-4FDD7287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0965-5E74-41E8-A82A-874185CF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AAC5-2EA8-468B-85B0-68277411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6AB5-5BE5-4D7B-B0B8-00BC8345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8BD-923E-4A68-8801-B56557C6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211-FE6E-4E53-99E8-716E90CD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E0B-B253-4D18-87BA-17E8F750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3AE-A626-478E-97B4-91D1285C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A5F-2EDA-4F10-A167-A77872E7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68B-CD5C-4D70-B291-46405A6B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44A-5405-4523-B76B-937F78D8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AC05-C4D5-41A7-B6BC-0C60831A4D11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D0A0-2384-46D8-A5A3-19E101E0C473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cc"/>
                </a:solidFill>
                <a:latin typeface="Tahoma"/>
              </a:rPr>
              <a:t>Introducción: Quiebra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Tahoma"/>
              </a:rPr>
              <a:t>Distinciones lingüístic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erminología que la ley (Códigos Civil y de Comercio) trata como sinóni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-Cesación de pag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-insolv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-Mal estado de los negocios del deu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-qui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finición: Es la objetiva incapacidad de p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 bien la cesación de pagos es el término más técnico y el que se constituye como causal de la quiebra, todos son usados indistintam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insolvencia ha de verse como la falta de capacidad de pago. Se puede tener más activos que pasivos y ser insolvente de todos mo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Tahoma"/>
              </a:rPr>
              <a:t>Acepciones del término Quieb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fecto de la sentencia de quiebra: desas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ceso o juicio de quieb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recho concursal = Derecho de quieb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solvencia o cesación de pa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Tahoma"/>
              </a:rPr>
              <a:t>Mensaje del Código de Comerci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eria que con anterioridad estaba obsoleta. Consideraba estipulaciones de la Ordenanza de Bilbao, la Novísima Recopilación y otras antiguas nor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ey del año 1865 que tomó como base el código de Comercio francés de 1908 modificado en 193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rende innovaciones conceptuales y procesales con miras a una perspectiva más justa de la quiebra respecto del deudor y de igualdad respecto de los acreedores entre 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uga Vial, Juan Esteban. Derecho Concursal: El Juicio de Quieb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Mensaje del Código de Comerc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20:33:42Z</dcterms:created>
  <dc:creator>Lucarna16</dc:creator>
  <dc:description/>
  <dc:language>en-US</dc:language>
  <cp:lastModifiedBy>Lucarna16</cp:lastModifiedBy>
  <dcterms:modified xsi:type="dcterms:W3CDTF">2009-09-10T20:40:12Z</dcterms:modified>
  <cp:revision>3</cp:revision>
  <dc:subject/>
  <dc:title>Introducción: Quiebras</dc:title>
</cp:coreProperties>
</file>