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C0E-DFB8-45D7-8268-2E83F035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7BC-7190-40A5-83CA-649D6024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CC1-040D-4D78-8A1F-610BF4B2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0D0-9002-4F7F-9383-2ACCE5B2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DD5-802F-49B0-9D50-50B4153B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2AD-C340-4DE0-91FA-1F3AC245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191-BBB1-4943-B244-43624ABC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A69C-70DE-4288-9B81-8897736E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0FE9-243B-455B-8AA8-A573215B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9B54-B3ED-4969-9E3F-054A6F68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4D9-B169-4973-AC56-279A83C6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4D9-417E-481F-BB77-701A42C3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8ECF-FBCB-48B4-B0F6-4B5F32B80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moraga@derecho.uchile.cl" TargetMode="External"/><Relationship Id="rId2" Type="http://schemas.openxmlformats.org/officeDocument/2006/relationships/hyperlink" Target="http://www.derecho.uchile.cl/cda/cda2006/programa_domeyko/index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CONFLIC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8737920" cy="5126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2800"/>
            </a:br>
            <a:r>
              <a:rPr b="1" lang="fr-FR" sz="2800" spc="-1" strike="noStrike">
                <a:solidFill>
                  <a:srgbClr val="000099"/>
                </a:solidFill>
                <a:latin typeface="Garamond"/>
              </a:rPr>
              <a:t>PROYECTOS ENERGETICOS MAS CONFLI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03440" y="1677960"/>
            <a:ext cx="7735680" cy="4370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Garamond"/>
              </a:rPr>
              <a:t>Objetivos del Ta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Garamond"/>
              </a:rPr>
              <a:t>GENE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	</a:t>
            </a:r>
            <a:r>
              <a:rPr b="1" i="1" lang="es-ES_tradnl" sz="3200" spc="-1" strike="noStrike">
                <a:solidFill>
                  <a:srgbClr val="333399"/>
                </a:solidFill>
                <a:latin typeface="Garamond"/>
              </a:rPr>
              <a:t>Contribuir </a:t>
            </a: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al Proyecto Energía Medio Ambiente y Regulación con horas de investigación, en miras a </a:t>
            </a:r>
            <a:r>
              <a:rPr b="1" i="1" lang="es-ES_tradnl" sz="3200" spc="-1" strike="noStrike">
                <a:solidFill>
                  <a:srgbClr val="333399"/>
                </a:solidFill>
                <a:latin typeface="Garamond"/>
              </a:rPr>
              <a:t>determinar</a:t>
            </a:r>
            <a:r>
              <a:rPr b="0" lang="es-ES_tradnl" sz="3200" spc="-1" strike="noStrike">
                <a:solidFill>
                  <a:srgbClr val="333399"/>
                </a:solidFill>
                <a:latin typeface="Garamond"/>
              </a:rPr>
              <a:t> la compatibilidad de los proyectos energéticos desarrollados en nuestro país con la protección y respeto al medio amb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Garamond"/>
              </a:rPr>
              <a:t>ESPECÍFIC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Garamond"/>
              </a:rPr>
              <a:t>Desarrollar la capacidad de investigar, analizar, opinar y elaborar una problemática de investigación, respecto de alguno de los tópicos descritos en los conte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Garamond"/>
              </a:rPr>
              <a:t>Elaborar un proyecto de memoria que contenga una breve introducción, descripción de la problemática y bibliografía, respecto del tema de preferencia del alumno en relación al marco de contenidos del cur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Redactar un artículo, con suficiente calidad para ser publicado en la temática general del curso (15 a 20 pag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Redactar una nota para el blog del Centro de Derecho Ambiental en un tema de relevancia internacional que diga relación con el marco jurídico internacional de la Ener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Garamond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Análisis de los casos de proyectos energéticos enunciados en el estudio de la Fundación Terram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Garamond"/>
              </a:rPr>
              <a:t>Para alcanzar los objetivos descritos el curso deberá elaborar una plantilla de análisis de los casos que hayan sido conocidos por los tribunales de just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Garamond"/>
              </a:rPr>
              <a:t>Respecto de los casos que no fueron resueltos en tribunales, se deberá determinar cuál fue el método de resolución alternativo de conflictos empe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Con dicha plantilla se analizarán los casos judicial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A partir del análisis comparados de casos que se relacionen con un mismo tipo de fuente y si fuera pertinente un análisis cruzado de diversos tipos de fuentes, se elaborarán las conclu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Garamond"/>
              </a:rPr>
              <a:t>En todos los casos las conclusiones finales deben tratar de establecer si la resolución judicial del conflicto da suficientes garantías de protección al art. 19 n° 8 de la constitu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71640" y="2133720"/>
            <a:ext cx="7777080" cy="2904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¡</a:t>
            </a:r>
            <a:r>
              <a:rPr b="1" lang="fr-FR" sz="2400" spc="-1" strike="noStrike">
                <a:solidFill>
                  <a:srgbClr val="000099"/>
                </a:solidFill>
                <a:latin typeface="Arial"/>
              </a:rPr>
              <a:t>GRACIA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Pilar Moraga Sari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moraga@derecho.uchile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erecho.uchile.cl/cda/cda2006/programa_domeyko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924360" y="0"/>
            <a:ext cx="1247760" cy="1333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020000" y="2421000"/>
            <a:ext cx="1439640" cy="74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203640" y="5661000"/>
            <a:ext cx="287964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232092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¡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99"/>
                </a:solidFill>
                <a:latin typeface="Garamond"/>
              </a:rPr>
              <a:t>CONFLICTOS AMBIENT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827360"/>
            <a:ext cx="79992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24880" indent="-524880" algn="ctr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Garamond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-524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Garamond"/>
              </a:rPr>
              <a:t>Los beneficios de los proyectos energéticos son generales, pero sus impactos loc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-524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Garamond"/>
              </a:rPr>
              <a:t>Los proyectos energéticos no son intensivos en mano de ob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-5248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99"/>
                </a:solidFill>
                <a:latin typeface="Garamond"/>
              </a:rPr>
              <a:t>Dado el sistema impositivo, tampoco generan muchos recursos tributarios para la comu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4880" indent="0" algn="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99"/>
                </a:solidFill>
                <a:latin typeface="Garamond"/>
              </a:rPr>
              <a:t>P.91. Política Energética Nuevos Lineamientos, CNE, 200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24720" y="1557360"/>
            <a:ext cx="109368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806616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RESPUESTAS GUBERNAM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748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A. Anuncios recientes del ejecutivo en torno a dos proyectos de ley Cena Anual de Energia, enero 2009)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OBJETIVO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1.   Reducir la oposici</a:t>
            </a:r>
            <a:r>
              <a:rPr b="0" lang="en-US" sz="15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n local a los proyect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2.   Internalizar los beneficios nacionales de los proyectos en las comuna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ACCIONES</a:t>
            </a:r>
            <a:r>
              <a:rPr b="1" lang="fr-FR" sz="1500" spc="-1" strike="noStrike">
                <a:solidFill>
                  <a:srgbClr val="000099"/>
                </a:solidFill>
                <a:latin typeface="Garamond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Modificaci</a:t>
            </a:r>
            <a:r>
              <a:rPr b="0" lang="en-US" sz="1500" spc="-1" strike="noStrike">
                <a:solidFill>
                  <a:srgbClr val="000099"/>
                </a:solidFill>
                <a:latin typeface="Garamond"/>
              </a:rPr>
              <a:t>ón reglamentaria para el </a:t>
            </a:r>
            <a:r>
              <a:rPr b="1" lang="en-US" sz="1500" spc="-1" strike="noStrike">
                <a:solidFill>
                  <a:srgbClr val="000099"/>
                </a:solidFill>
                <a:latin typeface="Garamond"/>
              </a:rPr>
              <a:t>p</a:t>
            </a:r>
            <a:r>
              <a:rPr b="1" lang="fr-FR" sz="1500" spc="-1" strike="noStrike">
                <a:solidFill>
                  <a:srgbClr val="000099"/>
                </a:solidFill>
                <a:latin typeface="Garamond"/>
              </a:rPr>
              <a:t>ago de patentes de generadoras eléctricas</a:t>
            </a: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 a partir de 2010 directa a los municipios donde se instal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Obligaci</a:t>
            </a:r>
            <a:r>
              <a:rPr b="0" lang="en-US" sz="15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n de las empresas de contribuir al desarrollo local de las comunas, por medio del pago de cada MW instalad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CR</a:t>
            </a:r>
            <a:r>
              <a:rPr b="1" lang="en-US" sz="1500" spc="-1" strike="noStrike" u="sng">
                <a:solidFill>
                  <a:srgbClr val="000099"/>
                </a:solidFill>
                <a:uFillTx/>
                <a:latin typeface="Garamond"/>
              </a:rPr>
              <a:t>Í</a:t>
            </a: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TICAS</a:t>
            </a:r>
            <a:r>
              <a:rPr b="1" lang="fr-FR" sz="1500" spc="-1" strike="noStrike">
                <a:solidFill>
                  <a:srgbClr val="000099"/>
                </a:solidFill>
                <a:latin typeface="Garamond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Este pago da derecho  a la empresa que paga de obener un crédito del estado, lo que equivaldria a una forma de subsidio estat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La discusi</a:t>
            </a:r>
            <a:r>
              <a:rPr b="0" lang="en-US" sz="15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1500" spc="-1" strike="noStrike">
                <a:solidFill>
                  <a:srgbClr val="000099"/>
                </a:solidFill>
                <a:latin typeface="Garamond"/>
              </a:rPr>
              <a:t>n se reduce a la energ</a:t>
            </a:r>
            <a:r>
              <a:rPr b="0" lang="en-US" sz="1500" spc="-1" strike="noStrike">
                <a:solidFill>
                  <a:srgbClr val="000099"/>
                </a:solidFill>
                <a:latin typeface="Garamond"/>
              </a:rPr>
              <a:t>ía eléctrica, siendo que sólo el 19% de la matriz se destina a este fi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 u="sng">
                <a:solidFill>
                  <a:srgbClr val="000099"/>
                </a:solidFill>
                <a:uFillTx/>
                <a:latin typeface="Garamond"/>
              </a:rPr>
              <a:t>B. Aplicación Convenio 169 OIT sobre pueblos indígenas y tribales. Vigencia: Sept.2009 </a:t>
            </a:r>
            <a:r>
              <a:rPr b="1" lang="fr-FR" sz="1500" spc="-1" strike="noStrike">
                <a:solidFill>
                  <a:srgbClr val="000099"/>
                </a:solidFill>
                <a:latin typeface="Garamond"/>
              </a:rPr>
              <a:t>(después de 17 años de tramitación en el Congreso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AMBIENTALES EN CIF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7053120" cy="270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0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PROYECTOS ENERGETICOS EN EL SE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Aumento Progres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2637000"/>
            <a:ext cx="7053480" cy="3487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PROYECTOS ENERGETICOS EN EL SE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36600" y="2050920"/>
            <a:ext cx="6670800" cy="362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PROYECTOS ENERGETICOS EN EL SE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Distribuci</a:t>
            </a:r>
            <a:r>
              <a:rPr b="0" lang="en-US" sz="32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n de proyectos por regi</a:t>
            </a:r>
            <a:r>
              <a:rPr b="0" lang="en-US" sz="32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3200" spc="-1" strike="noStrike">
                <a:solidFill>
                  <a:srgbClr val="000099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7188480" cy="3835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4000"/>
            </a:br>
            <a:r>
              <a:rPr b="0" lang="fr-FR" sz="4000" spc="-1" strike="noStrike">
                <a:solidFill>
                  <a:srgbClr val="000099"/>
                </a:solidFill>
                <a:latin typeface="Garamond"/>
              </a:rPr>
              <a:t>CONCLU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Periodo estudio:2000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196 proyectos de generacion eléctrica ingresados al SE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149 aprobados o en estado de calificaci</a:t>
            </a:r>
            <a:r>
              <a:rPr b="0" lang="en-US" sz="2800" spc="-1" strike="noStrike">
                <a:solidFill>
                  <a:srgbClr val="000099"/>
                </a:solidFill>
                <a:latin typeface="Garamond"/>
              </a:rPr>
              <a:t>ó</a:t>
            </a: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n ambi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37 de los 149 son la causa de conflictos ambientales = 24,8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Respecto del potencial de generaci</a:t>
            </a:r>
            <a:r>
              <a:rPr b="0" lang="en-US" sz="2800" spc="-1" strike="noStrike">
                <a:solidFill>
                  <a:srgbClr val="000099"/>
                </a:solidFill>
                <a:latin typeface="Garamond"/>
              </a:rPr>
              <a:t>ón= </a:t>
            </a:r>
            <a:r>
              <a:rPr b="0" lang="fr-FR" sz="2800" spc="-1" strike="noStrike">
                <a:solidFill>
                  <a:srgbClr val="000099"/>
                </a:solidFill>
                <a:latin typeface="Garamond"/>
              </a:rPr>
              <a:t>71% proyectos termoeléctricos y 23% proyectos hidroeléc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AMBIENTALES: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Garamond"/>
              </a:rPr>
              <a:t>CONFLICTOS POR RE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51120" y="1600200"/>
            <a:ext cx="544176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20:10:04Z</dcterms:created>
  <dc:creator>pmoraga</dc:creator>
  <dc:description/>
  <dc:language>en-US</dc:language>
  <cp:lastModifiedBy>pmoraga</cp:lastModifiedBy>
  <dcterms:modified xsi:type="dcterms:W3CDTF">2009-08-31T22:02:18Z</dcterms:modified>
  <cp:revision>3</cp:revision>
  <dc:subject/>
  <dc:title>Diapositiva 1</dc:title>
</cp:coreProperties>
</file>