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7E22-A4B5-4593-B4A8-057C3767207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38E3-DF5D-406F-B29B-FC5EB227E0C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FD1-8332-4292-8BE5-E5D3CDD5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246-B6A4-4F7A-81A3-F2BECF2D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79E-4EC3-4B84-A761-9C6FC897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26B-9BEC-454C-A782-DE37FDC0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B82F-1F18-4C31-972E-4C53F069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04C7-6DF6-45B2-B3F0-040D6854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CDE4-73CA-49B2-A408-74C8B1D3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A819-E0AE-48E9-8C77-EAD6209A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C7B1-32D0-4FAC-A6F9-4D1FADB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02E5-1B64-4862-82EB-0DC11C88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CB7A-EF9C-451B-9D00-40466E8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96D-9E39-41D3-93FA-1B0602B2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E752-B788-4E7B-BEB1-9009B03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7FB0-97BE-4D63-A643-5F22A636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6D73-729D-4433-A457-D1FA364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0D4-BD6C-4CE2-9C71-1FD403EA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4324-97BD-4C65-A8FE-FDB99646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B8B7-D8C1-4B57-88A8-4A9E9168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E292-00CA-420F-9791-50194C09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93E9-3FE8-4E81-8429-D870233E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0E78-91C9-4706-B633-7F2FF3C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A474-71F4-4D90-95B9-52429C8B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304-CAA6-4294-9B39-383C96A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05C3-820B-4B66-B97C-A884F5FD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B81B-9B8B-4720-88F8-EBA5E74E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249B-D7F5-4EF2-BDE3-5331F5D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1CD6-EF8C-4EB5-AD78-BCC30B9C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B178-272F-4CC8-845C-BD368803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FBF0-7DCE-4DD7-8DA1-CCCFDF9F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5CBC-8D61-43D1-AA06-CCAE225A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1203-D204-485F-81EE-71E1812E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048C-0208-4AB5-AF63-28C68932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4530-9E2E-4EAB-B5B7-3B12C284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68F-B233-4462-8550-A3562542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3CD9-5FFA-4753-A755-58EA1FC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611B-091E-4642-A411-D3A025E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7B720-01F7-402B-868E-C26F8915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32E9-F966-4009-A1EE-510FC947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4B9E-EE62-4B8B-84A1-16B6F8E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74C3-B758-490A-806D-271155CE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0914-CF3C-45E9-AA1C-DAA17644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2BE21-0619-4B63-9CDA-7053C559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6F8F-4101-4359-8EC0-CDDE01DA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A6F-33B4-4DFF-8E3B-7AE6F759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CFA-0897-4F26-9F3A-8C35BAD5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3F3-5F10-47DC-912A-CF61DE8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8C1-403F-4E12-82A7-C2E7B022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607-58AE-4D4E-809B-72696ECB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58DD-9D7E-4437-B237-1150620277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D5F-B37B-473F-B294-F20BFA53DAD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AB09-DA80-43A7-ABB1-F7EE5DF337C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E5FD-2E7B-4364-AA1D-5A53A3317E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f6fc6"/>
                </a:solidFill>
                <a:latin typeface="Calibri"/>
              </a:rPr>
              <a:t>EL SISTEMA MONETARI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una institución encargada de velar supervisar el sistema bancario y de regular la cantidad de dinero que hay en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Banco Central tiene dos misiones relacionadas entre sí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primera es regular los bancos y garantizar la salud del sistema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segunda es controlar la cantidad de dinero que existe en la economía, llamada oferta monetaria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ofert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cantidad de dinero de que dispone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polític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fijación de la oferta monetaria por parte de las autoridades monetarias en el Banco Centra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Reserv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son depósitos que los bancos han recibido, pero no han prestad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Sistema bancario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el sistema bancario en el que los bancos solo tienen como reservas una fracción de los depósitos y el resto lo presta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l coeficiente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la fracción de los depósitos que tienen los bancos como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 del que tiene en servicios reservas, la oferta monetaria se increment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oferta monetaria se ve afectada por las cantidades depositadas en los bancos y por las cantidades de dinero prestadas por los mism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depósitos bancarios son considerados como un activo y un pasivo a la v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anco Central fija la cantidad mínima de reservas que deben tener los bancos, esto se llama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ancos además pueden tener reservas superiores al mínimo obligatorio, llamadas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exceso de reser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éstamos son considerados como un activo para el ban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22896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ta cuenta T muestra un banco qu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Acepta depósito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Separa una parte para reservas,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Y presta el resto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Tiene un encaje bancario del 10%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907440" y="1951200"/>
            <a:ext cx="5335560" cy="4449600"/>
            <a:chOff x="3907440" y="1951200"/>
            <a:chExt cx="5335560" cy="4449600"/>
          </a:xfrm>
        </p:grpSpPr>
        <p:sp>
          <p:nvSpPr>
            <p:cNvPr id="235" name="Line 5"/>
            <p:cNvSpPr/>
            <p:nvPr/>
          </p:nvSpPr>
          <p:spPr>
            <a:xfrm>
              <a:off x="3943080" y="3200400"/>
              <a:ext cx="4722840" cy="0"/>
            </a:xfrm>
            <a:prstGeom prst="line">
              <a:avLst/>
            </a:prstGeom>
            <a:ln w="7632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227640" y="3278160"/>
              <a:ext cx="0" cy="3122640"/>
            </a:xfrm>
            <a:prstGeom prst="line">
              <a:avLst/>
            </a:prstGeom>
            <a:ln w="507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4406400" y="2604960"/>
              <a:ext cx="151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6470640" y="2604960"/>
              <a:ext cx="153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303080" y="1951200"/>
              <a:ext cx="4939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3925800" y="3489480"/>
              <a:ext cx="19346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292440" y="34894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>
              <a:off x="4552920" y="5486400"/>
              <a:ext cx="1598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390744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634572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6914880" y="5486400"/>
              <a:ext cx="159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, ese dinero es generalmente depositado en otro banc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o anterior crea  más depósitos y más reservas para presta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realiza un préstamo de sus reservas, se incrementa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¿Cuanto dinero puede ser creado en una economí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ultiplicador del diner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la cantidad de dinero que genera el sistema bancario con cada peso de reserv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SIGNIFICADO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dinero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 es el conjunto de activos de la economía que utilizan los individuos normalmente para comprar bienes y servicios a otras person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2"/>
          <p:cNvSpPr/>
          <p:nvPr/>
        </p:nvSpPr>
        <p:spPr>
          <a:xfrm>
            <a:off x="4724280" y="1752480"/>
            <a:ext cx="419112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533520" y="1752480"/>
            <a:ext cx="403848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" y="1752480"/>
            <a:ext cx="4359960" cy="4191120"/>
            <a:chOff x="457200" y="1752480"/>
            <a:chExt cx="4359960" cy="4191120"/>
          </a:xfrm>
        </p:grpSpPr>
        <p:sp>
          <p:nvSpPr>
            <p:cNvPr id="254" name="Line 5"/>
            <p:cNvSpPr/>
            <p:nvPr/>
          </p:nvSpPr>
          <p:spPr>
            <a:xfrm>
              <a:off x="598680" y="2909880"/>
              <a:ext cx="3970080" cy="0"/>
            </a:xfrm>
            <a:prstGeom prst="line">
              <a:avLst/>
            </a:prstGeom>
            <a:ln w="255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2517840" y="2982960"/>
              <a:ext cx="0" cy="2960640"/>
            </a:xfrm>
            <a:prstGeom prst="line">
              <a:avLst/>
            </a:prstGeom>
            <a:ln w="25560">
              <a:solidFill>
                <a:srgbClr val="04617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983520" y="2386080"/>
              <a:ext cx="104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19080" y="2386080"/>
              <a:ext cx="105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76280" y="1752480"/>
              <a:ext cx="434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568080" y="3224160"/>
              <a:ext cx="202464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535840" y="3224160"/>
              <a:ext cx="2166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1111320" y="5076720"/>
              <a:ext cx="13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175360"/>
              <a:ext cx="2289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2514600" y="5175360"/>
              <a:ext cx="2282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3095640" y="5076720"/>
              <a:ext cx="13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17"/>
          <p:cNvSpPr/>
          <p:nvPr/>
        </p:nvSpPr>
        <p:spPr>
          <a:xfrm>
            <a:off x="4745160" y="2930400"/>
            <a:ext cx="4029120" cy="0"/>
          </a:xfrm>
          <a:prstGeom prst="line">
            <a:avLst/>
          </a:prstGeom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6689520" y="3005280"/>
            <a:ext cx="4680" cy="2938320"/>
          </a:xfrm>
          <a:prstGeom prst="line">
            <a:avLst/>
          </a:prstGeom>
          <a:ln w="25560">
            <a:solidFill>
              <a:srgbClr val="0461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141160" y="2398680"/>
            <a:ext cx="104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6903360" y="2398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4648320" y="1765440"/>
            <a:ext cx="4470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Constantia"/>
              </a:rPr>
              <a:t>Segundo Banc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693320" y="3251160"/>
            <a:ext cx="2024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Rese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8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735600" y="325116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5264280" y="5137200"/>
            <a:ext cx="13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472104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682992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281720" y="5137200"/>
            <a:ext cx="136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1523880" y="6019920"/>
            <a:ext cx="5883480" cy="10674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6fc6"/>
                </a:solidFill>
                <a:latin typeface="Constantia"/>
              </a:rPr>
              <a:t>Oferta Monetaria= $190.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 flipV="1">
            <a:off x="2514600" y="3719520"/>
            <a:ext cx="5273640" cy="852480"/>
          </a:xfrm>
          <a:prstGeom prst="line">
            <a:avLst/>
          </a:prstGeom>
          <a:ln w="50760">
            <a:solidFill>
              <a:srgbClr val="b0001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multiplicador del dinero es la inversa del coeficiente de reserva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M = 1/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cantidad de dinero que crean los bancos depende del coeficiente de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 un encaje,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R = 20%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1/5,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 multiplicador del dinero es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Banco Central tiene tres instrumento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Operaciones de mercado abier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Reservas obligatorias o encaje bancari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tasa de descuen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708120" indent="-40068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Operaciones de mercado abier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realiza operaciones de mercado abierto cuando vende o compra bonos del Estado al públ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incrementar la oferta monetaria, el Banco Central compra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disminuir la oferta monetaria, el Banco Central vende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95240" indent="-51984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antidad mínima de reservas que deben tener los bancos para respaldar los depósit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ncrementar el encaje bancario hace disminui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minuir el encaje bancario hace aumenta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 marL="749880" indent="-48996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Tasa de descuen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Tasa de interés de los préstamos que concede el Banco Central a los Bancos comerciant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Incrementar la tasa de descuento hace disminui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isminuir la tasa de descuento hace aumenta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Problemas que plantea el control de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no puede controlar con precisión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debe lidiar con dos problemas que surgen debido a que la oferta monetaria es creada por el sistema bancario de reservas fraccionaria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los hogares deciden tener depositado en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deciden prestar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dinero desempeña </a:t>
            </a:r>
            <a:r>
              <a:rPr b="0" lang="es-CL" sz="3600" spc="-1" strike="noStrike" u="sng">
                <a:solidFill>
                  <a:srgbClr val="000000"/>
                </a:solidFill>
                <a:uFillTx/>
                <a:latin typeface="Constantia"/>
              </a:rPr>
              <a:t>tres funciones 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n la economía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Medio de cambi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Unidad de cuen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Depósito de valo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un artículo que los compradores entregan a los vendedores cuando quieren comprar bienes y servici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medio de cambio es cualquier cosa que es generalmente aceptada como pag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Unidad de cuen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Unidad de cuenta es un patrón que utilizan los individuos para marcar los precios y registrar las deuda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 de valor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pósito de valor es un artículo que pueden utilizar los individuos para transferir poder adquisitivo del presente al futur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Liquidez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Facilidad con que puede convertirse un activo en medio de cambio en la economía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TIPOS DE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- mercancí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adopta la forma de una mercancía que tiene un valor intrínseco. Por ejemplo: Plata, oro, cigarrillo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 fiduciar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carece de valor intrínseco y que se utiliza como dinero por decreto gubernamental. Por ejemplo: Monedas, billet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EL DINERO EN LAS ECONOMÍAS MODERN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fectiv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billetes y las monedas que están en manos del públic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s a la vis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saldos de las cuentas bancarias a los que los depositantes tienen acceso a la vista extendiendo un chequ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CASO PRÁCTICO: ¿DÓNDE ESTÁ TODO EL EFECTIVO DE EEUU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2001 había alrededor de 580.000 millones de dólares de efectivo en circu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e calculo implica que el adulto promedio en EEUU tenía alrededor de US 2.734 en efectiv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én tiene todo este efectiv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adie lo sabe a ciencia cierta, pero se cree que una gran parte se encuentra en otros países y la otra parte en manos de narcotraficantes, evasores de impuestos y otros delincu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5:24:34Z</dcterms:created>
  <dc:creator>Andrea</dc:creator>
  <dc:description/>
  <dc:language>en-US</dc:language>
  <cp:lastModifiedBy> </cp:lastModifiedBy>
  <dcterms:modified xsi:type="dcterms:W3CDTF">2009-11-04T02:38:49Z</dcterms:modified>
  <cp:revision>51</cp:revision>
  <dc:subject/>
  <dc:title>Contenidos del dia</dc:title>
</cp:coreProperties>
</file>