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5984-DCBD-4816-BA3B-6358A5D6AAE5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A48E-0139-4900-B3ED-AA9C1F9F047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6732-27C6-41B7-AB34-5BF7B92E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587C-6C0B-4E45-9D98-0E243EA7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6330-70B6-4D98-A2FB-7BD21843D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3607-03FF-460A-B85B-08AE212E4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3A5E-56F9-4F68-8997-48F95BFAC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A850-30E3-46E0-94F8-C4EF27D1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3FCE-37D0-4888-9B1A-B537BB1E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EDD8-7A00-4112-8F1F-770CF639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9915-69C5-4CCC-A44B-88D71BBA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5AA0-0346-4EBB-8FEC-895A1D4D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C221-348D-4C19-AC09-BA5ADB35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EA5B-68DC-4C7C-A5AF-42EF1751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11EB-F6F3-42D5-B5BF-06DD6634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F3E9-9D2E-4DE9-A555-4F8CD63B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24B1-5E97-4893-A068-E4A9ADBD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9752-9D7B-4DF0-B468-E4DA0ADCB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03B3-9E3F-4E8C-B055-B7389391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51B51-01C4-414D-A9F1-5D128916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62D29-6708-41F5-BB75-EA6B5070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443BD-8379-4B1A-9091-88A2BD4D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11B88-0430-4575-9667-9432B29B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9F40B-51C2-4457-AC98-23F9453C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F7DF-D75D-4C41-AD91-43F4B5D0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F7941-A3CA-4B41-A7AC-6AA6E8CD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F06FB-26FC-4464-804E-6E8B314F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C1D79-D772-4FB8-B64D-1D9541A3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A5DE8-5CEC-4621-B76C-FC87EBF4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407F3-0CC0-457C-A263-DFD96E94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963FB-834B-4DD5-8D83-5B64939D0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2D9F7-E39B-4D1B-BACB-1483EBE65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E9878-E78C-4249-9EF3-403C6892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AFD65-769A-463D-816A-E1C2C603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A1C54-2AE7-4B1B-B553-4AF52CFD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8EE5-CB62-4034-90C1-AD8D83E0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54BC1-A9D3-4B9E-BD8F-762767EE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74583-2666-4AAB-A3F3-F202C10A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57080-C202-4D4A-A2C2-17187108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393FE-E738-441C-9030-1ED1981E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0D61D-972E-4DC3-9A5D-107B7875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4DAF8-C084-4B6A-819C-4E077DF9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45024-629D-4FEB-A2D1-53D3B024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582BF-D7D0-494F-AAD8-505288E82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90A6D-2DC6-4672-8260-B90C7C459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B5B1-D0D7-4069-B125-3451B634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A86D-F65B-4D33-BE39-A00292A0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3A64-E8B3-4F78-A3C3-DDCA6BC5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5783-96DA-4A33-80E3-D37C4B7F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1071-1835-4280-AB57-4D45ABDB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C432-3AE5-4BA1-9D54-093403E2EC7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B540-AADE-4956-993B-50E47C0334E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EF53-26CB-4262-9DC2-8665F19E8E0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760B-B2DA-4E3A-9CAD-B6E5988C9C4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0f6fc6"/>
                </a:solidFill>
                <a:latin typeface="Calibri"/>
              </a:rPr>
              <a:t>EL SISTEMA MONETARIO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f6fc6"/>
                </a:solidFill>
                <a:latin typeface="Calibri"/>
              </a:rPr>
              <a:t>EL BANCO CENTRAL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Es una institución encargada de velar supervisar el sistema bancario y de regular la cantidad de dinero que hay en la economía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f6fc6"/>
                </a:solidFill>
                <a:latin typeface="Calibri"/>
              </a:rPr>
              <a:t>EL BANCO CENTRAL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575640" indent="-221040"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El Banco Central tiene dos misiones relacionadas entre sí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9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La primera es regular los bancos y garantizar la salud del sistema bancario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9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La segunda es controlar la cantidad de dinero que existe en la economía, llamada oferta monetaria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f6fc6"/>
                </a:solidFill>
                <a:latin typeface="Calibri"/>
              </a:rPr>
              <a:t>EL BANCO CENTRAL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613800" indent="-23580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4000" spc="-1" strike="noStrike">
                <a:solidFill>
                  <a:srgbClr val="0f6fc6"/>
                </a:solidFill>
                <a:latin typeface="Constantia"/>
              </a:rPr>
              <a:t>oferta monetaria </a:t>
            </a: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es la cantidad de dinero de que dispone la economía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4000" spc="-1" strike="noStrike">
                <a:solidFill>
                  <a:srgbClr val="0f6fc6"/>
                </a:solidFill>
                <a:latin typeface="Constantia"/>
              </a:rPr>
              <a:t>política monetaria </a:t>
            </a: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es la fijación de la oferta monetaria por parte de las autoridades monetarias en el Banco Central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OS BANCOS Y LA OFERTA MONETARI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Reservas</a:t>
            </a: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 son depósitos que los bancos han recibido, pero no han prestad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Sistema bancario de reservas fraccionarias</a:t>
            </a: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 es el sistema bancario en el que los bancos solo tienen como reservas una fracción de los depósitos y el resto lo prestan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OS BANCOS Y LA OFERTA MONETARI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El coeficiente de reservas fraccionarias</a:t>
            </a: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 es la fracción de los depósitos que tienen los bancos como reserva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 creación de dinero con un sistema bancario de reservas fraccionaria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Cuando un banco presta dinero del que tiene en servicios reservas, la oferta monetaria se increment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La oferta monetaria se ve afectada por las cantidades depositadas en los bancos y por las cantidades de dinero prestadas por los mismo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 creación de dinero con un sistema bancario de reservas fraccionaria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depósitos bancarios son considerados como un activo y un pasivo a la vez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Banco Central fija la cantidad mínima de reservas que deben tener los bancos, esto se llama </a:t>
            </a:r>
            <a:r>
              <a:rPr b="1" lang="es-CL" sz="2600" spc="-1" strike="noStrike">
                <a:solidFill>
                  <a:srgbClr val="0f6fc6"/>
                </a:solidFill>
                <a:latin typeface="Constantia"/>
              </a:rPr>
              <a:t>reservas obligatorias o encaje bancari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bancos además pueden tener reservas superiores al mínimo obligatorio, llamadas </a:t>
            </a:r>
            <a:r>
              <a:rPr b="1" lang="es-CL" sz="2600" spc="-1" strike="noStrike">
                <a:solidFill>
                  <a:srgbClr val="0f6fc6"/>
                </a:solidFill>
                <a:latin typeface="Constantia"/>
              </a:rPr>
              <a:t>exceso de reserv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réstamos son considerados como un activo para el banc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-228960" y="1599840"/>
            <a:ext cx="3505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588240" indent="-2260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Esta cuenta T muestra un banco qu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2264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onstantia"/>
              </a:rPr>
              <a:t>Acepta depósitos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2264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onstantia"/>
              </a:rPr>
              <a:t>Separa una parte para reservas,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2264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onstantia"/>
              </a:rPr>
              <a:t>Y presta el resto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2264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onstantia"/>
              </a:rPr>
              <a:t>Tiene un encaje bancario del 10%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3907440" y="1951200"/>
            <a:ext cx="5335560" cy="4449600"/>
            <a:chOff x="3907440" y="1951200"/>
            <a:chExt cx="5335560" cy="4449600"/>
          </a:xfrm>
        </p:grpSpPr>
        <p:sp>
          <p:nvSpPr>
            <p:cNvPr id="235" name="Line 5"/>
            <p:cNvSpPr/>
            <p:nvPr/>
          </p:nvSpPr>
          <p:spPr>
            <a:xfrm>
              <a:off x="3943080" y="3200400"/>
              <a:ext cx="4722840" cy="0"/>
            </a:xfrm>
            <a:prstGeom prst="line">
              <a:avLst/>
            </a:prstGeom>
            <a:ln w="7632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6"/>
            <p:cNvSpPr/>
            <p:nvPr/>
          </p:nvSpPr>
          <p:spPr>
            <a:xfrm>
              <a:off x="6227640" y="3278160"/>
              <a:ext cx="0" cy="3122640"/>
            </a:xfrm>
            <a:prstGeom prst="line">
              <a:avLst/>
            </a:prstGeom>
            <a:ln w="5076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7"/>
            <p:cNvSpPr/>
            <p:nvPr/>
          </p:nvSpPr>
          <p:spPr>
            <a:xfrm>
              <a:off x="4406400" y="2604960"/>
              <a:ext cx="1513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dd9"/>
                  </a:solidFill>
                  <a:latin typeface="Constantia"/>
                </a:rPr>
                <a:t>Activ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8"/>
            <p:cNvSpPr/>
            <p:nvPr/>
          </p:nvSpPr>
          <p:spPr>
            <a:xfrm>
              <a:off x="6470640" y="2604960"/>
              <a:ext cx="1530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dd9"/>
                  </a:solidFill>
                  <a:latin typeface="Constantia"/>
                </a:rPr>
                <a:t>Pasiv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9"/>
            <p:cNvSpPr/>
            <p:nvPr/>
          </p:nvSpPr>
          <p:spPr>
            <a:xfrm>
              <a:off x="4303080" y="1951200"/>
              <a:ext cx="4939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f6fc6"/>
                  </a:solidFill>
                  <a:latin typeface="Constantia"/>
                </a:rPr>
                <a:t>Primer Banco Naciona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0"/>
            <p:cNvSpPr/>
            <p:nvPr/>
          </p:nvSpPr>
          <p:spPr>
            <a:xfrm>
              <a:off x="3925800" y="3489480"/>
              <a:ext cx="1934640" cy="14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Reserv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$10.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Préstam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$90.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1"/>
            <p:cNvSpPr/>
            <p:nvPr/>
          </p:nvSpPr>
          <p:spPr>
            <a:xfrm>
              <a:off x="6292440" y="3489480"/>
              <a:ext cx="2062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Depósi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$100.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2"/>
            <p:cNvSpPr/>
            <p:nvPr/>
          </p:nvSpPr>
          <p:spPr>
            <a:xfrm>
              <a:off x="4552920" y="5486400"/>
              <a:ext cx="1598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3"/>
            <p:cNvSpPr/>
            <p:nvPr/>
          </p:nvSpPr>
          <p:spPr>
            <a:xfrm>
              <a:off x="3907440" y="5546880"/>
              <a:ext cx="2062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Total Ac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$100.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4"/>
            <p:cNvSpPr/>
            <p:nvPr/>
          </p:nvSpPr>
          <p:spPr>
            <a:xfrm>
              <a:off x="6345720" y="5546880"/>
              <a:ext cx="2062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Total Pas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$100.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5"/>
            <p:cNvSpPr/>
            <p:nvPr/>
          </p:nvSpPr>
          <p:spPr>
            <a:xfrm>
              <a:off x="6914880" y="5486400"/>
              <a:ext cx="1598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 creación de dinero con un sistema bancario de reservas fraccionaria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Cuando un banco presta dinero, ese dinero es generalmente depositado en otro banc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Lo anterior crea  más depósitos y más reservas para prestar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Cuando un banco realiza un préstamo de sus reservas, se incrementa la oferta monetari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El multiplicador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¿Cuanto dinero puede ser creado en una economía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multiplicador del dinero </a:t>
            </a: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es la cantidad de dinero que genera el sistema bancario con cada peso de reserv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EL SIGNIFICADO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3600" spc="-1" strike="noStrike">
                <a:solidFill>
                  <a:srgbClr val="0f6fc6"/>
                </a:solidFill>
                <a:latin typeface="Constantia"/>
              </a:rPr>
              <a:t>dinero</a:t>
            </a: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 es el conjunto de activos de la economía que utilizan los individuos normalmente para comprar bienes y servicios a otras persona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2"/>
          <p:cNvSpPr/>
          <p:nvPr/>
        </p:nvSpPr>
        <p:spPr>
          <a:xfrm>
            <a:off x="4724280" y="1752480"/>
            <a:ext cx="4191120" cy="4191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>
            <a:off x="533520" y="1752480"/>
            <a:ext cx="4038480" cy="4191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f6fc6"/>
                </a:solidFill>
                <a:latin typeface="Calibri"/>
              </a:rPr>
              <a:t>EL MULTIPLICADOR DEL DINER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53" name="Group 4"/>
          <p:cNvGrpSpPr/>
          <p:nvPr/>
        </p:nvGrpSpPr>
        <p:grpSpPr>
          <a:xfrm>
            <a:off x="457200" y="1752480"/>
            <a:ext cx="4359960" cy="4191120"/>
            <a:chOff x="457200" y="1752480"/>
            <a:chExt cx="4359960" cy="4191120"/>
          </a:xfrm>
        </p:grpSpPr>
        <p:sp>
          <p:nvSpPr>
            <p:cNvPr id="254" name="Line 5"/>
            <p:cNvSpPr/>
            <p:nvPr/>
          </p:nvSpPr>
          <p:spPr>
            <a:xfrm>
              <a:off x="598680" y="2909880"/>
              <a:ext cx="3970080" cy="0"/>
            </a:xfrm>
            <a:prstGeom prst="line">
              <a:avLst/>
            </a:prstGeom>
            <a:ln w="2556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6"/>
            <p:cNvSpPr/>
            <p:nvPr/>
          </p:nvSpPr>
          <p:spPr>
            <a:xfrm>
              <a:off x="2517840" y="2982960"/>
              <a:ext cx="0" cy="2960640"/>
            </a:xfrm>
            <a:prstGeom prst="line">
              <a:avLst/>
            </a:prstGeom>
            <a:ln w="25560">
              <a:solidFill>
                <a:srgbClr val="04617b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7"/>
            <p:cNvSpPr/>
            <p:nvPr/>
          </p:nvSpPr>
          <p:spPr>
            <a:xfrm>
              <a:off x="983520" y="2386080"/>
              <a:ext cx="1041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dd9"/>
                  </a:solidFill>
                  <a:latin typeface="Constantia"/>
                </a:rPr>
                <a:t>Ac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8"/>
            <p:cNvSpPr/>
            <p:nvPr/>
          </p:nvSpPr>
          <p:spPr>
            <a:xfrm>
              <a:off x="2719080" y="2386080"/>
              <a:ext cx="1050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dd9"/>
                  </a:solidFill>
                  <a:latin typeface="Constantia"/>
                </a:rPr>
                <a:t>Pas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9"/>
            <p:cNvSpPr/>
            <p:nvPr/>
          </p:nvSpPr>
          <p:spPr>
            <a:xfrm>
              <a:off x="476280" y="1752480"/>
              <a:ext cx="434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f6fc6"/>
                  </a:solidFill>
                  <a:latin typeface="Constantia"/>
                </a:rPr>
                <a:t>Primer Banco N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0"/>
            <p:cNvSpPr/>
            <p:nvPr/>
          </p:nvSpPr>
          <p:spPr>
            <a:xfrm>
              <a:off x="568080" y="3224160"/>
              <a:ext cx="2024640" cy="16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Reserv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$10.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Préstam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$90.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1"/>
            <p:cNvSpPr/>
            <p:nvPr/>
          </p:nvSpPr>
          <p:spPr>
            <a:xfrm>
              <a:off x="2535840" y="3224160"/>
              <a:ext cx="21661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Depósi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$100.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2"/>
            <p:cNvSpPr/>
            <p:nvPr/>
          </p:nvSpPr>
          <p:spPr>
            <a:xfrm>
              <a:off x="1111320" y="5076720"/>
              <a:ext cx="1344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3"/>
            <p:cNvSpPr/>
            <p:nvPr/>
          </p:nvSpPr>
          <p:spPr>
            <a:xfrm>
              <a:off x="457200" y="5175360"/>
              <a:ext cx="22892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Total Activ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$100.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4"/>
            <p:cNvSpPr/>
            <p:nvPr/>
          </p:nvSpPr>
          <p:spPr>
            <a:xfrm>
              <a:off x="2514600" y="5175360"/>
              <a:ext cx="22827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Total Pasiv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$100.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5"/>
            <p:cNvSpPr/>
            <p:nvPr/>
          </p:nvSpPr>
          <p:spPr>
            <a:xfrm>
              <a:off x="3095640" y="5076720"/>
              <a:ext cx="1346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Line 17"/>
          <p:cNvSpPr/>
          <p:nvPr/>
        </p:nvSpPr>
        <p:spPr>
          <a:xfrm>
            <a:off x="4745160" y="2930400"/>
            <a:ext cx="4029120" cy="0"/>
          </a:xfrm>
          <a:prstGeom prst="line">
            <a:avLst/>
          </a:prstGeom>
          <a:ln w="255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8"/>
          <p:cNvSpPr/>
          <p:nvPr/>
        </p:nvSpPr>
        <p:spPr>
          <a:xfrm flipH="1">
            <a:off x="6689520" y="3005280"/>
            <a:ext cx="4680" cy="2938320"/>
          </a:xfrm>
          <a:prstGeom prst="line">
            <a:avLst/>
          </a:prstGeom>
          <a:ln w="25560">
            <a:solidFill>
              <a:srgbClr val="04617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9"/>
          <p:cNvSpPr/>
          <p:nvPr/>
        </p:nvSpPr>
        <p:spPr>
          <a:xfrm>
            <a:off x="5141160" y="2398680"/>
            <a:ext cx="104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dd9"/>
                </a:solidFill>
                <a:latin typeface="Constantia"/>
              </a:rPr>
              <a:t>A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0"/>
          <p:cNvSpPr/>
          <p:nvPr/>
        </p:nvSpPr>
        <p:spPr>
          <a:xfrm>
            <a:off x="6903360" y="2398680"/>
            <a:ext cx="105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dd9"/>
                </a:solidFill>
                <a:latin typeface="Constantia"/>
              </a:rPr>
              <a:t>Pas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1"/>
          <p:cNvSpPr/>
          <p:nvPr/>
        </p:nvSpPr>
        <p:spPr>
          <a:xfrm>
            <a:off x="4648320" y="1765440"/>
            <a:ext cx="4470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6fc6"/>
                </a:solidFill>
                <a:latin typeface="Constantia"/>
              </a:rPr>
              <a:t>Segundo Banco 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2"/>
          <p:cNvSpPr/>
          <p:nvPr/>
        </p:nvSpPr>
        <p:spPr>
          <a:xfrm>
            <a:off x="4693320" y="3251160"/>
            <a:ext cx="202464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Reser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$9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Prést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$8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3"/>
          <p:cNvSpPr/>
          <p:nvPr/>
        </p:nvSpPr>
        <p:spPr>
          <a:xfrm>
            <a:off x="6735600" y="3251160"/>
            <a:ext cx="2024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Depó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$9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4"/>
          <p:cNvSpPr/>
          <p:nvPr/>
        </p:nvSpPr>
        <p:spPr>
          <a:xfrm>
            <a:off x="5264280" y="5137200"/>
            <a:ext cx="1365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5"/>
          <p:cNvSpPr/>
          <p:nvPr/>
        </p:nvSpPr>
        <p:spPr>
          <a:xfrm>
            <a:off x="4721040" y="5238720"/>
            <a:ext cx="2024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Total Ac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$9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6"/>
          <p:cNvSpPr/>
          <p:nvPr/>
        </p:nvSpPr>
        <p:spPr>
          <a:xfrm>
            <a:off x="6829920" y="5238720"/>
            <a:ext cx="2024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Total Pas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$9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7"/>
          <p:cNvSpPr/>
          <p:nvPr/>
        </p:nvSpPr>
        <p:spPr>
          <a:xfrm>
            <a:off x="7281720" y="5137200"/>
            <a:ext cx="1362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9"/>
          <p:cNvSpPr/>
          <p:nvPr/>
        </p:nvSpPr>
        <p:spPr>
          <a:xfrm>
            <a:off x="1523880" y="6019920"/>
            <a:ext cx="5883480" cy="106740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f6fc6"/>
                </a:solidFill>
                <a:latin typeface="Constantia"/>
              </a:rPr>
              <a:t>Oferta Monetaria= $190.000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0"/>
          <p:cNvSpPr/>
          <p:nvPr/>
        </p:nvSpPr>
        <p:spPr>
          <a:xfrm flipV="1">
            <a:off x="2514600" y="3719520"/>
            <a:ext cx="5273640" cy="852480"/>
          </a:xfrm>
          <a:prstGeom prst="line">
            <a:avLst/>
          </a:prstGeom>
          <a:ln w="50760">
            <a:solidFill>
              <a:srgbClr val="b0001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El multiplicador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El multiplicador del dinero es la inversa del coeficiente de reservas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M = 1/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La cantidad de dinero que crean los bancos depende del coeficiente de reserva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Con un encaje,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 R = 20%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 1/5,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el multiplicador del dinero es 5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2091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20916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2091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2091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20916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2091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Instrumentos de control monetario del Banco Central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94720" indent="-2286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El Banco Central tiene tres instrumentos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99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Operaciones de mercado abiert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99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Reservas obligatorias o encaje bancari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99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La tasa de descuent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Instrumentos de control monetario del Banco Central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lvl="1" marL="708120" indent="-400680">
              <a:spcBef>
                <a:spcPts val="9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f6fc6"/>
                </a:solidFill>
                <a:latin typeface="Constantia"/>
              </a:rPr>
              <a:t>Operaciones de mercado abierto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El Banco Central realiza operaciones de mercado abierto cuando vende o compra bonos del Estado al públic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925920" indent="-16308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ara incrementar la oferta monetaria, el Banco Central compra bonos a los particular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925920" indent="-16308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ara disminuir la oferta monetaria, el Banco Central vende bonos a los particular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925920" indent="-163080">
              <a:spcBef>
                <a:spcPts val="6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Instrumentos de control monetario del Banco Central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lvl="1" marL="795240" indent="-519840">
              <a:spcBef>
                <a:spcPts val="901"/>
              </a:spcBef>
              <a:buClr>
                <a:srgbClr val="0f6fc6"/>
              </a:buClr>
              <a:buSzPct val="85000"/>
              <a:buFont typeface="Constanti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f6fc6"/>
                </a:solidFill>
                <a:latin typeface="Constantia"/>
              </a:rPr>
              <a:t>Reservas obligatorias o encaje bancario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3" marL="830880" indent="-146520">
              <a:spcBef>
                <a:spcPts val="7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Cantidad mínima de reservas que deben tener los bancos para respaldar los depósito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830880" indent="-146520">
              <a:spcBef>
                <a:spcPts val="7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Incrementar el encaje bancario hace disminuir la oferta monetari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830880" indent="-146520">
              <a:spcBef>
                <a:spcPts val="7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Disminuir el encaje bancario hace aumentar la oferta monetari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830880" indent="-146520">
              <a:spcBef>
                <a:spcPts val="7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830880" indent="-146520">
              <a:spcBef>
                <a:spcPts val="6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Instrumentos de control monetario del Banco Central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lvl="1" marL="749880" indent="-489960">
              <a:spcBef>
                <a:spcPts val="901"/>
              </a:spcBef>
              <a:buClr>
                <a:srgbClr val="0f6fc6"/>
              </a:buClr>
              <a:buSzPct val="85000"/>
              <a:buFont typeface="Constanti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f6fc6"/>
                </a:solidFill>
                <a:latin typeface="Constantia"/>
              </a:rPr>
              <a:t>Tasa de descuento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3" marL="783360" indent="-138240">
              <a:spcBef>
                <a:spcPts val="7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Tasa de interés de los préstamos que concede el Banco Central a los Bancos comerciante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783360" indent="-138240">
              <a:spcBef>
                <a:spcPts val="7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Incrementar la tasa de descuento hace disminuir la oferta monetari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783360" indent="-138240">
              <a:spcBef>
                <a:spcPts val="7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Disminuir la tasa de descuento hace aumentar la oferta monetari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783360" indent="-138240">
              <a:spcBef>
                <a:spcPts val="7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783360" indent="-138240">
              <a:spcBef>
                <a:spcPts val="6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Problemas que plantea el control de la oferta monetari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lvl="1" marL="829440" indent="-54180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El Banco Central no puede controlar con precisión la oferta monetari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El Banco Central debe lidiar con dos problemas que surgen debido a que la oferta monetaria es creada por el sistema bancario de reservas fraccionaria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047240" indent="-333720">
              <a:spcBef>
                <a:spcPts val="601"/>
              </a:spcBef>
              <a:buClr>
                <a:srgbClr val="04617b"/>
              </a:buClr>
              <a:buSzPct val="6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Banco Central no controla la cantidad de dinero que los hogares deciden tener depositado en los Banc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047240" indent="-333720">
              <a:spcBef>
                <a:spcPts val="601"/>
              </a:spcBef>
              <a:buClr>
                <a:srgbClr val="04617b"/>
              </a:buClr>
              <a:buSzPct val="6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Banco Central no controla la cantidad de dinero que deciden prestar los banc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047240" indent="-333720">
              <a:spcBef>
                <a:spcPts val="6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S FUNCIONES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El dinero desempeña </a:t>
            </a:r>
            <a:r>
              <a:rPr b="0" lang="es-CL" sz="3600" spc="-1" strike="noStrike" u="sng">
                <a:solidFill>
                  <a:srgbClr val="000000"/>
                </a:solidFill>
                <a:uFillTx/>
                <a:latin typeface="Constantia"/>
              </a:rPr>
              <a:t>tres funciones </a:t>
            </a: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en la economía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9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onstantia"/>
              </a:rPr>
              <a:t>Medio de cambio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9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onstantia"/>
              </a:rPr>
              <a:t>Unidad de cuenta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9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onstantia"/>
              </a:rPr>
              <a:t>Depósito de valo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S FUNCIONES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Medio de cambio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Un </a:t>
            </a: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medio de cambio </a:t>
            </a: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es un artículo que los compradores entregan a los vendedores cuando quieren comprar bienes y servicio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Un medio de cambio es cualquier cosa que es generalmente aceptada como pag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S FUNCIONES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Unidad de cuenta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Unidad de cuenta es un patrón que utilizan los individuos para marcar los precios y registrar las deudas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Depósito de valor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Depósito de valor es un artículo que pueden utilizar los individuos para transferir poder adquisitivo del presente al futur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S FUNCIONES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Liquidez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Facilidad con que puede convertirse un activo en medio de cambio en la economía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OS TIPOS DE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Dinero- mercancía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Dinero que adopta la forma de una mercancía que tiene un valor intrínseco. Por ejemplo: Plata, oro, cigarrillos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Dinero fiduciario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Dinero que carece de valor intrínseco y que se utiliza como dinero por decreto gubernamental. Por ejemplo: Monedas, billetes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f6fc6"/>
                </a:solidFill>
                <a:latin typeface="Calibri"/>
              </a:rPr>
              <a:t>EL DINERO EN LAS ECONOMÍAS MODERNA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Efectivo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Son los billetes y las monedas que están en manos del público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Depósitos a la vista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Son los saldos de las cuentas bancarias a los que los depositantes tienen acceso a la vista extendiendo un cheque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f6fc6"/>
                </a:solidFill>
                <a:latin typeface="Calibri"/>
              </a:rPr>
              <a:t>CASO PRÁCTICO: ¿DÓNDE ESTÁ TODO EL EFECTIVO DE EEUU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n 2001 había alrededor de 580.000 millones de dólares de efectivo en circula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te calculo implica que el adulto promedio en EEUU tenía alrededor de US 2.734 en efectiv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ién tiene todo este efectiv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adie lo sabe a ciencia cierta, pero se cree que una gran parte se encuentra en otros países y la otra parte en manos de narcotraficantes, evasores de impuestos y otros delincuen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15:24:34Z</dcterms:created>
  <dc:creator>Andrea</dc:creator>
  <dc:description/>
  <dc:language>en-US</dc:language>
  <cp:lastModifiedBy> </cp:lastModifiedBy>
  <dcterms:modified xsi:type="dcterms:W3CDTF">2009-11-04T02:38:49Z</dcterms:modified>
  <cp:revision>51</cp:revision>
  <dc:subject/>
  <dc:title>Contenidos del dia</dc:title>
</cp:coreProperties>
</file>