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B357-7F67-4492-8E52-7FCBEF9DB8B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110-E7C0-4071-8F85-24DDA769EA1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5AD-CEEF-4147-8808-A2522C07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659-7496-4CFD-862F-0E352CE0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FCC-3ABE-49EF-B634-00B64D2F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568-9C44-4E54-AB71-451E425A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CA68-7AAE-4E18-8CE6-EE946C1A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0859-46E3-4806-9AAF-AD9B8CBB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7B28-F881-4FA8-B7BB-AEC9174E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EDB3-9607-499E-95B8-F7080E72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EAE7-478F-4668-BA2D-5CD34E29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375B-6A1B-485F-8FD5-D59FE012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795E-0475-4C74-B168-D6626110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F72-BE7C-49F9-9BCC-97CA80C9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4182-1044-4809-AE1D-4D5071E1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860E-4BB2-46E8-BDDA-1993B8B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5A15-9B23-4A57-8293-FB3C6B11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D900-5410-4221-ADEB-C07FB39A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FCF6-17C4-42F6-A37E-FDB61EE7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E2BB-3B35-4849-850A-E4760633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211F-0A3A-4269-A12E-83D41451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2D5F-7882-453D-A9A4-54BEE245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9609-C3A7-4D46-9EDD-8C2C3F5D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5123-E950-40BA-8324-FC17DBD3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614-FBDD-4A3B-BA17-094E8A1A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C731-5BCD-4566-83A3-4CE11F5C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FCD8-40AD-468D-A507-F170D7E3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00387-1E5F-4943-B73C-71FDC2F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4849-4034-421D-BA15-278C8C34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0656-5DF2-4CF1-AC37-9891BECD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838E-BE1F-4289-9102-4138A358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6F7FE-8DA1-4ED9-B668-FC89FF5C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D3313-8EAE-4D83-A483-7FCDA4E8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93098-ECD6-419D-8EBD-2E521D9D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425B-64E0-4FF2-A5B2-B6478C08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F42-46DA-4ECB-975D-BBFBAA42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4FD7-0FB8-4B2D-BE7F-1F1211F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B4D4-9362-499D-A130-3A74F233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B1B2-F327-430E-AAC7-7F2DA98B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FA054-6986-400C-A115-B77CA24B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CD1C0-E5FE-4027-9D5E-B8DA67ED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DFDF-1D75-43DE-A5F9-CBDB30A0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8136-4512-4223-AC76-BC939E38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80081-7D82-4E61-952C-31DB29BA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F9340-BD8C-4369-80D5-82C3E3B2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96F-4C6C-4130-93DC-4EEAA323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D02-8EB1-4391-9834-938000B0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E5F-7681-444A-B390-7D6B2431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81B-483D-4D42-BC91-11BC23F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96C-8AA9-4276-8E1A-769ED3F0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0615-56A5-4A23-8E4B-D95A7E9C6DC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2B97-3946-4E65-8A03-CD617FC0351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32B4-62F6-46A4-B04D-D74FD3F73CD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1B38-EBE0-4EE4-90D5-8B5D26F33C2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f6fc6"/>
                </a:solidFill>
                <a:latin typeface="Calibri"/>
              </a:rPr>
              <a:t>EL SISTEMA MONETARI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una institución encargada de velar supervisar el sistema bancario y de regular la cantidad de dinero que hay en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-22104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Banco Central tiene dos misiones relacionadas entre sí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primera es regular los bancos y garantizar la salud del sistema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segunda es controlar la cantidad de dinero que existe en la economía, llamada oferta monetaria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ofert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cantidad de dinero de que dispone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polític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fijación de la oferta monetaria por parte de las autoridades monetarias en el Banco Centra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Reserv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son depósitos que los bancos han recibido, pero no han prestad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Sistema bancario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el sistema bancario en el que los bancos solo tienen como reservas una fracción de los depósitos y el resto lo presta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l coeficiente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la fracción de los depósitos que tienen los bancos como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 del que tiene en servicios reservas, la oferta monetaria se increment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oferta monetaria se ve afectada por las cantidades depositadas en los bancos y por las cantidades de dinero prestadas por los mism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depósitos bancarios son considerados como un activo y un pasivo a la v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anco Central fija la cantidad mínima de reservas que deben tener los bancos, esto se llama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ancos además pueden tener reservas superiores al mínimo obligatorio, llamadas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exceso de reserv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réstamos son considerados como un activo para el ban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228960" y="1599840"/>
            <a:ext cx="3505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sta cuenta T muestra un banco qu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Acepta depósito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Separa una parte para reservas,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Y presta el resto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Tiene un encaje bancario del 10%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3907440" y="1951200"/>
            <a:ext cx="5335560" cy="4449600"/>
            <a:chOff x="3907440" y="1951200"/>
            <a:chExt cx="5335560" cy="4449600"/>
          </a:xfrm>
        </p:grpSpPr>
        <p:sp>
          <p:nvSpPr>
            <p:cNvPr id="235" name="Line 5"/>
            <p:cNvSpPr/>
            <p:nvPr/>
          </p:nvSpPr>
          <p:spPr>
            <a:xfrm>
              <a:off x="3943080" y="3200400"/>
              <a:ext cx="4722840" cy="0"/>
            </a:xfrm>
            <a:prstGeom prst="line">
              <a:avLst/>
            </a:prstGeom>
            <a:ln w="7632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6227640" y="3278160"/>
              <a:ext cx="0" cy="3122640"/>
            </a:xfrm>
            <a:prstGeom prst="line">
              <a:avLst/>
            </a:prstGeom>
            <a:ln w="507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4406400" y="2604960"/>
              <a:ext cx="1513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6470640" y="2604960"/>
              <a:ext cx="153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4303080" y="1951200"/>
              <a:ext cx="4939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3925800" y="3489480"/>
              <a:ext cx="193464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6292440" y="34894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>
              <a:off x="4552920" y="5486400"/>
              <a:ext cx="1598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390744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634572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5"/>
            <p:cNvSpPr/>
            <p:nvPr/>
          </p:nvSpPr>
          <p:spPr>
            <a:xfrm>
              <a:off x="6914880" y="5486400"/>
              <a:ext cx="1598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, ese dinero es generalmente depositado en otro banc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o anterior crea  más depósitos y más reservas para prestar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realiza un préstamo de sus reservas, se incrementa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¿Cuanto dinero puede ser creado en una economía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ultiplicador del diner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la cantidad de dinero que genera el sistema bancario con cada peso de reserv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SIGNIFICADO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dinero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 es el conjunto de activos de la economía que utilizan los individuos normalmente para comprar bienes y servicios a otras persona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2"/>
          <p:cNvSpPr/>
          <p:nvPr/>
        </p:nvSpPr>
        <p:spPr>
          <a:xfrm>
            <a:off x="4724280" y="1752480"/>
            <a:ext cx="419112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533520" y="1752480"/>
            <a:ext cx="403848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" y="1752480"/>
            <a:ext cx="4359960" cy="4191120"/>
            <a:chOff x="457200" y="1752480"/>
            <a:chExt cx="4359960" cy="4191120"/>
          </a:xfrm>
        </p:grpSpPr>
        <p:sp>
          <p:nvSpPr>
            <p:cNvPr id="254" name="Line 5"/>
            <p:cNvSpPr/>
            <p:nvPr/>
          </p:nvSpPr>
          <p:spPr>
            <a:xfrm>
              <a:off x="598680" y="2909880"/>
              <a:ext cx="3970080" cy="0"/>
            </a:xfrm>
            <a:prstGeom prst="line">
              <a:avLst/>
            </a:prstGeom>
            <a:ln w="255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>
              <a:off x="2517840" y="2982960"/>
              <a:ext cx="0" cy="2960640"/>
            </a:xfrm>
            <a:prstGeom prst="line">
              <a:avLst/>
            </a:prstGeom>
            <a:ln w="25560">
              <a:solidFill>
                <a:srgbClr val="04617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983520" y="2386080"/>
              <a:ext cx="1041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719080" y="2386080"/>
              <a:ext cx="105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476280" y="1752480"/>
              <a:ext cx="434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568080" y="3224160"/>
              <a:ext cx="202464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535840" y="3224160"/>
              <a:ext cx="2166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1111320" y="5076720"/>
              <a:ext cx="134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457200" y="5175360"/>
              <a:ext cx="2289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2514600" y="5175360"/>
              <a:ext cx="2282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3095640" y="5076720"/>
              <a:ext cx="134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Line 17"/>
          <p:cNvSpPr/>
          <p:nvPr/>
        </p:nvSpPr>
        <p:spPr>
          <a:xfrm>
            <a:off x="4745160" y="2930400"/>
            <a:ext cx="4029120" cy="0"/>
          </a:xfrm>
          <a:prstGeom prst="line">
            <a:avLst/>
          </a:prstGeom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6689520" y="3005280"/>
            <a:ext cx="4680" cy="2938320"/>
          </a:xfrm>
          <a:prstGeom prst="line">
            <a:avLst/>
          </a:prstGeom>
          <a:ln w="25560">
            <a:solidFill>
              <a:srgbClr val="04617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5141160" y="2398680"/>
            <a:ext cx="104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6903360" y="239868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4648320" y="1765440"/>
            <a:ext cx="4470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Constantia"/>
              </a:rPr>
              <a:t>Segundo Banc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693320" y="3251160"/>
            <a:ext cx="2024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Reser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8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6735600" y="325116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5264280" y="5137200"/>
            <a:ext cx="136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472104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682992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P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7281720" y="5137200"/>
            <a:ext cx="136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1523880" y="6019920"/>
            <a:ext cx="5883480" cy="106740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6fc6"/>
                </a:solidFill>
                <a:latin typeface="Constantia"/>
              </a:rPr>
              <a:t>Oferta Monetaria= $190.00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0"/>
          <p:cNvSpPr/>
          <p:nvPr/>
        </p:nvSpPr>
        <p:spPr>
          <a:xfrm flipV="1">
            <a:off x="2514600" y="3719520"/>
            <a:ext cx="5273640" cy="852480"/>
          </a:xfrm>
          <a:prstGeom prst="line">
            <a:avLst/>
          </a:prstGeom>
          <a:ln w="50760">
            <a:solidFill>
              <a:srgbClr val="b0001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multiplicador del dinero es la inversa del coeficiente de reserva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M = 1/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cantidad de dinero que crean los bancos depende del coeficiente de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on un encaje,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R = 20%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1/5,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l multiplicador del dinero es 5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Banco Central tiene tres instrumento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Operaciones de mercado abier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Reservas obligatorias o encaje bancari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tasa de descuen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708120" indent="-40068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Operaciones de mercado abier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realiza operaciones de mercado abierto cuando vende o compra bonos del Estado al públ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incrementar la oferta monetaria, el Banco Central compra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disminuir la oferta monetaria, el Banco Central vende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795240" indent="-51984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Cantidad mínima de reservas que deben tener los bancos para respaldar los depósit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ncrementar el encaje bancario hace disminui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Disminuir el encaje bancario hace aumenta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1" marL="749880" indent="-48996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Tasa de descuen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Tasa de interés de los préstamos que concede el Banco Central a los Bancos comerciant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Incrementar la tasa de descuento hace disminui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isminuir la tasa de descuento hace aumenta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Problemas que plantea el control de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no puede controlar con precisión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debe lidiar con dos problemas que surgen debido a que la oferta monetaria es creada por el sistema bancario de reservas fraccionaria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los hogares deciden tener depositado en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deciden prestar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dinero desempeña </a:t>
            </a:r>
            <a:r>
              <a:rPr b="0" lang="es-CL" sz="3600" spc="-1" strike="noStrike" u="sng">
                <a:solidFill>
                  <a:srgbClr val="000000"/>
                </a:solidFill>
                <a:uFillTx/>
                <a:latin typeface="Constantia"/>
              </a:rPr>
              <a:t>tres funciones 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n la economía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Medio de cambi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Unidad de cuent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Depósito de valo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un artículo que los compradores entregan a los vendedores cuando quieren comprar bienes y servici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medio de cambio es cualquier cosa que es generalmente aceptada como pag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Unidad de cuen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Unidad de cuenta es un patrón que utilizan los individuos para marcar los precios y registrar las deuda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 de valor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epósito de valor es un artículo que pueden utilizar los individuos para transferir poder adquisitivo del presente al futur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Liquidez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Facilidad con que puede convertirse un activo en medio de cambio en la economía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TIPOS DE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- mercancí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adopta la forma de una mercancía que tiene un valor intrínseco. Por ejemplo: Plata, oro, cigarrillo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 fiduciar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carece de valor intrínseco y que se utiliza como dinero por decreto gubernamental. Por ejemplo: Monedas, billete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EL DINERO EN LAS ECONOMÍAS MODERN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fectiv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billetes y las monedas que están en manos del público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s a la vis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saldos de las cuentas bancarias a los que los depositantes tienen acceso a la vista extendiendo un chequ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CASO PRÁCTICO: ¿DÓNDE ESTÁ TODO EL EFECTIVO DE EEUU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2001 había alrededor de 580.000 millones de dólares de efectivo en circul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e calculo implica que el adulto promedio en EEUU tenía alrededor de US 2.734 en efectiv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ién tiene todo este efectiv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adie lo sabe a ciencia cierta, pero se cree que una gran parte se encuentra en otros países y la otra parte en manos de narcotraficantes, evasores de impuestos y otros delincu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5:24:34Z</dcterms:created>
  <dc:creator>Andrea</dc:creator>
  <dc:description/>
  <dc:language>en-US</dc:language>
  <cp:lastModifiedBy> </cp:lastModifiedBy>
  <dcterms:modified xsi:type="dcterms:W3CDTF">2009-11-04T02:38:49Z</dcterms:modified>
  <cp:revision>51</cp:revision>
  <dc:subject/>
  <dc:title>Contenidos del dia</dc:title>
</cp:coreProperties>
</file>