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BA19-3B9C-45D3-A9B9-374F42417DE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7FB5-88ED-4B2E-93C2-5C55CE489A52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70E-7045-466E-A109-034E93E3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A6E-E2B3-475D-92A7-F2A7C5E6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396-F3FE-4D20-BC53-F5FE7360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719B-48DD-49E9-928B-964D9EA6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AE20-5D87-49C0-975A-F7F49CF8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C1A8-287D-4B00-9E69-764D2056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584C-1EE7-41FA-B7D6-61AAB8F6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C0A7-18AA-4B78-B557-C4C0D029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3227-4746-4F0A-AB02-A98B4138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2F72-41E1-481F-A756-ED4E2145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76E5-90D7-44CB-B0CA-A84B5AAB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A63-A64D-4272-9D84-009689DC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EEB-F537-4535-A2F7-C33E3F9B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82C2-6017-45CA-B7F8-BBE0AC0D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2293-7D5D-4C52-BC2C-5675FDF8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E48D-A7D6-41A9-8248-8063F991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A5A9-9076-4FFA-8BF0-FBC74C236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3121-A100-4DE6-BB3E-35880F7C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8B835-1D99-43C1-9554-350A1E0C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16BFB-4B87-405B-B767-67F4ADC2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5289-AD4C-435E-85E4-3278F4AA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7DE0-8F4B-4CF0-93E9-B1A27621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71E-2EDF-40D5-B105-2B0ABACB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A92FE-2C91-41BB-9732-14CE979E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08972-D6C7-40D9-BFAD-8DF7FDB8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2696-0CA6-416A-9A40-639D8B3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C85FC-94C1-47F1-A306-2E48C287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EC22D-C07F-4B3B-BAAA-4BDADCE9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306D-78FD-45A9-99C5-E58A8B4D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AA93D-28B8-4334-8F3D-8D569FA5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5FC18-4409-45E1-B3AC-AD745A23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0C21-2604-4357-B551-C8E032A3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95816-04DD-47AF-A98F-80363D52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B47B-D161-4B48-960D-9CCDD9F6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ABFB-16E7-4DB5-AD20-EC99B179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31DA-209A-4C70-97D2-AF9B50FD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A1149-5F6F-4393-A208-5D4FEED4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BBDE-E4BA-4E6D-8E21-329CC6C7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3796-A7C8-4A06-A8E6-4E39576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2486C-846F-4A9F-BF52-4163D3B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F3373-EACE-4E78-A0D1-0439EACB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BAA13-CC1F-4B88-9EE6-9448F08B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D92FF-4FBA-4029-8F5D-C6C17DB9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9A17-616B-4B60-8FFB-605A8377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A696-10FB-4442-B3C2-70217E72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462-DF42-487A-9CBF-D1083BFD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8B31-AFCF-4E9C-AB95-2149DA43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B10-C629-4432-BABE-F5746DB7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41B4-AB72-4B7B-9017-1466FDCF487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F0EC-7626-4444-9FD5-739B2C2E80C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684-CCD2-4C61-85AD-4DB0C211475F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7249-014E-4117-A1F6-8F18075206D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f6fc6"/>
                </a:solidFill>
                <a:latin typeface="Calibri"/>
              </a:rPr>
              <a:t>EL SISTEMA MONETARIO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una institución encargada de velar supervisar el sistema bancario y de regular la cantidad de dinero que hay en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2104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Banco Central tiene dos misiones relacionadas entre sí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primera es regular los bancos y garantizar la salud del sistema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La segunda es controlar la cantidad de dinero que existe en la economía, llamada oferta monetaria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22960" indent="-22140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f6fc6"/>
                </a:solidFill>
                <a:latin typeface="Calibri"/>
              </a:rPr>
              <a:t>EL BANCO CENTRAL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ofert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cantidad de dinero de que dispone la economí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4000" spc="-1" strike="noStrike">
                <a:solidFill>
                  <a:srgbClr val="0f6fc6"/>
                </a:solidFill>
                <a:latin typeface="Constantia"/>
              </a:rPr>
              <a:t>política monetaria </a:t>
            </a:r>
            <a:r>
              <a:rPr b="0" lang="es-CL" sz="4000" spc="-1" strike="noStrike">
                <a:solidFill>
                  <a:srgbClr val="000000"/>
                </a:solidFill>
                <a:latin typeface="Constantia"/>
              </a:rPr>
              <a:t>es la fijación de la oferta monetaria por parte de las autoridades monetarias en el Banco Central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Reserv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son depósitos que los bancos han recibido, pero no han prestad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Sistema bancario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el sistema bancario en el que los bancos solo tienen como reservas una fracción de los depósitos y el resto lo presta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BANCOS Y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l coeficiente de reservas fraccionarias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 es la fracción de los depósitos que tienen los bancos como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 del que tiene en servicios reservas, la oferta monetaria se increment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oferta monetaria se ve afectada por las cantidades depositadas en los bancos y por las cantidades de dinero prestadas por los mism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depósitos bancarios son considerados como un activo y un pasivo a la vez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anco Central fija la cantidad mínima de reservas que deben tener los bancos, esto se llama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ancos además pueden tener reservas superiores al mínimo obligatorio, llamadas </a:t>
            </a:r>
            <a:r>
              <a:rPr b="1" lang="es-CL" sz="2600" spc="-1" strike="noStrike">
                <a:solidFill>
                  <a:srgbClr val="0f6fc6"/>
                </a:solidFill>
                <a:latin typeface="Constantia"/>
              </a:rPr>
              <a:t>exceso de reserv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éstamos son considerados como un activo para el ban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-228960" y="1599840"/>
            <a:ext cx="350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sta cuenta T muestra un banco qu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Acepta depósitos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Separa una parte para reservas,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Y presta el resto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2" marL="840960" indent="-2264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Tiene un encaje bancario del 10%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3907440" y="1951200"/>
            <a:ext cx="5335560" cy="4449600"/>
            <a:chOff x="3907440" y="1951200"/>
            <a:chExt cx="5335560" cy="4449600"/>
          </a:xfrm>
        </p:grpSpPr>
        <p:sp>
          <p:nvSpPr>
            <p:cNvPr id="235" name="Line 5"/>
            <p:cNvSpPr/>
            <p:nvPr/>
          </p:nvSpPr>
          <p:spPr>
            <a:xfrm>
              <a:off x="3943080" y="3200400"/>
              <a:ext cx="4722840" cy="0"/>
            </a:xfrm>
            <a:prstGeom prst="line">
              <a:avLst/>
            </a:prstGeom>
            <a:ln w="7632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"/>
            <p:cNvSpPr/>
            <p:nvPr/>
          </p:nvSpPr>
          <p:spPr>
            <a:xfrm>
              <a:off x="6227640" y="3278160"/>
              <a:ext cx="0" cy="3122640"/>
            </a:xfrm>
            <a:prstGeom prst="line">
              <a:avLst/>
            </a:prstGeom>
            <a:ln w="507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7"/>
            <p:cNvSpPr/>
            <p:nvPr/>
          </p:nvSpPr>
          <p:spPr>
            <a:xfrm>
              <a:off x="4406400" y="2604960"/>
              <a:ext cx="1513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8"/>
            <p:cNvSpPr/>
            <p:nvPr/>
          </p:nvSpPr>
          <p:spPr>
            <a:xfrm>
              <a:off x="6470640" y="2604960"/>
              <a:ext cx="1530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9"/>
            <p:cNvSpPr/>
            <p:nvPr/>
          </p:nvSpPr>
          <p:spPr>
            <a:xfrm>
              <a:off x="4303080" y="1951200"/>
              <a:ext cx="4939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0"/>
            <p:cNvSpPr/>
            <p:nvPr/>
          </p:nvSpPr>
          <p:spPr>
            <a:xfrm>
              <a:off x="3925800" y="3489480"/>
              <a:ext cx="1934640" cy="14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1"/>
            <p:cNvSpPr/>
            <p:nvPr/>
          </p:nvSpPr>
          <p:spPr>
            <a:xfrm>
              <a:off x="6292440" y="34894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"/>
            <p:cNvSpPr/>
            <p:nvPr/>
          </p:nvSpPr>
          <p:spPr>
            <a:xfrm>
              <a:off x="4552920" y="5486400"/>
              <a:ext cx="1598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"/>
            <p:cNvSpPr/>
            <p:nvPr/>
          </p:nvSpPr>
          <p:spPr>
            <a:xfrm>
              <a:off x="390744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4"/>
            <p:cNvSpPr/>
            <p:nvPr/>
          </p:nvSpPr>
          <p:spPr>
            <a:xfrm>
              <a:off x="6345720" y="5546880"/>
              <a:ext cx="2062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18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5"/>
            <p:cNvSpPr/>
            <p:nvPr/>
          </p:nvSpPr>
          <p:spPr>
            <a:xfrm>
              <a:off x="6914880" y="5486400"/>
              <a:ext cx="1598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 creación de dinero con un sistema bancario de reservas fraccionaria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presta dinero, ese dinero es generalmente depositado en otro banc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o anterior crea  más depósitos y más reservas para prestar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uando un banco realiza un préstamo de sus reservas, se incrementa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¿Cuanto dinero puede ser creado en una economía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ultiplicador del diner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la cantidad de dinero que genera el sistema bancario con cada peso de reserv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SIGNIFICADO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dinero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 es el conjunto de activos de la economía que utilizan los individuos normalmente para comprar bienes y servicios a otras persona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2"/>
          <p:cNvSpPr/>
          <p:nvPr/>
        </p:nvSpPr>
        <p:spPr>
          <a:xfrm>
            <a:off x="4724280" y="1752480"/>
            <a:ext cx="419112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533520" y="1752480"/>
            <a:ext cx="4038480" cy="419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457200" y="1752480"/>
            <a:ext cx="4359960" cy="4191120"/>
            <a:chOff x="457200" y="1752480"/>
            <a:chExt cx="4359960" cy="4191120"/>
          </a:xfrm>
        </p:grpSpPr>
        <p:sp>
          <p:nvSpPr>
            <p:cNvPr id="254" name="Line 5"/>
            <p:cNvSpPr/>
            <p:nvPr/>
          </p:nvSpPr>
          <p:spPr>
            <a:xfrm>
              <a:off x="598680" y="2909880"/>
              <a:ext cx="3970080" cy="0"/>
            </a:xfrm>
            <a:prstGeom prst="line">
              <a:avLst/>
            </a:prstGeom>
            <a:ln w="2556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6"/>
            <p:cNvSpPr/>
            <p:nvPr/>
          </p:nvSpPr>
          <p:spPr>
            <a:xfrm>
              <a:off x="2517840" y="2982960"/>
              <a:ext cx="0" cy="2960640"/>
            </a:xfrm>
            <a:prstGeom prst="line">
              <a:avLst/>
            </a:prstGeom>
            <a:ln w="25560">
              <a:solidFill>
                <a:srgbClr val="04617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7"/>
            <p:cNvSpPr/>
            <p:nvPr/>
          </p:nvSpPr>
          <p:spPr>
            <a:xfrm>
              <a:off x="983520" y="2386080"/>
              <a:ext cx="1041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Act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"/>
            <p:cNvSpPr/>
            <p:nvPr/>
          </p:nvSpPr>
          <p:spPr>
            <a:xfrm>
              <a:off x="2719080" y="2386080"/>
              <a:ext cx="105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dd9"/>
                  </a:solidFill>
                  <a:latin typeface="Constantia"/>
                </a:rPr>
                <a:t>Pasiv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"/>
            <p:cNvSpPr/>
            <p:nvPr/>
          </p:nvSpPr>
          <p:spPr>
            <a:xfrm>
              <a:off x="476280" y="1752480"/>
              <a:ext cx="4340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f6fc6"/>
                  </a:solidFill>
                  <a:latin typeface="Constantia"/>
                </a:rPr>
                <a:t>Primer Banco N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0"/>
            <p:cNvSpPr/>
            <p:nvPr/>
          </p:nvSpPr>
          <p:spPr>
            <a:xfrm>
              <a:off x="568080" y="3224160"/>
              <a:ext cx="2024640" cy="16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Reserv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Préstam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9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1"/>
            <p:cNvSpPr/>
            <p:nvPr/>
          </p:nvSpPr>
          <p:spPr>
            <a:xfrm>
              <a:off x="2535840" y="3224160"/>
              <a:ext cx="21661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Depósi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2"/>
            <p:cNvSpPr/>
            <p:nvPr/>
          </p:nvSpPr>
          <p:spPr>
            <a:xfrm>
              <a:off x="1111320" y="5076720"/>
              <a:ext cx="1344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3"/>
            <p:cNvSpPr/>
            <p:nvPr/>
          </p:nvSpPr>
          <p:spPr>
            <a:xfrm>
              <a:off x="457200" y="5175360"/>
              <a:ext cx="22892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Ac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"/>
            <p:cNvSpPr/>
            <p:nvPr/>
          </p:nvSpPr>
          <p:spPr>
            <a:xfrm>
              <a:off x="2514600" y="5175360"/>
              <a:ext cx="22827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Total Pas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	</a:t>
              </a:r>
              <a:r>
                <a:rPr b="1" lang="en-US" sz="2000" spc="-1" strike="noStrike">
                  <a:solidFill>
                    <a:srgbClr val="0f6fc6"/>
                  </a:solidFill>
                  <a:latin typeface="Constantia"/>
                </a:rPr>
                <a:t>$100.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5"/>
            <p:cNvSpPr/>
            <p:nvPr/>
          </p:nvSpPr>
          <p:spPr>
            <a:xfrm>
              <a:off x="3095640" y="5076720"/>
              <a:ext cx="134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Line 17"/>
          <p:cNvSpPr/>
          <p:nvPr/>
        </p:nvSpPr>
        <p:spPr>
          <a:xfrm>
            <a:off x="4745160" y="2930400"/>
            <a:ext cx="4029120" cy="0"/>
          </a:xfrm>
          <a:prstGeom prst="line">
            <a:avLst/>
          </a:prstGeom>
          <a:ln w="255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6689520" y="3005280"/>
            <a:ext cx="4680" cy="2938320"/>
          </a:xfrm>
          <a:prstGeom prst="line">
            <a:avLst/>
          </a:prstGeom>
          <a:ln w="25560">
            <a:solidFill>
              <a:srgbClr val="04617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141160" y="2398680"/>
            <a:ext cx="104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0"/>
          <p:cNvSpPr/>
          <p:nvPr/>
        </p:nvSpPr>
        <p:spPr>
          <a:xfrm>
            <a:off x="6903360" y="2398680"/>
            <a:ext cx="105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dd9"/>
                </a:solidFill>
                <a:latin typeface="Constantia"/>
              </a:rPr>
              <a:t>Pa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4648320" y="1765440"/>
            <a:ext cx="4470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6fc6"/>
                </a:solidFill>
                <a:latin typeface="Constantia"/>
              </a:rPr>
              <a:t>Segundo Banc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2"/>
          <p:cNvSpPr/>
          <p:nvPr/>
        </p:nvSpPr>
        <p:spPr>
          <a:xfrm>
            <a:off x="4693320" y="3251160"/>
            <a:ext cx="202464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Reser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8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6735600" y="325116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Depó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>
            <a:off x="5264280" y="5137200"/>
            <a:ext cx="136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472104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Ac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6"/>
          <p:cNvSpPr/>
          <p:nvPr/>
        </p:nvSpPr>
        <p:spPr>
          <a:xfrm>
            <a:off x="6829920" y="5238720"/>
            <a:ext cx="202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Total P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f6fc6"/>
                </a:solidFill>
                <a:latin typeface="Constantia"/>
              </a:rPr>
              <a:t>$9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7"/>
          <p:cNvSpPr/>
          <p:nvPr/>
        </p:nvSpPr>
        <p:spPr>
          <a:xfrm>
            <a:off x="7281720" y="5137200"/>
            <a:ext cx="1362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1523880" y="6019920"/>
            <a:ext cx="5883480" cy="1067400"/>
          </a:xfrm>
          <a:prstGeom prst="rect">
            <a:avLst/>
          </a:prstGeom>
          <a:solidFill>
            <a:srgbClr val="85df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f6fc6"/>
                </a:solidFill>
                <a:latin typeface="Constantia"/>
              </a:rPr>
              <a:t>Oferta Monetaria= $190.000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0"/>
          <p:cNvSpPr/>
          <p:nvPr/>
        </p:nvSpPr>
        <p:spPr>
          <a:xfrm flipV="1">
            <a:off x="2514600" y="3719520"/>
            <a:ext cx="5273640" cy="852480"/>
          </a:xfrm>
          <a:prstGeom prst="line">
            <a:avLst/>
          </a:prstGeom>
          <a:ln w="50760">
            <a:solidFill>
              <a:srgbClr val="b0001d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El multiplicador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multiplicador del dinero es la inversa del coeficiente de reserva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M = 1/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cantidad de dinero que crean los bancos depende del coeficiente de reserva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Con un encaje,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R = 20%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 1/5,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el multiplicador del dinero es 5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77240" indent="-2091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43600" indent="-208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l Banco Central tiene tres instrumento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Operaciones de mercado abier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Reservas obligatorias o encaje bancari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La tasa de descuent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098360" indent="-478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708120" indent="-40068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Operaciones de mercado abier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realiza operaciones de mercado abierto cuando vende o compra bonos del Estado al público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incrementar la oferta monetaria, el Banco Central compra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4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a disminuir la oferta monetaria, el Banco Central vende bonos a los particular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925920" indent="-16308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13160" indent="-1918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08120" indent="-4006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lvl="1" marL="795240" indent="-51984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Reservas obligatorias o encaje bancari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Cantidad mínima de reservas que deben tener los bancos para respaldar los depósit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Incrementar el encaje bancario hace disminui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Disminuir el encaje bancario hace aumentar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830880" indent="-1465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40080" indent="-17208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95240" indent="-51984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Instrumentos de control monetario del Banco Centr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 marL="749880" indent="-489960">
              <a:spcBef>
                <a:spcPts val="901"/>
              </a:spcBef>
              <a:buClr>
                <a:srgbClr val="0f6fc6"/>
              </a:buClr>
              <a:buSzPct val="85000"/>
              <a:buFont typeface="Constant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onstantia"/>
              </a:rPr>
              <a:t>Tasa de descuento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Tasa de interés de los préstamos que concede el Banco Central a los Bancos comerciant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Incrementar la tasa de descuento hace disminui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isminuir la tasa de descuento hace aumentar la oferta monetari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79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783360" indent="-13824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03360" indent="-16236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749880" indent="-48996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228600" y="457200"/>
            <a:ext cx="96012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Problemas que plantea el control de la oferta monetar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no puede controlar con precisión la oferta monetari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l Banco Central debe lidiar con dos problemas que surgen debido a que la oferta monetaria es creada por el sistema bancario de reservas fraccionaria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los hogares deciden tener depositado en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01"/>
              </a:spcBef>
              <a:buClr>
                <a:srgbClr val="04617b"/>
              </a:buClr>
              <a:buSzPct val="6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Banco Central no controla la cantidad de dinero que deciden prestar los banc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47240" indent="-333720">
              <a:spcBef>
                <a:spcPts val="624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10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8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667440" indent="-1796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829440" indent="-54180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9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l dinero desempeña </a:t>
            </a:r>
            <a:r>
              <a:rPr b="0" lang="es-CL" sz="3600" spc="-1" strike="noStrike" u="sng">
                <a:solidFill>
                  <a:srgbClr val="000000"/>
                </a:solidFill>
                <a:uFillTx/>
                <a:latin typeface="Constantia"/>
              </a:rPr>
              <a:t>tres funciones </a:t>
            </a:r>
            <a:r>
              <a:rPr b="0" lang="es-CL" sz="3600" spc="-1" strike="noStrike">
                <a:solidFill>
                  <a:srgbClr val="000000"/>
                </a:solidFill>
                <a:latin typeface="Constantia"/>
              </a:rPr>
              <a:t>en la economía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Medio de cambi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Unidad de cuent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9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Constantia"/>
              </a:rPr>
              <a:t>Depósito de valo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medio de cambio </a:t>
            </a: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es un artículo que los compradores entregan a los vendedores cuando quieren comprar bienes y servicio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Un medio de cambio es cualquier cosa que es generalmente aceptada como pag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Unidad de cuen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Unidad de cuenta es un patrón que utilizan los individuos para marcar los precios y registrar las deuda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 de valor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nstantia"/>
              </a:rPr>
              <a:t>Depósito de valor es un artículo que pueden utilizar los individuos para transferir poder adquisitivo del presente al futuro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AS FUNCIONES DEL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Liquidez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Facilidad con que puede convertirse un activo en medio de cambio en la economía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f6fc6"/>
                </a:solidFill>
                <a:latin typeface="Calibri"/>
              </a:rPr>
              <a:t>LOS TIPOS DE DINER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- mercancí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adopta la forma de una mercancía que tiene un valor intrínseco. Por ejemplo: Plata, oro, cigarrillo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inero fiduciari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Dinero que carece de valor intrínseco y que se utiliza como dinero por decreto gubernamental. Por ejemplo: Monedas, billetes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EL DINERO EN LAS ECONOMÍAS MODERN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Efectivo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billetes y las monedas que están en manos del público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f6fc6"/>
                </a:solidFill>
                <a:latin typeface="Constantia"/>
              </a:rPr>
              <a:t>Depósitos a la vista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Constantia"/>
              </a:rPr>
              <a:t>Son los saldos de las cuentas bancarias a los que los depositantes tienen acceso a la vista extendiendo un cheque.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f6fc6"/>
                </a:solidFill>
                <a:latin typeface="Calibri"/>
              </a:rPr>
              <a:t>CASO PRÁCTICO: ¿DÓNDE ESTÁ TODO EL EFECTIVO DE EEUU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2001 había alrededor de 580.000 millones de dólares de efectivo en circu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e calculo implica que el adulto promedio en EEUU tenía alrededor de US 2.734 en efectiv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¿Quién tiene todo este efectiv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adie lo sabe a ciencia cierta, pero se cree que una gran parte se encuentra en otros países y la otra parte en manos de narcotraficantes, evasores de impuestos y otros delincu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5:24:34Z</dcterms:created>
  <dc:creator>Andrea</dc:creator>
  <dc:description/>
  <dc:language>en-US</dc:language>
  <cp:lastModifiedBy> </cp:lastModifiedBy>
  <dcterms:modified xsi:type="dcterms:W3CDTF">2009-11-04T02:38:49Z</dcterms:modified>
  <cp:revision>51</cp:revision>
  <dc:subject/>
  <dc:title>Contenidos del dia</dc:title>
</cp:coreProperties>
</file>