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E5A1-5813-4F86-8070-24BE9B4517F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DC0C-54E1-4574-A186-C1D77FC424E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651-5744-487C-B5E4-64780EFE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248-F5DC-482F-B5D5-EB694C8F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757-CDBE-4B32-A659-8965B207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F50-7D4B-40CC-BF38-225A5EDB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0E23-5F61-4029-AF06-6F9F7B47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8B36-8284-440C-9D76-68594D11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808C-E53C-4CD7-9ECA-400D6BC5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2EEB-838B-477B-AF4C-F643B69D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3B08-3D6E-4B8B-81B5-39C85BD0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F20B-EC3B-4E27-96B4-B6203044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048A-BC99-4589-BE95-5CE01936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057-E84F-4A32-8202-6D63BB7C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7883-7157-4241-923C-8AC84553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4EDD-3394-43C3-BBBE-32461D0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1DBC-02C9-48BD-B9AA-836D70FB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C66D-27EC-4DDC-8509-8F6B6826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D5D0-B283-4538-B340-51DE5B8C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3C3B-33B0-45B2-9FD8-0C32741E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6342-E944-49B1-A900-483F5EB7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5004-4F8D-4132-9665-CEF083F5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A006-3FD9-43F8-BBFE-8E74C0B4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2845B-6627-4738-8E60-E9FD11B5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0A7-8A12-4339-95AC-9E59E235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11F7-B71C-4BCE-BCBA-6D25D2B5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39761-86D3-4FB3-ABB2-814CB497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848CE-96BA-4134-B112-B0684F89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47214-E09B-420F-86BB-618C806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1AEC1-72E0-4D72-954C-B9B83B1B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6666A-208C-4484-86AC-B08BF07C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78A2-3616-4563-801D-088768CB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3FA70-7E6B-4022-A8A6-B93A0BE1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4CCD6-0FB4-4394-BE06-1DD7292A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65D66-D126-497D-9E17-F38BA4E6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AC2-1277-483F-97FC-6336E2E5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C6AF-DA4C-47AF-8A17-077A0CC3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EAAC3-9CB0-4484-B074-A95F9ABF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FF3A8-3454-4D12-9907-0F78BB09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BE47B-1109-4E36-A117-8742A404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0438-4B15-4E49-8B78-B9DC48AD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56894-FC84-4307-B8A3-405DF53F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070B-F0ED-42E4-A6E8-82D0BEA3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75B5-0AD2-4616-956F-9BE551F6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775C4-DADA-41FC-ABFA-6BA30D29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444-DD70-4E77-8160-78BBEFC7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AEB-445F-4463-B00F-477C3820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E1D-D32B-4C29-8ED6-11B76290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A70-D80F-4B2E-BED1-2A58E97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649-FF67-4ACA-B044-E5F5B44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1115-1D4E-4552-AB37-67CAAD30123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F826-DD5B-47B9-B029-A63D62DBBC2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E36-5E9E-4A31-AC9B-EE1FB826BCF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1ED3-5445-4E28-B04B-67E82667E31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f6fc6"/>
                </a:solidFill>
                <a:latin typeface="Calibri"/>
              </a:rPr>
              <a:t>EL SISTEMA MONETARI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una institución encargada de velar supervisar el sistema bancario y de regular la cantidad de dinero que hay en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-22104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Banco Central tiene dos misiones relacionadas entre sí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primera es regular los bancos y garantizar la salud del sistema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segunda es controlar la cantidad de dinero que existe en la economía, llamada oferta monetaria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ofert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cantidad de dinero de que dispone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polític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fijación de la oferta monetaria por parte de las autoridades monetarias en el Banco Centra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Reserv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son depósitos que los bancos han recibido, pero no han prestad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Sistema bancario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el sistema bancario en el que los bancos solo tienen como reservas una fracción de los depósitos y el resto lo presta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l coeficiente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la fracción de los depósitos que tienen los bancos como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 del que tiene en servicios reservas, la oferta monetaria se increment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oferta monetaria se ve afectada por las cantidades depositadas en los bancos y por las cantidades de dinero prestadas por los mism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depósitos bancarios son considerados como un activo y un pasivo a la v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anco Central fija la cantidad mínima de reservas que deben tener los bancos, esto se llama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ancos además pueden tener reservas superiores al mínimo obligatorio, llamadas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exceso de reserv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réstamos son considerados como un activo para el ban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228960" y="1599840"/>
            <a:ext cx="3505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sta cuenta T muestra un banco qu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Acepta depósito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Separa una parte para reservas,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Y presta el resto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Tiene un encaje bancario del 10%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3907440" y="1951200"/>
            <a:ext cx="5335560" cy="4449600"/>
            <a:chOff x="3907440" y="1951200"/>
            <a:chExt cx="5335560" cy="4449600"/>
          </a:xfrm>
        </p:grpSpPr>
        <p:sp>
          <p:nvSpPr>
            <p:cNvPr id="235" name="Line 5"/>
            <p:cNvSpPr/>
            <p:nvPr/>
          </p:nvSpPr>
          <p:spPr>
            <a:xfrm>
              <a:off x="3943080" y="3200400"/>
              <a:ext cx="4722840" cy="0"/>
            </a:xfrm>
            <a:prstGeom prst="line">
              <a:avLst/>
            </a:prstGeom>
            <a:ln w="7632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6227640" y="3278160"/>
              <a:ext cx="0" cy="3122640"/>
            </a:xfrm>
            <a:prstGeom prst="line">
              <a:avLst/>
            </a:prstGeom>
            <a:ln w="507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4406400" y="2604960"/>
              <a:ext cx="1513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6470640" y="2604960"/>
              <a:ext cx="153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4303080" y="1951200"/>
              <a:ext cx="4939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3925800" y="3489480"/>
              <a:ext cx="193464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6292440" y="34894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>
              <a:off x="4552920" y="5486400"/>
              <a:ext cx="1598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390744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634572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5"/>
            <p:cNvSpPr/>
            <p:nvPr/>
          </p:nvSpPr>
          <p:spPr>
            <a:xfrm>
              <a:off x="6914880" y="5486400"/>
              <a:ext cx="1598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, ese dinero es generalmente depositado en otro banc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o anterior crea  más depósitos y más reservas para prestar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realiza un préstamo de sus reservas, se incrementa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¿Cuanto dinero puede ser creado en una economía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ultiplicador del diner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la cantidad de dinero que genera el sistema bancario con cada peso de reserv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SIGNIFICADO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dinero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 es el conjunto de activos de la economía que utilizan los individuos normalmente para comprar bienes y servicios a otras persona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2"/>
          <p:cNvSpPr/>
          <p:nvPr/>
        </p:nvSpPr>
        <p:spPr>
          <a:xfrm>
            <a:off x="4724280" y="1752480"/>
            <a:ext cx="419112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533520" y="1752480"/>
            <a:ext cx="403848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" y="1752480"/>
            <a:ext cx="4359960" cy="4191120"/>
            <a:chOff x="457200" y="1752480"/>
            <a:chExt cx="4359960" cy="4191120"/>
          </a:xfrm>
        </p:grpSpPr>
        <p:sp>
          <p:nvSpPr>
            <p:cNvPr id="254" name="Line 5"/>
            <p:cNvSpPr/>
            <p:nvPr/>
          </p:nvSpPr>
          <p:spPr>
            <a:xfrm>
              <a:off x="598680" y="2909880"/>
              <a:ext cx="3970080" cy="0"/>
            </a:xfrm>
            <a:prstGeom prst="line">
              <a:avLst/>
            </a:prstGeom>
            <a:ln w="255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>
              <a:off x="2517840" y="2982960"/>
              <a:ext cx="0" cy="2960640"/>
            </a:xfrm>
            <a:prstGeom prst="line">
              <a:avLst/>
            </a:prstGeom>
            <a:ln w="25560">
              <a:solidFill>
                <a:srgbClr val="04617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983520" y="2386080"/>
              <a:ext cx="1041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719080" y="2386080"/>
              <a:ext cx="105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476280" y="1752480"/>
              <a:ext cx="434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568080" y="3224160"/>
              <a:ext cx="202464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535840" y="3224160"/>
              <a:ext cx="2166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>
              <a:off x="1111320" y="5076720"/>
              <a:ext cx="134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457200" y="5175360"/>
              <a:ext cx="2289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2514600" y="5175360"/>
              <a:ext cx="2282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3095640" y="5076720"/>
              <a:ext cx="134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Line 17"/>
          <p:cNvSpPr/>
          <p:nvPr/>
        </p:nvSpPr>
        <p:spPr>
          <a:xfrm>
            <a:off x="4745160" y="2930400"/>
            <a:ext cx="4029120" cy="0"/>
          </a:xfrm>
          <a:prstGeom prst="line">
            <a:avLst/>
          </a:prstGeom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6689520" y="3005280"/>
            <a:ext cx="4680" cy="2938320"/>
          </a:xfrm>
          <a:prstGeom prst="line">
            <a:avLst/>
          </a:prstGeom>
          <a:ln w="25560">
            <a:solidFill>
              <a:srgbClr val="04617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5141160" y="2398680"/>
            <a:ext cx="104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6903360" y="2398680"/>
            <a:ext cx="105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4648320" y="1765440"/>
            <a:ext cx="4470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Constantia"/>
              </a:rPr>
              <a:t>Segundo Banc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4693320" y="3251160"/>
            <a:ext cx="2024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Reser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8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6735600" y="325116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5264280" y="5137200"/>
            <a:ext cx="136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472104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682992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P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7281720" y="5137200"/>
            <a:ext cx="136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1523880" y="6019920"/>
            <a:ext cx="5883480" cy="106740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f6fc6"/>
                </a:solidFill>
                <a:latin typeface="Constantia"/>
              </a:rPr>
              <a:t>Oferta Monetaria= $190.00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0"/>
          <p:cNvSpPr/>
          <p:nvPr/>
        </p:nvSpPr>
        <p:spPr>
          <a:xfrm flipV="1">
            <a:off x="2514600" y="3719520"/>
            <a:ext cx="5273640" cy="852480"/>
          </a:xfrm>
          <a:prstGeom prst="line">
            <a:avLst/>
          </a:prstGeom>
          <a:ln w="50760">
            <a:solidFill>
              <a:srgbClr val="b0001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multiplicador del dinero es la inversa del coeficiente de reserva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M = 1/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cantidad de dinero que crean los bancos depende del coeficiente de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on un encaje,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R = 20%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1/5,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l multiplicador del dinero es 5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Banco Central tiene tres instrumento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Operaciones de mercado abier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Reservas obligatorias o encaje bancari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tasa de descuen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708120" indent="-40068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Operaciones de mercado abier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realiza operaciones de mercado abierto cuando vende o compra bonos del Estado al públ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incrementar la oferta monetaria, el Banco Central compra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disminuir la oferta monetaria, el Banco Central vende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795240" indent="-51984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Cantidad mínima de reservas que deben tener los bancos para respaldar los depósit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ncrementar el encaje bancario hace disminui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Disminuir el encaje bancario hace aumenta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1" marL="749880" indent="-48996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Tasa de descuen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Tasa de interés de los préstamos que concede el Banco Central a los Bancos comerciant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Incrementar la tasa de descuento hace disminui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isminuir la tasa de descuento hace aumenta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Problemas que plantea el control de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no puede controlar con precisión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debe lidiar con dos problemas que surgen debido a que la oferta monetaria es creada por el sistema bancario de reservas fraccionaria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los hogares deciden tener depositado en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deciden prestar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dinero desempeña </a:t>
            </a:r>
            <a:r>
              <a:rPr b="0" lang="es-CL" sz="3600" spc="-1" strike="noStrike" u="sng">
                <a:solidFill>
                  <a:srgbClr val="000000"/>
                </a:solidFill>
                <a:uFillTx/>
                <a:latin typeface="Constantia"/>
              </a:rPr>
              <a:t>tres funciones 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n la economía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Medio de cambi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Unidad de cuent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Depósito de valo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un artículo que los compradores entregan a los vendedores cuando quieren comprar bienes y servici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medio de cambio es cualquier cosa que es generalmente aceptada como pag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Unidad de cuen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Unidad de cuenta es un patrón que utilizan los individuos para marcar los precios y registrar las deuda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 de valor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epósito de valor es un artículo que pueden utilizar los individuos para transferir poder adquisitivo del presente al futur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Liquidez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Facilidad con que puede convertirse un activo en medio de cambio en la economía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TIPOS DE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- mercancí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adopta la forma de una mercancía que tiene un valor intrínseco. Por ejemplo: Plata, oro, cigarrillo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 fiduciar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carece de valor intrínseco y que se utiliza como dinero por decreto gubernamental. Por ejemplo: Monedas, billete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EL DINERO EN LAS ECONOMÍAS MODERN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fectiv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billetes y las monedas que están en manos del público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s a la vis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saldos de las cuentas bancarias a los que los depositantes tienen acceso a la vista extendiendo un cheque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CASO PRÁCTICO: ¿DÓNDE ESTÁ TODO EL EFECTIVO DE EEUU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2001 había alrededor de 580.000 millones de dólares de efectivo en circul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e calculo implica que el adulto promedio en EEUU tenía alrededor de US 2.734 en efectiv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ién tiene todo este efectiv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adie lo sabe a ciencia cierta, pero se cree que una gran parte se encuentra en otros países y la otra parte en manos de narcotraficantes, evasores de impuestos y otros delincu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5:24:34Z</dcterms:created>
  <dc:creator>Andrea</dc:creator>
  <dc:description/>
  <dc:language>en-US</dc:language>
  <cp:lastModifiedBy> </cp:lastModifiedBy>
  <dcterms:modified xsi:type="dcterms:W3CDTF">2009-11-04T02:38:49Z</dcterms:modified>
  <cp:revision>51</cp:revision>
  <dc:subject/>
  <dc:title>Contenidos del dia</dc:title>
</cp:coreProperties>
</file>