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56DE2-6D9B-4298-AAEB-D8C24A21B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1F67-4EF2-4618-AB2D-1CBA3461B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10989-2FC6-48BF-8E0D-AB15BC402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75860-1D90-4E7D-8F47-18EB5AABC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20056-F48D-4E43-A8F2-EC4002F90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D27CB-74F1-4CB2-9243-B84011241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71389-B13A-4680-97F9-1285271E4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95C5F-2295-4DC7-8B86-853FB201A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91B8C-5B70-4334-AB90-33654BDD8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24563-3B9D-4A13-B8FA-FD7EBE17C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788D9-CDA2-4E5B-8332-C9D0526A7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10B09-AB0F-43B0-8869-44BCEE296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63993-780D-4018-A0E0-CF614BCA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9296-318F-4E1C-A67A-BFEB73773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E239B-B2B3-48E9-9A48-A021DA920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A3CEE-022A-418C-A446-708B2324D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4B360-02CE-4597-B8AD-C93319ED3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B7AEF3-7EA9-4DE3-A253-61EE15D85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C9152-F77E-4631-96A6-C65228259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2996B-676C-4DCC-937C-1DEBBAED3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FC77C-D68B-4CBB-9421-6BB9EB5C9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CB8A3-07B9-4A6B-973F-4A482E1FE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86EDC-493A-4D39-9F28-53D4CB5B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AE598-6DB6-4127-B155-71AB72036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116D3-3912-4B83-B0EE-1E911E07B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455C8-2748-4423-8F51-6AE8048DC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54379-DBB4-4738-9258-11A98A304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8028A-9D8C-411B-88C6-47815EB76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B58ED-BE80-4D43-A35C-B79F53B52F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42A670-24E1-4E8D-9282-21DB5DBC1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9BC42-A344-40ED-AB01-EE53AFBD6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10613-E28A-46A8-9893-ECEAE27B9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D8BF7-CAF8-4D21-8FED-9ACA58544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BFA6-B29C-45D4-B4D5-D8BCE98A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5A376-3D1A-4BE3-BCDD-9DAAF2FB2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066F2-852E-4138-A6C8-4EA7B41E8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75980-1757-41E7-8147-228DF9A7F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9F6C4-9849-4303-9475-9802049EB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4275F-2194-4F22-A818-6C09DB5AF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4BEF8-038F-4BAC-89AC-FDF848A53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1095C-34B8-452A-A9DE-DA6DB8659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78FCC-4C96-493C-A732-5704082414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7C4EA-43BF-4A7C-B25A-CD5B67DB7F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2340A-788A-4164-B344-71781F8B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76DD0-C88A-48B8-869D-66EEE96AB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34C3-E188-49BC-8754-2F5E9823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A7E5-440D-439C-B9E9-B2A317C7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789D-E04D-42FA-8F88-9D1F0E7E4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48A1-1A49-4E9F-B039-9554F528C4C7}"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562D-6140-44A9-BEAF-4083567AFE05}"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9F62-A86F-4DC0-B33B-D0EA5C7AE33F}"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FB59-A268-4F35-A89E-793FED763173}"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1FB0-A59F-49C9-A349-2FB95042629C}"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B5F3-1006-4D64-9593-01C1AA46B232}"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4CCA-93DE-4093-BF03-000A849EE368}"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br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REAL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NOMINAL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115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1152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979640" y="3789360"/>
            <a:ext cx="1009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513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971640" y="3573360"/>
            <a:ext cx="216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2160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411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 </cp:lastModifiedBy>
  <dcterms:modified xsi:type="dcterms:W3CDTF">2009-10-21T16:16:56Z</dcterms:modified>
  <cp:revision>129</cp:revision>
  <dc:subject/>
  <dc:title>Diapositiva 1</dc:title>
</cp:coreProperties>
</file>