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94366-5FB6-46A1-8C64-C26383E8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DB13-FE3D-4DFB-AF4C-8FD9F6B4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E6D09-9787-42B9-8327-2055035C3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7DC48-4611-4EEF-AA78-194DCCE73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80793-EA12-449A-92B5-345CD52B8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D8776-7662-4338-9F13-A9BB73FBD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5738F-6A25-432D-B495-A37096419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AD78-F29C-4E38-869A-348B026D3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1AFEE-D7EF-4537-8F22-695DF3BB8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D3743-5145-430F-A1C9-CBC80DC1F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9E392-FB42-4FAC-8D52-67DA96853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EE7E-1C2D-4C0A-9B92-A3F1BA29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3240C-ADED-4A1D-AB68-5BCE752CD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7D491-3D4D-4FDE-A0BB-818FE4031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5EE53-E66D-4918-9C04-4F6F19830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4B679-F3DC-45A8-86C1-423A33E65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E0C71-54E7-4BA5-8BC6-27E0999CC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C3C281-0474-4701-A2FA-A2E4ED7EE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7C63D-1204-42A3-9D17-93E3D62AE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FCF69-830E-4341-BDAD-F0490E434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4B45B-AEB1-40A6-BB77-37757A18D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0A808-F109-43A9-8E0F-6DABDAE3F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B33B-77BD-4846-9531-CCE15F24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C6465-3954-4C7D-BC2A-98EC5B5F4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D3BBE-059A-405E-9DA0-9B01D6C07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29A6D-6F04-416D-A311-5EAD7D75A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FD1E8-5914-447A-9443-635F8EE90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4DD2E-88A6-4C90-B82C-2148500CF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3F33A-E50C-410C-9CF1-8EB84AD68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2166ED-1854-46BE-AD99-0BC2587246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CA83F-9DEB-4CF0-B3F1-52E85AB14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EE097-8017-420A-B79E-668EA1A6E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6E294-0F6B-4445-A4A7-D5BAC72A2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ACCC-4CB9-4C16-A3A2-791F8667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8A41E-5DCD-4839-9F38-4D9EE7FE8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CB034-03B8-4835-A5E0-AA38B7968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6887E3-C4BA-443B-B061-CEF7A9F5D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254F4-EDF6-4287-B433-976882A25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3F17E-C642-4FB8-98DD-D2E8D2CFB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43E87-3F42-4DD4-9A76-4A1C7CA79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F50A3-494F-48D6-842B-8ED7F031D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C143C-8F09-47B4-A2AE-067BC6585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627CF3-1D8F-42C7-B139-9C1D74907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F36A1-788E-4B8C-87BD-83391A1EA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DD675-E100-4FAE-AE50-1C04091D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3C51-7B3B-4FC5-B38A-80025641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156C-F8AF-41C8-8671-227C63989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8325-46C6-455A-B15A-39448C38E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71B0-7352-4054-8986-3CC9F8E7723B}"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F835-60B7-4913-86C2-223B176A8D28}"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8D87-65C2-4173-8334-032FCCC2D116}"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8F50-1B68-4179-B630-67C5FE6DEA0B}"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9C27-4DD8-44D5-AD27-B2753EBDBB5C}"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CF74-1FC9-4603-9BC3-9B64A286CEA9}"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EFEB-8A06-4BE6-81CE-55D245830A91}"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br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REAL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NOMINAL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115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1152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979640" y="3789360"/>
            <a:ext cx="1009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513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971640" y="3573360"/>
            <a:ext cx="216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2160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411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 </cp:lastModifiedBy>
  <dcterms:modified xsi:type="dcterms:W3CDTF">2009-10-21T16:16:56Z</dcterms:modified>
  <cp:revision>129</cp:revision>
  <dc:subject/>
  <dc:title>Diapositiva 1</dc:title>
</cp:coreProperties>
</file>