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FA887-C3DB-43F8-BDB5-FBE3BACAC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EDC95-C5F7-4A39-A00F-3AF2DD17D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6E12F-1788-48B0-A0FD-A1640A881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48EF1-C615-450D-A031-51CDC44BF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07C67-E47F-45DE-9736-71FC9ED3C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C6D6D-4229-41DF-A0F3-7B5231545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59F2E-9637-4EDA-AB6B-77BF32771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82137-0EE5-4A68-B94F-129EE4B95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78745-492A-4874-9F2C-3CCC6FD5B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088A0-64E0-4AA0-8EA0-5E772C6A8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1ABA9-69D3-41F6-9DA1-122FC405B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170BC-992B-4DF5-BC8D-597BBF879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DC5B-1385-465F-8746-5B315843D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33D06-EB9B-4A88-A942-FC2052E1B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47B26-F2F0-492B-944E-D0F1CB7B2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3EB77-3CB3-4D19-A44A-6D23D526D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464B4-A4BD-4CF0-BCF8-C29FCA445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CE96E8-F182-493E-8839-F830DE9854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5A2B1-DE85-45AD-8465-9124BE9B0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A1BC4-88AB-4917-BEAD-2855D104A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C88B1-981B-4579-A9E3-424EF57D5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952E8-3213-44E3-AECB-8773A122D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2A1F5-43A0-44D4-A499-BC4C3E56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FD8DF-8AEB-4E19-9931-BED29185D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BCA2D-05A8-4B96-93B2-3B03E6C39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0A26F-61E4-4BCB-974C-115DEC8F9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359F4-BE0F-448A-8191-07B1FC7D4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AA452-2A31-4F6A-A57B-C37EB85908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FFFF5B-65C1-4CCB-B03B-82DBCC1B58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C864B8-232C-41B4-A237-04739F74D5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60B449-7D40-42BF-B083-BE998AC5B9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D8C14-7C9F-44DD-A9E3-6BC6E61CF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C019F-BFD2-4184-9985-D029C14E9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0B9C0-EC54-487B-889F-C001D7D1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880382-8F80-4953-A35D-358007288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5A3C0-DB14-4920-AA3B-ACB9DC8B0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648D4-339C-4CB8-95F0-0889C337B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934FF-B9A2-4100-A3E4-F0AD3EF39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5DE1F-7AE5-4662-957D-6B670409C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D207A-35E8-442B-99CE-F24D247B2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FAB9D-B7C9-420E-B507-A7B1BA150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D59AC1-8C2B-4B47-95DE-20C5F0F59D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EFFEBA-1390-4CB7-924F-E758039CC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D7B51-3C9B-4779-A50A-570C27A84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AE869-B83A-4DFE-8DC6-4A9FB32F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ED90-46F8-4205-BCB8-BD33BBA2C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45AC3-C8BC-4F09-974B-B62571161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FDE03-3B07-4913-89EE-A3FB541BF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509D-D723-4948-98DA-EC81AE282F1E}"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86A8-4CBE-4EB0-9B6A-BB3682B57A04}"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2117-D6E0-47D9-86C8-32D3F8210161}"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F28C-545A-49F4-A179-D094310F32A4}"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2BE8-34DE-4586-BEFB-C7887D943FE8}"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1AEA-0932-473C-8AF2-07C2869E3BB6}"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C684-B940-48C4-9C37-AEEBC9350FEA}"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br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REAL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NOMINAL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115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1152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979640" y="3789360"/>
            <a:ext cx="1009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513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971640" y="3573360"/>
            <a:ext cx="2160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2160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4112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 </cp:lastModifiedBy>
  <dcterms:modified xsi:type="dcterms:W3CDTF">2009-10-21T16:16:56Z</dcterms:modified>
  <cp:revision>129</cp:revision>
  <dc:subject/>
  <dc:title>Diapositiva 1</dc:title>
</cp:coreProperties>
</file>