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C3778-440F-4837-B443-BE6979D19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F1FA9-D323-4305-8134-38DB3DBC2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F3D76-4477-4F13-BAEA-F51BAAA34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2F719-836F-4AC4-80A6-84826D6EB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79D95-39A4-4FDF-A752-89FEE7870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D0D6A-6B52-4CE6-B2E5-844C74AFE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DB1FB-828D-4232-B680-A23937395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59DDD-3661-415D-93DF-4C7B3EB17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37036-86E1-46EB-96E3-CF8971199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4A1C4-C89F-414E-9FE1-383FD5989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F9AC-3B54-4171-BE0A-D12188CA3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ECB1-7E7E-407F-BDC7-D81BE1C0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61B90-301F-4C93-ABB8-DA958321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9DD7-290E-40CE-93DE-144015DB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98EF3-B0CE-4EC3-B0C8-B3D71E1C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44E57-81E9-4CE5-BBBD-03EDE4D1C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BF76C-778A-4DD8-B8C9-2DF7E0CB5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7E652F-2A93-4FE3-93A3-C07D1CC5D4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36AEF-5D56-4764-906F-E7DAA145C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A25F8-11CC-4EE7-9CAC-9231FB0C8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7DD9D-8EC1-4283-847D-DCD44A899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06684-FE6D-4E6D-B9B9-7D55A93C1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3038-994B-40C3-B85F-C4D67B5C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3A2A1-D2A2-46BF-9E19-98671900A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1B117-DECC-439D-99FE-93EB2BD22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D0841-0409-4BE8-A8D2-A2852D541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59855-5889-4DA1-9810-00D3BBFF9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57222-9A58-4C1A-8A58-832769D76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6C9B9-95DA-4934-A8B4-68E3E76B7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71333F-E9BD-43D1-9611-B721292340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6809C-E92E-424A-A6BF-1FE5484EC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3F635-0593-487A-8201-D0EF49FAA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AB998-1343-4931-AE7F-9B03E3D2C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6C0E-F2FD-4C2C-9973-B9363880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54C9B-C80F-4D89-A8A0-40C19C0B4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F6A3A-AED1-4092-AA64-E05E665D6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B4767-FCC9-43D0-9633-44CA079B2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06E94-70D4-4ABC-90A0-7B1C53EBF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BF744-3AAF-4A2C-8919-17090A0EB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69330-773F-475A-8F7B-2C3E2655B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12520-0BEE-4B31-9ACD-E28A23826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E8738E-D92F-4BDA-8520-A1F61965BA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9B5D24-7E1B-4A1C-BEF6-D918E43B18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FFEF9-9509-44C4-AA1B-C72C3A74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3122-262D-4100-B77D-7D5B4912E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C3887-DA73-4FCA-91F1-92624A20A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EBCE-9EBB-4809-A71B-EE916C07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C4B5-9C1A-4F89-8DCE-5E289697A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99D7-76DC-416A-A629-1E28E0B31955}"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E808-CA02-4821-8847-812D20F99ED8}"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041-4CCE-4BDF-BCA1-002F4649B1D0}"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AD9B-1BC0-43AE-A528-A605F1A7DEEB}"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C202-22CE-4175-BA61-B5A78AF7A607}"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757F-F396-4413-9FF6-E8AE044947AF}"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8610-DE8D-442F-964F-9243102BA66A}"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br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REAL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NOMINAL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115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1152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979640" y="3789360"/>
            <a:ext cx="1009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513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971640" y="3573360"/>
            <a:ext cx="216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2160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4112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 </cp:lastModifiedBy>
  <dcterms:modified xsi:type="dcterms:W3CDTF">2009-10-21T16:16:56Z</dcterms:modified>
  <cp:revision>129</cp:revision>
  <dc:subject/>
  <dc:title>Diapositiva 1</dc:title>
</cp:coreProperties>
</file>