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0C4-8B61-4EF8-B293-3D88C95C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115-2D5A-4B9F-8E20-CF440497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46A-82C2-457F-8EE8-D37CC88C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D2D-1376-46CE-95EB-87D1437E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0339-8055-4F2F-B123-52E339ED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BE3D-EC33-4E1D-ACA6-7C790DD3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24A1-2CDA-49C0-909D-3AB84AB6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B3D6-3EDA-4268-8C52-87440E03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2A0A-EF67-400A-BFC4-4144B062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E25C-B275-4238-8CEB-8D8ED359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5CBB-0078-4ABD-9BCF-4CBECE98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2AC-E859-40F7-8794-A6343104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9539-B620-4FC3-BBDF-803386D5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62E0-AA9F-47F5-94A2-6DE95ACE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AB96-4935-4EB4-B693-E23C2078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2D44-CE2D-4A87-BAE7-42679459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5EAE-1787-407E-A0E7-2C4BE2C8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9B93-838D-4409-AAAA-4F1A6F63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68DAD-268C-4523-9BB9-ABB66222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6FAEE-985E-4968-B144-1E571B2A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6954C-8154-4A5D-9190-32516F70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0C014-074E-4C2A-8835-7388CB3C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8CF-CA75-4262-8F51-198D7A2E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61CA5-DF2D-484D-A852-26C860A7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5473-BFF5-4918-8187-93F9414B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7DDF-DC9D-4164-AEA4-8ECC815A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802BF-2416-4489-B495-3F82FC80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8AC2A-2ED3-4BDB-9E39-0A6B6A9D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DC39-3A29-4888-B6E5-6BFE272F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2053D-9F2F-4CEF-B9A3-1801E1D5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8C273-31AD-4DC8-9BDF-27E3F5EC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FE5AE-6634-46B6-B7A8-E523EDBD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A4626-EC1B-470F-AB26-4023EED0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A8A-0E1C-41D5-BEA1-FA1B6172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ED592-A87B-44C3-B3A6-FFD09809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C7CDA-1500-4CAE-B0DB-D3E31081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A4E7A-B3E4-481A-9D61-FAAB9B5B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0983-9A50-49B3-AD9D-FA3509BE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E3E71-29EB-4AE7-9616-D7C36995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995FE-9BCA-4A6D-BB4B-7F78CF59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C73FB-22D6-4789-83D6-83C5D263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B3DA5-A53E-4E0E-95B8-FE2E03A1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C9544-E1D6-4C7E-B2AB-E360F1CC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1BC-96A1-41C4-96CE-B5927805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973-38DC-4ED4-9A32-9C0FE3CC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9F5-82E9-4464-A3CE-1272B92D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829-8DBA-4B0B-BD06-3F82CDC0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D73-28F0-44F1-B281-F1169C5E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CD6A-7247-4C84-8F9A-9E81CE53B34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BDE6-718D-42C6-8F67-0CE5FBD7BAE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3A42-736F-4895-84D2-9ADF2DFFAC6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39A5-6A1A-4D5C-9CD7-93E5D9D11CA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Segundo Semestre 2009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Producto Interno Bruto (PIB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ducto Interno Bruto (PIB)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el valor de mercado de todos los bienes y servicios finales producidos en un país durante un período de tiempo determinad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práctica es la medida de los ingresos y gastos de una economía y constituye una herramienta que permite medir el bienestar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Desglose de la definición de PIB (1/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valor de mercado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unidad de comparación es la unidad mone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tod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rata de ser exhaustivo e incluir todos los bienes y servicios que están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en el mercado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e excluyen bienes y servicios producidos o prestados para consumo propio o de la familia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gualmente se excluyen bienes comercializados ilegalment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bienes y servici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ienes físicos e intangib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Desglose de la definición de PIB (2/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inale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oposición a los intermedio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id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se cuentan las existencias de arrast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 paí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ndependientemente de la nacionalidad del product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urante un período de tiempo determinado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eneralmente trimestral o anualm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Componentes del PIB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ecuación del PIB es la siguient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100" spc="-1" strike="noStrike">
                <a:solidFill>
                  <a:srgbClr val="000000"/>
                </a:solidFill>
                <a:latin typeface="Constantia"/>
              </a:rPr>
              <a:t>Y= C+I+G+NX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I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sumo privado.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 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nversión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asto del Gobier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X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xportaciones net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Consumo privado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de los hogares en bienes y servicios con la excepción de las compras de nuevas viviend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rsión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en equipos de capital, existencia y estructuras, incluidas las compras de viviendas nuevas por parte de los hogar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Gasto del Gobierno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de la administración central y de las administraciones regionales y locales en bienes y servici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xportaciones net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on las compras hechas en el extranjero de bienes o servicios producidos en Chile (exportaciones) menos las compras hechas en Chile de bienes o servicios producidos en el extranjero (Importacione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PIB Nominal 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v/s </a:t>
            </a: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PIB Re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umento del PIB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uede deberse 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o del producto (mas bienes y servicios transado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o del precio del produc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IB Nominal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la producción de bienes y servicios valorada a </a:t>
            </a:r>
            <a:r>
              <a:rPr b="0" i="1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recios vigentes o corrien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IB Real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la producción de bienes y servicios valorada a </a:t>
            </a:r>
            <a:r>
              <a:rPr b="0" i="1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recios constan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Precios y Cantidades Producid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935000"/>
          <a:ext cx="8229600" cy="1482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cio bie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Q del bie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cio bie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Q del bie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Cálculo del PIB Nomin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935000"/>
          <a:ext cx="8229600" cy="1482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A x Q d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335" name="Rectangle 6"/>
          <p:cNvSpPr/>
          <p:nvPr/>
        </p:nvSpPr>
        <p:spPr>
          <a:xfrm>
            <a:off x="838080" y="3733920"/>
            <a:ext cx="701064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hora que tenemos el PIB Nominal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o determinamos el PIB Real a partir de estos datos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nemos que determinar un año base (de referencia) para saber  cuales serán nuestros “</a:t>
            </a: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precios constant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Cálculo del PIB Real (año base 2001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935000"/>
          <a:ext cx="8229600" cy="1752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A (2001) x Q d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 (2001)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deflactor del PIB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deflactor del PIB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 indicador del precios que se calcula dividiendo el PIB nominal por el PIB real y multiplicando el resultado por 10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ide el nivel actual de precios en relación con el nivel de precios del año b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3520" y="4267080"/>
          <a:ext cx="7924680" cy="19051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 u="sng">
                          <a:solidFill>
                            <a:srgbClr val="ffffff"/>
                          </a:solidFill>
                          <a:uFillTx/>
                          <a:latin typeface="Constantia"/>
                        </a:rPr>
                        <a:t>PIB Nominal</a:t>
                      </a: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 Re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 (2001)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200/20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600/35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1200/50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4617b"/>
                </a:solidFill>
                <a:latin typeface="Calibri"/>
              </a:rPr>
              <a:t>Microeconomía vs. Macroeconomí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icroeconom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el estudio de la forma en que los hogares y las empresas toman sus decisiones e interactúan en mercados específic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acroeconom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el estudio de los fenómenos que afectan al conjunto de la economía, tales como la inflación, el desempleo y el crecimiento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PIB y el bienestar económic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es el mejor indicador del bienestar económico de un paí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dividido por el número de habitantes nos da el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IB per cápi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nos permite conocer, por tanto, el ingreso y gasto del hombre medio de una socie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IB per cápita mas alto, significa un estándar de vida mas al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Cosas que no mide el PIB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bienestar derivado del oc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tividades que se realizan fuera de los mercados form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ividades ileg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ividades en el hog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ras de car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lidad del medio ambi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quidad en la distribución de las ren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Resume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gasto total de la sociedad debe ser igual a su ren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de la sociedad se divide en cuatro componentes esenciales: Consumo, Inversión, Gasto y Exportaciones Ne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nominal es distinto del PIB re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es un buen indicador del bienestar económico pero no es perfe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Objetivos Macroeconómic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recimiento económico sosteni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dad en el nivel de preci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to nivel de empleabi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Preguntas que intenta responder la macroeconomí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r que hay países en que el ingreso per cápita es mayor que en otr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r que hay períodos en que los precios se incrementan rápidamente y otros en que los precios se mantienen estab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r que la producción y el empleo se expanden algunos años y se contraen otr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Instrumentos de la política económic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olítica fis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ablecimiento de tribu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asto públic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olítica moneta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asa mone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asas de interé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Formas de intervención del Estado en la Economí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ie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Product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mpresas d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veye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Proveed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icitaciones, Concesiones, </a:t>
            </a: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Outsourcing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gula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Regulad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mpuestos, subsidios, cuotas de producción, fijación de precios, reglamentos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Objetivos del Estad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Eficiencia productiv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Equidad en la distribución de los recurs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es del Estad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Asigna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Cuando hay fallas de mercado y, por lo mismo, el mercado no es capaz de lograr una asignación eficiente de recurs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Distribu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Esencialmente resolver el problema de la pobrez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Estabiliza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La renta y el gasto de la economí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saber como le va a una economía determinada uno mi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la renta total que ganan todos los miembros de la mis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hora bien, en una economía en su conjunto,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la renta debe ser igual al gas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or las siguientes razon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da operación tiene dos partes interes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da peso que gana un vendedor es un peso que gasta un comprad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E:\Mankiw\Mankiw PPT\narrow aqua button bckgrd.jpg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3" descr=""/>
          <p:cNvPicPr/>
          <p:nvPr/>
        </p:nvPicPr>
        <p:blipFill>
          <a:blip r:embed="rId2"/>
          <a:stretch/>
        </p:blipFill>
        <p:spPr>
          <a:xfrm>
            <a:off x="603360" y="42840"/>
            <a:ext cx="8242200" cy="700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3f6f9"/>
          </a:solidFill>
          <a:ln w="14760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2f4f8"/>
          </a:solidFill>
          <a:ln w="13500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1f4f7"/>
          </a:solidFill>
          <a:ln w="12060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0f2f5"/>
          </a:solidFill>
          <a:ln w="10800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ef1f4"/>
          </a:solidFill>
          <a:ln w="9360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deff3"/>
          </a:solidFill>
          <a:ln w="8100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beef2"/>
          </a:solidFill>
          <a:ln w="6660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aecf1"/>
          </a:solidFill>
          <a:ln w="5400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9ebf0"/>
          </a:solidFill>
          <a:ln w="396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7eaef"/>
          </a:solidFill>
          <a:ln w="2700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6e9ef"/>
          </a:solidFill>
          <a:ln w="1260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1676520" y="1219320"/>
            <a:ext cx="5803920" cy="52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2460600" y="1847880"/>
            <a:ext cx="1195560" cy="1224000"/>
            <a:chOff x="2460600" y="1847880"/>
            <a:chExt cx="1195560" cy="1224000"/>
          </a:xfrm>
        </p:grpSpPr>
        <p:sp>
          <p:nvSpPr>
            <p:cNvPr id="226" name="Freeform 18"/>
            <p:cNvSpPr/>
            <p:nvPr/>
          </p:nvSpPr>
          <p:spPr>
            <a:xfrm>
              <a:off x="2527200" y="1847880"/>
              <a:ext cx="1128960" cy="1062000"/>
            </a:xfrm>
            <a:prstGeom prst="pie">
              <a:avLst/>
            </a:pr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>
              <a:off x="2460600" y="2855880"/>
              <a:ext cx="135000" cy="216000"/>
            </a:xfrm>
            <a:prstGeom prst="pie">
              <a:avLst/>
            </a:pr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28" name="Group 20"/>
          <p:cNvGrpSpPr/>
          <p:nvPr/>
        </p:nvGrpSpPr>
        <p:grpSpPr>
          <a:xfrm>
            <a:off x="2743200" y="1995480"/>
            <a:ext cx="925560" cy="1076400"/>
            <a:chOff x="2743200" y="1995480"/>
            <a:chExt cx="925560" cy="1076400"/>
          </a:xfrm>
        </p:grpSpPr>
        <p:sp>
          <p:nvSpPr>
            <p:cNvPr id="229" name="Freeform 21"/>
            <p:cNvSpPr/>
            <p:nvPr/>
          </p:nvSpPr>
          <p:spPr>
            <a:xfrm>
              <a:off x="2743200" y="2062080"/>
              <a:ext cx="765000" cy="1009800"/>
            </a:xfrm>
            <a:prstGeom prst="pie">
              <a:avLst/>
            </a:pr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3454560" y="1995480"/>
              <a:ext cx="214200" cy="135000"/>
            </a:xfrm>
            <a:prstGeom prst="pie">
              <a:avLst/>
            </a:pr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1" name="Group 23"/>
          <p:cNvGrpSpPr/>
          <p:nvPr/>
        </p:nvGrpSpPr>
        <p:grpSpPr>
          <a:xfrm>
            <a:off x="2527200" y="4106880"/>
            <a:ext cx="1128960" cy="1303200"/>
            <a:chOff x="2527200" y="4106880"/>
            <a:chExt cx="1128960" cy="1303200"/>
          </a:xfrm>
        </p:grpSpPr>
        <p:sp>
          <p:nvSpPr>
            <p:cNvPr id="232" name="Freeform 24"/>
            <p:cNvSpPr/>
            <p:nvPr/>
          </p:nvSpPr>
          <p:spPr>
            <a:xfrm>
              <a:off x="2527200" y="4106880"/>
              <a:ext cx="981000" cy="1236600"/>
            </a:xfrm>
            <a:prstGeom prst="pie">
              <a:avLst/>
            </a:pr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3441600" y="5276880"/>
              <a:ext cx="214560" cy="133200"/>
            </a:xfrm>
            <a:prstGeom prst="pie">
              <a:avLst/>
            </a:pr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2674800" y="4133880"/>
            <a:ext cx="981360" cy="995400"/>
            <a:chOff x="2674800" y="4133880"/>
            <a:chExt cx="981360" cy="995400"/>
          </a:xfrm>
        </p:grpSpPr>
        <p:sp>
          <p:nvSpPr>
            <p:cNvPr id="235" name="Freeform 27"/>
            <p:cNvSpPr/>
            <p:nvPr/>
          </p:nvSpPr>
          <p:spPr>
            <a:xfrm>
              <a:off x="2743200" y="4281480"/>
              <a:ext cx="912960" cy="847800"/>
            </a:xfrm>
            <a:prstGeom prst="pie">
              <a:avLst/>
            </a:pr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2674800" y="4133880"/>
              <a:ext cx="135000" cy="214200"/>
            </a:xfrm>
            <a:prstGeom prst="pie">
              <a:avLst/>
            </a:pr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7" name="Group 29"/>
          <p:cNvGrpSpPr/>
          <p:nvPr/>
        </p:nvGrpSpPr>
        <p:grpSpPr>
          <a:xfrm>
            <a:off x="5468760" y="1781280"/>
            <a:ext cx="1008360" cy="1290600"/>
            <a:chOff x="5468760" y="1781280"/>
            <a:chExt cx="1008360" cy="1290600"/>
          </a:xfrm>
        </p:grpSpPr>
        <p:sp>
          <p:nvSpPr>
            <p:cNvPr id="238" name="Freeform 30"/>
            <p:cNvSpPr/>
            <p:nvPr/>
          </p:nvSpPr>
          <p:spPr>
            <a:xfrm>
              <a:off x="5630760" y="1847880"/>
              <a:ext cx="846360" cy="1224000"/>
            </a:xfrm>
            <a:prstGeom prst="pie">
              <a:avLst/>
            </a:pr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5468760" y="1781280"/>
              <a:ext cx="216000" cy="133200"/>
            </a:xfrm>
            <a:prstGeom prst="pie">
              <a:avLst/>
            </a:pr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5456160" y="2062080"/>
            <a:ext cx="858960" cy="1009800"/>
            <a:chOff x="5456160" y="2062080"/>
            <a:chExt cx="858960" cy="1009800"/>
          </a:xfrm>
        </p:grpSpPr>
        <p:sp>
          <p:nvSpPr>
            <p:cNvPr id="241" name="Freeform 33"/>
            <p:cNvSpPr/>
            <p:nvPr/>
          </p:nvSpPr>
          <p:spPr>
            <a:xfrm>
              <a:off x="5456160" y="2062080"/>
              <a:ext cx="804960" cy="847800"/>
            </a:xfrm>
            <a:prstGeom prst="pie">
              <a:avLst/>
            </a:pr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6194520" y="2855880"/>
              <a:ext cx="120600" cy="216000"/>
            </a:xfrm>
            <a:prstGeom prst="pie">
              <a:avLst/>
            </a:pr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3" name="Group 35"/>
          <p:cNvGrpSpPr/>
          <p:nvPr/>
        </p:nvGrpSpPr>
        <p:grpSpPr>
          <a:xfrm>
            <a:off x="5468760" y="4119480"/>
            <a:ext cx="1062360" cy="1224000"/>
            <a:chOff x="5468760" y="4119480"/>
            <a:chExt cx="1062360" cy="1224000"/>
          </a:xfrm>
        </p:grpSpPr>
        <p:sp>
          <p:nvSpPr>
            <p:cNvPr id="244" name="Freeform 36"/>
            <p:cNvSpPr/>
            <p:nvPr/>
          </p:nvSpPr>
          <p:spPr>
            <a:xfrm>
              <a:off x="5468760" y="4281480"/>
              <a:ext cx="1008360" cy="1062000"/>
            </a:xfrm>
            <a:prstGeom prst="pie">
              <a:avLst/>
            </a:pr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6408720" y="4119480"/>
              <a:ext cx="122400" cy="216000"/>
            </a:xfrm>
            <a:prstGeom prst="pie">
              <a:avLst/>
            </a:pr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5468760" y="4119480"/>
            <a:ext cx="792360" cy="1076400"/>
            <a:chOff x="5468760" y="4119480"/>
            <a:chExt cx="792360" cy="1076400"/>
          </a:xfrm>
        </p:grpSpPr>
        <p:sp>
          <p:nvSpPr>
            <p:cNvPr id="247" name="Freeform 39"/>
            <p:cNvSpPr/>
            <p:nvPr/>
          </p:nvSpPr>
          <p:spPr>
            <a:xfrm>
              <a:off x="5630760" y="4119480"/>
              <a:ext cx="630360" cy="1009800"/>
            </a:xfrm>
            <a:prstGeom prst="pie">
              <a:avLst/>
            </a:pr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8" name="Freeform 40"/>
            <p:cNvSpPr/>
            <p:nvPr/>
          </p:nvSpPr>
          <p:spPr>
            <a:xfrm>
              <a:off x="5468760" y="5060880"/>
              <a:ext cx="216000" cy="135000"/>
            </a:xfrm>
            <a:prstGeom prst="pie">
              <a:avLst/>
            </a:pr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9" name="Line 41"/>
          <p:cNvSpPr/>
          <p:nvPr/>
        </p:nvSpPr>
        <p:spPr>
          <a:xfrm>
            <a:off x="5603760" y="5719680"/>
            <a:ext cx="268560" cy="1800"/>
          </a:xfrm>
          <a:prstGeom prst="line">
            <a:avLst/>
          </a:prstGeom>
          <a:ln w="12600">
            <a:solidFill>
              <a:srgbClr val="e17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Freeform 42"/>
          <p:cNvSpPr/>
          <p:nvPr/>
        </p:nvSpPr>
        <p:spPr>
          <a:xfrm>
            <a:off x="5818320" y="5653080"/>
            <a:ext cx="215640" cy="135000"/>
          </a:xfrm>
          <a:prstGeom prst="pie">
            <a:avLst/>
          </a:prstGeom>
          <a:solidFill>
            <a:srgbClr val="e17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Line 43"/>
          <p:cNvSpPr/>
          <p:nvPr/>
        </p:nvSpPr>
        <p:spPr>
          <a:xfrm>
            <a:off x="5603760" y="6110280"/>
            <a:ext cx="268560" cy="1440"/>
          </a:xfrm>
          <a:prstGeom prst="line">
            <a:avLst/>
          </a:prstGeom>
          <a:ln w="12600">
            <a:solidFill>
              <a:srgbClr val="75bc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Freeform 44"/>
          <p:cNvSpPr/>
          <p:nvPr/>
        </p:nvSpPr>
        <p:spPr>
          <a:xfrm>
            <a:off x="5818320" y="6041880"/>
            <a:ext cx="215640" cy="135000"/>
          </a:xfrm>
          <a:prstGeom prst="pie">
            <a:avLst/>
          </a:prstGeom>
          <a:solidFill>
            <a:srgbClr val="75b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Rectangle 45"/>
          <p:cNvSpPr/>
          <p:nvPr/>
        </p:nvSpPr>
        <p:spPr>
          <a:xfrm>
            <a:off x="5642640" y="1600200"/>
            <a:ext cx="73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Gasto (=PIB)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4" name="Group 46"/>
          <p:cNvGrpSpPr/>
          <p:nvPr/>
        </p:nvGrpSpPr>
        <p:grpSpPr>
          <a:xfrm>
            <a:off x="5538960" y="2062080"/>
            <a:ext cx="583920" cy="478080"/>
            <a:chOff x="5538960" y="2062080"/>
            <a:chExt cx="583920" cy="478080"/>
          </a:xfrm>
        </p:grpSpPr>
        <p:sp>
          <p:nvSpPr>
            <p:cNvPr id="255" name="Rectangle 47"/>
            <p:cNvSpPr/>
            <p:nvPr/>
          </p:nvSpPr>
          <p:spPr>
            <a:xfrm>
              <a:off x="5538960" y="206208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Rectangle 48"/>
            <p:cNvSpPr/>
            <p:nvPr/>
          </p:nvSpPr>
          <p:spPr>
            <a:xfrm>
              <a:off x="5538960" y="2224080"/>
              <a:ext cx="49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7" name="Rectangle 49"/>
            <p:cNvSpPr/>
            <p:nvPr/>
          </p:nvSpPr>
          <p:spPr>
            <a:xfrm>
              <a:off x="5540040" y="2387520"/>
              <a:ext cx="58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adquirid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58" name="Rectangle 50"/>
          <p:cNvSpPr/>
          <p:nvPr/>
        </p:nvSpPr>
        <p:spPr>
          <a:xfrm>
            <a:off x="2823480" y="1600200"/>
            <a:ext cx="81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greso (=PIB)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9" name="Group 51"/>
          <p:cNvGrpSpPr/>
          <p:nvPr/>
        </p:nvGrpSpPr>
        <p:grpSpPr>
          <a:xfrm>
            <a:off x="2999880" y="2070000"/>
            <a:ext cx="594720" cy="478080"/>
            <a:chOff x="2999880" y="2070000"/>
            <a:chExt cx="594720" cy="478080"/>
          </a:xfrm>
        </p:grpSpPr>
        <p:sp>
          <p:nvSpPr>
            <p:cNvPr id="260" name="Rectangle 52"/>
            <p:cNvSpPr/>
            <p:nvPr/>
          </p:nvSpPr>
          <p:spPr>
            <a:xfrm>
              <a:off x="2999880" y="20700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1" name="Rectangle 53"/>
            <p:cNvSpPr/>
            <p:nvPr/>
          </p:nvSpPr>
          <p:spPr>
            <a:xfrm>
              <a:off x="3000960" y="2232000"/>
              <a:ext cx="59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servici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2" name="Rectangle 54"/>
            <p:cNvSpPr/>
            <p:nvPr/>
          </p:nvSpPr>
          <p:spPr>
            <a:xfrm>
              <a:off x="3000240" y="239544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did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3" name="Group 55"/>
          <p:cNvGrpSpPr/>
          <p:nvPr/>
        </p:nvGrpSpPr>
        <p:grpSpPr>
          <a:xfrm>
            <a:off x="5338080" y="4648320"/>
            <a:ext cx="821880" cy="316080"/>
            <a:chOff x="5338080" y="4648320"/>
            <a:chExt cx="821880" cy="316080"/>
          </a:xfrm>
        </p:grpSpPr>
        <p:sp>
          <p:nvSpPr>
            <p:cNvPr id="264" name="Rectangle 56"/>
            <p:cNvSpPr/>
            <p:nvPr/>
          </p:nvSpPr>
          <p:spPr>
            <a:xfrm>
              <a:off x="5338080" y="4648320"/>
              <a:ext cx="821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rabajo, tierr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5" name="Rectangle 57"/>
            <p:cNvSpPr/>
            <p:nvPr/>
          </p:nvSpPr>
          <p:spPr>
            <a:xfrm>
              <a:off x="5364360" y="4811760"/>
              <a:ext cx="49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capit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.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66" name="Rectangle 58"/>
          <p:cNvSpPr/>
          <p:nvPr/>
        </p:nvSpPr>
        <p:spPr>
          <a:xfrm>
            <a:off x="5626800" y="5356080"/>
            <a:ext cx="81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greso (=PIB)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Rectangle 59"/>
          <p:cNvSpPr/>
          <p:nvPr/>
        </p:nvSpPr>
        <p:spPr>
          <a:xfrm>
            <a:off x="6128280" y="5621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Rectangle 60"/>
          <p:cNvSpPr/>
          <p:nvPr/>
        </p:nvSpPr>
        <p:spPr>
          <a:xfrm>
            <a:off x="6163920" y="5653080"/>
            <a:ext cx="100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 factores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Rectangle 61"/>
          <p:cNvSpPr/>
          <p:nvPr/>
        </p:nvSpPr>
        <p:spPr>
          <a:xfrm>
            <a:off x="6023520" y="57848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Rectangle 62"/>
          <p:cNvSpPr/>
          <p:nvPr/>
        </p:nvSpPr>
        <p:spPr>
          <a:xfrm>
            <a:off x="6271920" y="581652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y productos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63"/>
          <p:cNvSpPr/>
          <p:nvPr/>
        </p:nvSpPr>
        <p:spPr>
          <a:xfrm>
            <a:off x="6128280" y="5979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Rectangle 64"/>
          <p:cNvSpPr/>
          <p:nvPr/>
        </p:nvSpPr>
        <p:spPr>
          <a:xfrm>
            <a:off x="6165000" y="6012000"/>
            <a:ext cx="90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 diner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73" name="Group 65"/>
          <p:cNvGrpSpPr/>
          <p:nvPr/>
        </p:nvGrpSpPr>
        <p:grpSpPr>
          <a:xfrm>
            <a:off x="2897640" y="4648320"/>
            <a:ext cx="685080" cy="314280"/>
            <a:chOff x="2897640" y="4648320"/>
            <a:chExt cx="685080" cy="314280"/>
          </a:xfrm>
        </p:grpSpPr>
        <p:sp>
          <p:nvSpPr>
            <p:cNvPr id="274" name="Rectangle 66"/>
            <p:cNvSpPr/>
            <p:nvPr/>
          </p:nvSpPr>
          <p:spPr>
            <a:xfrm>
              <a:off x="2913120" y="464832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5" name="Rectangle 67"/>
            <p:cNvSpPr/>
            <p:nvPr/>
          </p:nvSpPr>
          <p:spPr>
            <a:xfrm>
              <a:off x="2897640" y="480996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6" name="Group 68"/>
          <p:cNvGrpSpPr/>
          <p:nvPr/>
        </p:nvGrpSpPr>
        <p:grpSpPr>
          <a:xfrm>
            <a:off x="2625120" y="5356080"/>
            <a:ext cx="1101960" cy="314640"/>
            <a:chOff x="2625120" y="5356080"/>
            <a:chExt cx="1101960" cy="314640"/>
          </a:xfrm>
        </p:grpSpPr>
        <p:sp>
          <p:nvSpPr>
            <p:cNvPr id="277" name="Rectangle 69"/>
            <p:cNvSpPr/>
            <p:nvPr/>
          </p:nvSpPr>
          <p:spPr>
            <a:xfrm>
              <a:off x="2626200" y="5356080"/>
              <a:ext cx="110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alarios, alquilere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8" name="Rectangle 70"/>
            <p:cNvSpPr/>
            <p:nvPr/>
          </p:nvSpPr>
          <p:spPr>
            <a:xfrm>
              <a:off x="2625120" y="5518080"/>
              <a:ext cx="106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beneficios (=PIB)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79" name="Rectangle 71"/>
          <p:cNvSpPr/>
          <p:nvPr/>
        </p:nvSpPr>
        <p:spPr>
          <a:xfrm>
            <a:off x="2243520" y="3535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72"/>
          <p:cNvSpPr/>
          <p:nvPr/>
        </p:nvSpPr>
        <p:spPr>
          <a:xfrm>
            <a:off x="2199240" y="3697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Rectangle 73"/>
          <p:cNvSpPr/>
          <p:nvPr/>
        </p:nvSpPr>
        <p:spPr>
          <a:xfrm>
            <a:off x="2243520" y="3860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74"/>
          <p:cNvSpPr/>
          <p:nvPr/>
        </p:nvSpPr>
        <p:spPr>
          <a:xfrm>
            <a:off x="2199240" y="4022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83" name="Group 75"/>
          <p:cNvGrpSpPr/>
          <p:nvPr/>
        </p:nvGrpSpPr>
        <p:grpSpPr>
          <a:xfrm>
            <a:off x="1816200" y="3071880"/>
            <a:ext cx="1652400" cy="1035000"/>
            <a:chOff x="1816200" y="3071880"/>
            <a:chExt cx="1652400" cy="1035000"/>
          </a:xfrm>
        </p:grpSpPr>
        <p:sp>
          <p:nvSpPr>
            <p:cNvPr id="284" name="Rectangle 76"/>
            <p:cNvSpPr/>
            <p:nvPr/>
          </p:nvSpPr>
          <p:spPr>
            <a:xfrm>
              <a:off x="1816200" y="3071880"/>
              <a:ext cx="1652400" cy="1035000"/>
            </a:xfrm>
            <a:prstGeom prst="rect">
              <a:avLst/>
            </a:prstGeom>
            <a:solidFill>
              <a:srgbClr val="b4d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5" name="Rectangle 77"/>
            <p:cNvSpPr/>
            <p:nvPr/>
          </p:nvSpPr>
          <p:spPr>
            <a:xfrm>
              <a:off x="2288520" y="312408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mpresa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6" name="Rectangle 78"/>
            <p:cNvSpPr/>
            <p:nvPr/>
          </p:nvSpPr>
          <p:spPr>
            <a:xfrm>
              <a:off x="2067120" y="3286080"/>
              <a:ext cx="113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roducen y vende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7" name="Rectangle 79"/>
            <p:cNvSpPr/>
            <p:nvPr/>
          </p:nvSpPr>
          <p:spPr>
            <a:xfrm>
              <a:off x="2107440" y="3429000"/>
              <a:ext cx="101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8" name="Rectangle 80"/>
            <p:cNvSpPr/>
            <p:nvPr/>
          </p:nvSpPr>
          <p:spPr>
            <a:xfrm>
              <a:off x="2060640" y="3581280"/>
              <a:ext cx="10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ntratan y usa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9" name="Rectangle 81"/>
            <p:cNvSpPr/>
            <p:nvPr/>
          </p:nvSpPr>
          <p:spPr>
            <a:xfrm>
              <a:off x="2115360" y="3733920"/>
              <a:ext cx="132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 producció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90" name="Rectangle 82"/>
          <p:cNvSpPr/>
          <p:nvPr/>
        </p:nvSpPr>
        <p:spPr>
          <a:xfrm>
            <a:off x="5628240" y="3535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83"/>
          <p:cNvSpPr/>
          <p:nvPr/>
        </p:nvSpPr>
        <p:spPr>
          <a:xfrm>
            <a:off x="5583600" y="3697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Rectangle 84"/>
          <p:cNvSpPr/>
          <p:nvPr/>
        </p:nvSpPr>
        <p:spPr>
          <a:xfrm>
            <a:off x="5628240" y="3860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Rectangle 85"/>
          <p:cNvSpPr/>
          <p:nvPr/>
        </p:nvSpPr>
        <p:spPr>
          <a:xfrm>
            <a:off x="5583600" y="4022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94" name="Group 86"/>
          <p:cNvGrpSpPr/>
          <p:nvPr/>
        </p:nvGrpSpPr>
        <p:grpSpPr>
          <a:xfrm>
            <a:off x="5537160" y="3071880"/>
            <a:ext cx="1650960" cy="1035000"/>
            <a:chOff x="5537160" y="3071880"/>
            <a:chExt cx="1650960" cy="1035000"/>
          </a:xfrm>
        </p:grpSpPr>
        <p:sp>
          <p:nvSpPr>
            <p:cNvPr id="295" name="Rectangle 87"/>
            <p:cNvSpPr/>
            <p:nvPr/>
          </p:nvSpPr>
          <p:spPr>
            <a:xfrm>
              <a:off x="5537160" y="3071880"/>
              <a:ext cx="1650960" cy="1035000"/>
            </a:xfrm>
            <a:prstGeom prst="rect">
              <a:avLst/>
            </a:prstGeom>
            <a:solidFill>
              <a:srgbClr val="b4d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6" name="Rectangle 88"/>
            <p:cNvSpPr/>
            <p:nvPr/>
          </p:nvSpPr>
          <p:spPr>
            <a:xfrm>
              <a:off x="5720760" y="3276720"/>
              <a:ext cx="131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mpran y consume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7" name="Rectangle 89"/>
            <p:cNvSpPr/>
            <p:nvPr/>
          </p:nvSpPr>
          <p:spPr>
            <a:xfrm>
              <a:off x="5795280" y="3429000"/>
              <a:ext cx="101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8" name="Rectangle 90"/>
            <p:cNvSpPr/>
            <p:nvPr/>
          </p:nvSpPr>
          <p:spPr>
            <a:xfrm>
              <a:off x="5718240" y="3581280"/>
              <a:ext cx="101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ienen y vende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9" name="Rectangle 91"/>
            <p:cNvSpPr/>
            <p:nvPr/>
          </p:nvSpPr>
          <p:spPr>
            <a:xfrm>
              <a:off x="5719680" y="3733920"/>
              <a:ext cx="139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 producció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0" name="Rectangle 92"/>
            <p:cNvSpPr/>
            <p:nvPr/>
          </p:nvSpPr>
          <p:spPr>
            <a:xfrm>
              <a:off x="6097320" y="312408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amilia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01" name="Rectangle 93"/>
          <p:cNvSpPr/>
          <p:nvPr/>
        </p:nvSpPr>
        <p:spPr>
          <a:xfrm>
            <a:off x="4115160" y="53481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Rectangle 94"/>
          <p:cNvSpPr/>
          <p:nvPr/>
        </p:nvSpPr>
        <p:spPr>
          <a:xfrm>
            <a:off x="4115160" y="5511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3" name="Group 95"/>
          <p:cNvGrpSpPr/>
          <p:nvPr/>
        </p:nvGrpSpPr>
        <p:grpSpPr>
          <a:xfrm>
            <a:off x="3656160" y="4591080"/>
            <a:ext cx="1827000" cy="1290600"/>
            <a:chOff x="3656160" y="4591080"/>
            <a:chExt cx="1827000" cy="1290600"/>
          </a:xfrm>
        </p:grpSpPr>
        <p:sp>
          <p:nvSpPr>
            <p:cNvPr id="304" name="Oval 96"/>
            <p:cNvSpPr/>
            <p:nvPr/>
          </p:nvSpPr>
          <p:spPr>
            <a:xfrm>
              <a:off x="3656160" y="4591080"/>
              <a:ext cx="1827000" cy="1290600"/>
            </a:xfrm>
            <a:prstGeom prst="ellipse">
              <a:avLst/>
            </a:prstGeom>
            <a:solidFill>
              <a:srgbClr val="fa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5" name="Rectangle 97"/>
            <p:cNvSpPr/>
            <p:nvPr/>
          </p:nvSpPr>
          <p:spPr>
            <a:xfrm>
              <a:off x="4120200" y="5334120"/>
              <a:ext cx="96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milias vende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6" name="Rectangle 98"/>
            <p:cNvSpPr/>
            <p:nvPr/>
          </p:nvSpPr>
          <p:spPr>
            <a:xfrm>
              <a:off x="4119840" y="5486400"/>
              <a:ext cx="114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mpresas compra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307" name="Group 99"/>
            <p:cNvGrpSpPr/>
            <p:nvPr/>
          </p:nvGrpSpPr>
          <p:grpSpPr>
            <a:xfrm>
              <a:off x="3891960" y="4876920"/>
              <a:ext cx="1294560" cy="457560"/>
              <a:chOff x="3891960" y="4876920"/>
              <a:chExt cx="1294560" cy="457560"/>
            </a:xfrm>
          </p:grpSpPr>
          <p:sp>
            <p:nvSpPr>
              <p:cNvPr id="308" name="Rectangle 100"/>
              <p:cNvSpPr/>
              <p:nvPr/>
            </p:nvSpPr>
            <p:spPr>
              <a:xfrm>
                <a:off x="4270680" y="4876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Mercados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309" name="Rectangle 101"/>
              <p:cNvSpPr/>
              <p:nvPr/>
            </p:nvSpPr>
            <p:spPr>
              <a:xfrm>
                <a:off x="4496040" y="50292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de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310" name="Rectangle 102"/>
              <p:cNvSpPr/>
              <p:nvPr/>
            </p:nvSpPr>
            <p:spPr>
              <a:xfrm>
                <a:off x="3891960" y="5181840"/>
                <a:ext cx="1294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Factores Productivos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11" name="Rectangle 103"/>
          <p:cNvSpPr/>
          <p:nvPr/>
        </p:nvSpPr>
        <p:spPr>
          <a:xfrm>
            <a:off x="4115160" y="2343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Rectangle 104"/>
          <p:cNvSpPr/>
          <p:nvPr/>
        </p:nvSpPr>
        <p:spPr>
          <a:xfrm>
            <a:off x="4115160" y="2505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13" name="Group 105"/>
          <p:cNvGrpSpPr/>
          <p:nvPr/>
        </p:nvGrpSpPr>
        <p:grpSpPr>
          <a:xfrm>
            <a:off x="3656160" y="1309680"/>
            <a:ext cx="1827000" cy="1278000"/>
            <a:chOff x="3656160" y="1309680"/>
            <a:chExt cx="1827000" cy="1278000"/>
          </a:xfrm>
        </p:grpSpPr>
        <p:sp>
          <p:nvSpPr>
            <p:cNvPr id="314" name="Oval 106"/>
            <p:cNvSpPr/>
            <p:nvPr/>
          </p:nvSpPr>
          <p:spPr>
            <a:xfrm>
              <a:off x="3656160" y="1309680"/>
              <a:ext cx="1827000" cy="1278000"/>
            </a:xfrm>
            <a:prstGeom prst="ellipse">
              <a:avLst/>
            </a:prstGeom>
            <a:solidFill>
              <a:srgbClr val="fa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5" name="Rectangle 107"/>
            <p:cNvSpPr/>
            <p:nvPr/>
          </p:nvSpPr>
          <p:spPr>
            <a:xfrm>
              <a:off x="4119120" y="2057400"/>
              <a:ext cx="1064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mpresas vende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6" name="Rectangle 108"/>
            <p:cNvSpPr/>
            <p:nvPr/>
          </p:nvSpPr>
          <p:spPr>
            <a:xfrm>
              <a:off x="4120920" y="2209680"/>
              <a:ext cx="104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milias compra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7" name="Rectangle 109"/>
            <p:cNvSpPr/>
            <p:nvPr/>
          </p:nvSpPr>
          <p:spPr>
            <a:xfrm>
              <a:off x="4270320" y="152388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ercad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8" name="Rectangle 110"/>
            <p:cNvSpPr/>
            <p:nvPr/>
          </p:nvSpPr>
          <p:spPr>
            <a:xfrm>
              <a:off x="4496040" y="16765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9" name="Rectangle 111"/>
            <p:cNvSpPr/>
            <p:nvPr/>
          </p:nvSpPr>
          <p:spPr>
            <a:xfrm>
              <a:off x="4038480" y="1828800"/>
              <a:ext cx="11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3:29:00Z</dcterms:created>
  <dc:creator> </dc:creator>
  <dc:description/>
  <dc:language>en-US</dc:language>
  <cp:lastModifiedBy> </cp:lastModifiedBy>
  <dcterms:modified xsi:type="dcterms:W3CDTF">2009-09-08T22:28:16Z</dcterms:modified>
  <cp:revision>51</cp:revision>
  <dc:subject/>
  <dc:title>Slide 1</dc:title>
</cp:coreProperties>
</file>