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555-3B66-438D-950D-91CF962C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99C-5325-45AF-9F33-79B19337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068-60D5-490A-9D96-586FD187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699-43C3-44FB-A17D-768D3CF7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5F4C-43BD-486F-9062-A484E6FE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1629-D873-41F2-ACAD-A8ECE95D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071B-505C-421A-AB6A-EFB8525E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15A0-20D2-4CDE-8FC4-F822C0A7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1EB9-B604-4C76-96A5-39E17D38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1EA0-3137-4642-A627-EEB2571C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1B4E-5D4C-4829-B7CB-19EC36D4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E8B-BB4E-46C2-9F1A-7ED6E049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EE5C-14FB-4834-99D4-FDA808F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5BF9-C4BF-4284-B5C4-941F4A92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B0AB-F8FD-47E5-AAFD-A172A816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70FF-C0D7-433A-A2A0-A6F1F102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C78A-BE2F-4F6F-B2EC-ADAECF17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B3D2-9446-43E4-A032-FEB90025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B883-CCAD-423F-B25E-A9D69628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5A35-7E2B-4B5C-97B9-BBB9B9FF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28DA-CEB5-4AE2-B857-10D778D6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9273-0B4D-411D-AAC6-E4FE7240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8C2-9B52-4FC4-98D9-8C291761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DCF0-EFEC-46C0-A79A-DF47DB3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764A-A20D-44F2-95F1-E1B5BFEE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5893-93E5-4253-82AF-4B60A0DE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3D14-EB53-4625-833B-D5B412D3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920C-6EEB-446B-BC53-B1EC3024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1796-1D31-4860-9008-A7158D93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304C-D1CA-407F-8E90-C42842ED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3AA2-255F-4F2C-90A5-B19BB71B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6148F-B611-49A4-855D-FB63C924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ADE2-0F33-4E8A-8BC2-98481199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9D6-3F76-4712-AE20-B070461A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D579-C917-47D6-9058-E1F933E4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EB28-BF99-4805-B1CB-CF7C92CC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4628-D477-49D8-A509-15122A90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4188B-7C52-47AA-AA02-4E3CA01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12AE1-9D4A-4C7C-AE38-642E513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6A0B-379A-417B-91D1-2DB0992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4DBB-2070-441A-A66F-79174D7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92CC-3C72-4F8D-AD2E-23D60E5E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EB41-7D79-496C-AF17-5CDEBBF5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1BC-16D8-4E96-A62C-0A352DBE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BD6-1A8D-42F3-B13B-66456E49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350-4869-42CE-BAC7-44136792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BF9-AD96-47B9-A67D-38D82FE2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B37-731B-49EC-8194-8573143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9502-367B-4BC6-9FC0-8B0EE8491C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F145-DB11-453A-8CC2-E0BC9EEBA33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A29F-2C5D-41D2-A969-038CDF5B4D2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9863-1643-4658-99CD-FA98F30489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egundo Semestre 2009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roducto Interno Bruto (PIB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ducto Interno Bruto (PIB)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valor de mercado de todos los bienes y servicios finales producidos en un país durante un período de tiempo determin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práctica es la medida de los ingresos y gastos de una economía y constituye una herramienta que permite medir el bienestar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1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valor de mercado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unidad de comparación es la unidad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to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rata de ser exhaustivo e incluir todos los bienes y servicios que están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en el mercad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 excluyen bienes y servicios producidos o prestados para consumo propio o de la famili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gualmente se excluyen bienes comercializados ilegalmen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ienes y servici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físicos e intangib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2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ale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posición a los intermedio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cuentan las existencias de arrast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paí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dependientemente de la nacionalidad del produ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urante un período de tiempo determinado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eneralmente trimestral o anualm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mponentes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cuación del PIB es la siguien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100" spc="-1" strike="noStrike">
                <a:solidFill>
                  <a:srgbClr val="000000"/>
                </a:solidFill>
                <a:latin typeface="Constantia"/>
              </a:rPr>
              <a:t>Y= C+I+G+NX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I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o privado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versión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del Gobie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X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portaciones ne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Consumo privad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os hogares en bienes y servicios con la excepción de las compras de nuevas viviend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rsión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en equipos de capital, existencia y estructuras, incluidas las compras de viviendas nuevas por parte de los hoga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Gasto del Gobiern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a administración central y de las administraciones regionales y locales en bienes y servic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xportaciones net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on las compras hechas en el extranjero de bienes o servicios producidos en Chile (exportaciones) menos las compras hechas en Chile de bienes o servicios producidos en el extranjero (Importacion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Nominal 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v/s </a:t>
            </a: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Re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umento del PIB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uede debers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oducto (mas bienes y servicios transado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ecio del produc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Nominal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vigentes o corrie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Real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consta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Precios y Cantidades Producid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Nomi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6"/>
          <p:cNvSpPr/>
          <p:nvPr/>
        </p:nvSpPr>
        <p:spPr>
          <a:xfrm>
            <a:off x="838080" y="3733920"/>
            <a:ext cx="701064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a que tenemos el PIB Nominal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determinamos el PIB Real a partir de estos datos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emos que determinar un año base (de referencia) para saber  cuales serán nuestros “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precios constant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Real (año base 200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935000"/>
          <a:ext cx="8229600" cy="175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(2001)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deflactor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deflactor del PIB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 indicador del precios que se calcula dividiendo el PIB nominal por el PIB real y multiplicando el resultado por 10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de el nivel actual de precios en relación con el nivel de precios del año 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4267080"/>
          <a:ext cx="7924680" cy="19051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 u="sng">
                          <a:solidFill>
                            <a:srgbClr val="ffffff"/>
                          </a:solidFill>
                          <a:uFillTx/>
                          <a:latin typeface="Constantia"/>
                        </a:rPr>
                        <a:t>PIB Nominal</a:t>
                      </a: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200/2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600/35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1200/5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4617b"/>
                </a:solidFill>
                <a:latin typeface="Calibri"/>
              </a:rPr>
              <a:t>Microeconomía vs. Macroeconomí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icroeconom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el estudio de la forma en que los hogares y las empresas toman sus decisiones e interactúan en mercados específ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acroeconom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estudio de los fenómenos que afectan al conjunto de la economía, tales como la inflación, el desempleo y el crecimiento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IB y el bienestar económ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el mejor indicador del bienestar económico de un paí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ividido por el número de habitantes nos da el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IB per cápi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nos permite conocer, por tanto, el ingreso y gasto del hombre medio de una socie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IB per cápita mas alto, significa un estándar de vida mas a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sas que no mide el PIB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ienestar derivado del o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ividades que se realizan fuera de los mercados form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ileg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en el ho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ras de car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lidad del medio amb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as ren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Resum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gasto total de la sociedad debe ser igual a su r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e la sociedad se divide en cuatro componentes esenciales: Consumo, Inversión, Gasto y Exportaciones Ne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nominal es distinto del PIB re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un buen indicador del bienestar económico pero no es perfe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Macroeconómic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recimiento económico sos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dad en el nivel de preci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de empleabi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Preguntas que intenta responder la macro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que hay países en que el ingreso per cápita es mayor que 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que hay períodos en que los precios se incrementan rápidamente y otros en que los precios se mantienen estab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que la producción y el empleo se expanden algunos años y se contra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Instrumentos de la política económ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blecimiento de tribu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públ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sa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sas de interé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Formas de intervención del Estado en la Economí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duct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mpresas d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ey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vee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, Concesiones, 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Regula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, subsidios, cuotas de producción, fijación de precios, reglamento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del Estad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ficiencia productiv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os recurs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es del Est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Asign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Cuando hay fallas de mercado y, por lo mismo, el mercado no es capaz de lograr una asignación eficiente de recurs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Distribu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Esencialmente resolver el problema de la pobrez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La renta y el gasto de la 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saber como le va a una economía determinada uno mi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la renta total que ganan todos los miembros de la mis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bien, en una economía en su conjunto,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la renta debe ser igual al gas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or las siguientes razo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operación tiene dos partes interes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peso que gana un vendedor es un peso que gasta un comprad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3" descr=""/>
          <p:cNvPicPr/>
          <p:nvPr/>
        </p:nvPicPr>
        <p:blipFill>
          <a:blip r:embed="rId2"/>
          <a:stretch/>
        </p:blipFill>
        <p:spPr>
          <a:xfrm>
            <a:off x="603360" y="42840"/>
            <a:ext cx="8242200" cy="700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3f6f9"/>
          </a:solidFill>
          <a:ln w="14760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2f4f8"/>
          </a:solidFill>
          <a:ln w="1350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1f4f7"/>
          </a:solidFill>
          <a:ln w="12060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0f2f5"/>
          </a:solidFill>
          <a:ln w="1080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ef1f4"/>
          </a:solidFill>
          <a:ln w="936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deff3"/>
          </a:solidFill>
          <a:ln w="810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beef2"/>
          </a:solidFill>
          <a:ln w="666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aecf1"/>
          </a:solidFill>
          <a:ln w="540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9ebf0"/>
          </a:solidFill>
          <a:ln w="396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6e9ef"/>
          </a:solidFill>
          <a:ln w="126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1676520" y="1219320"/>
            <a:ext cx="5803920" cy="52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2460600" y="1847880"/>
            <a:ext cx="1195560" cy="1224000"/>
            <a:chOff x="2460600" y="1847880"/>
            <a:chExt cx="1195560" cy="1224000"/>
          </a:xfrm>
        </p:grpSpPr>
        <p:sp>
          <p:nvSpPr>
            <p:cNvPr id="226" name="Freeform 18"/>
            <p:cNvSpPr/>
            <p:nvPr/>
          </p:nvSpPr>
          <p:spPr>
            <a:xfrm>
              <a:off x="2527200" y="1847880"/>
              <a:ext cx="1128960" cy="10620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2460600" y="2855880"/>
              <a:ext cx="135000" cy="2160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8" name="Group 20"/>
          <p:cNvGrpSpPr/>
          <p:nvPr/>
        </p:nvGrpSpPr>
        <p:grpSpPr>
          <a:xfrm>
            <a:off x="2743200" y="1995480"/>
            <a:ext cx="925560" cy="1076400"/>
            <a:chOff x="2743200" y="1995480"/>
            <a:chExt cx="925560" cy="1076400"/>
          </a:xfrm>
        </p:grpSpPr>
        <p:sp>
          <p:nvSpPr>
            <p:cNvPr id="229" name="Freeform 21"/>
            <p:cNvSpPr/>
            <p:nvPr/>
          </p:nvSpPr>
          <p:spPr>
            <a:xfrm>
              <a:off x="2743200" y="2062080"/>
              <a:ext cx="765000" cy="1009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3454560" y="1995480"/>
              <a:ext cx="214200" cy="1350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1" name="Group 23"/>
          <p:cNvGrpSpPr/>
          <p:nvPr/>
        </p:nvGrpSpPr>
        <p:grpSpPr>
          <a:xfrm>
            <a:off x="2527200" y="4106880"/>
            <a:ext cx="1128960" cy="1303200"/>
            <a:chOff x="2527200" y="4106880"/>
            <a:chExt cx="1128960" cy="1303200"/>
          </a:xfrm>
        </p:grpSpPr>
        <p:sp>
          <p:nvSpPr>
            <p:cNvPr id="232" name="Freeform 24"/>
            <p:cNvSpPr/>
            <p:nvPr/>
          </p:nvSpPr>
          <p:spPr>
            <a:xfrm>
              <a:off x="2527200" y="4106880"/>
              <a:ext cx="981000" cy="12366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441600" y="5276880"/>
              <a:ext cx="214560" cy="1332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2674800" y="4133880"/>
            <a:ext cx="981360" cy="995400"/>
            <a:chOff x="2674800" y="4133880"/>
            <a:chExt cx="981360" cy="995400"/>
          </a:xfrm>
        </p:grpSpPr>
        <p:sp>
          <p:nvSpPr>
            <p:cNvPr id="235" name="Freeform 27"/>
            <p:cNvSpPr/>
            <p:nvPr/>
          </p:nvSpPr>
          <p:spPr>
            <a:xfrm>
              <a:off x="2743200" y="4281480"/>
              <a:ext cx="912960" cy="847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2674800" y="4133880"/>
              <a:ext cx="135000" cy="2142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7" name="Group 29"/>
          <p:cNvGrpSpPr/>
          <p:nvPr/>
        </p:nvGrpSpPr>
        <p:grpSpPr>
          <a:xfrm>
            <a:off x="5468760" y="1781280"/>
            <a:ext cx="1008360" cy="1290600"/>
            <a:chOff x="5468760" y="1781280"/>
            <a:chExt cx="1008360" cy="1290600"/>
          </a:xfrm>
        </p:grpSpPr>
        <p:sp>
          <p:nvSpPr>
            <p:cNvPr id="238" name="Freeform 30"/>
            <p:cNvSpPr/>
            <p:nvPr/>
          </p:nvSpPr>
          <p:spPr>
            <a:xfrm>
              <a:off x="5630760" y="1847880"/>
              <a:ext cx="846360" cy="12240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5468760" y="1781280"/>
              <a:ext cx="216000" cy="1332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5456160" y="2062080"/>
            <a:ext cx="858960" cy="1009800"/>
            <a:chOff x="5456160" y="2062080"/>
            <a:chExt cx="858960" cy="1009800"/>
          </a:xfrm>
        </p:grpSpPr>
        <p:sp>
          <p:nvSpPr>
            <p:cNvPr id="241" name="Freeform 33"/>
            <p:cNvSpPr/>
            <p:nvPr/>
          </p:nvSpPr>
          <p:spPr>
            <a:xfrm>
              <a:off x="5456160" y="2062080"/>
              <a:ext cx="804960" cy="847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6194520" y="2855880"/>
              <a:ext cx="120600" cy="2160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3" name="Group 35"/>
          <p:cNvGrpSpPr/>
          <p:nvPr/>
        </p:nvGrpSpPr>
        <p:grpSpPr>
          <a:xfrm>
            <a:off x="5468760" y="4119480"/>
            <a:ext cx="1062360" cy="1224000"/>
            <a:chOff x="5468760" y="4119480"/>
            <a:chExt cx="1062360" cy="1224000"/>
          </a:xfrm>
        </p:grpSpPr>
        <p:sp>
          <p:nvSpPr>
            <p:cNvPr id="244" name="Freeform 36"/>
            <p:cNvSpPr/>
            <p:nvPr/>
          </p:nvSpPr>
          <p:spPr>
            <a:xfrm>
              <a:off x="5468760" y="4281480"/>
              <a:ext cx="1008360" cy="10620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6408720" y="4119480"/>
              <a:ext cx="122400" cy="2160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5468760" y="4119480"/>
            <a:ext cx="792360" cy="1076400"/>
            <a:chOff x="5468760" y="4119480"/>
            <a:chExt cx="792360" cy="1076400"/>
          </a:xfrm>
        </p:grpSpPr>
        <p:sp>
          <p:nvSpPr>
            <p:cNvPr id="247" name="Freeform 39"/>
            <p:cNvSpPr/>
            <p:nvPr/>
          </p:nvSpPr>
          <p:spPr>
            <a:xfrm>
              <a:off x="5630760" y="4119480"/>
              <a:ext cx="630360" cy="1009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5468760" y="5060880"/>
              <a:ext cx="216000" cy="1350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9" name="Line 41"/>
          <p:cNvSpPr/>
          <p:nvPr/>
        </p:nvSpPr>
        <p:spPr>
          <a:xfrm>
            <a:off x="5603760" y="5719680"/>
            <a:ext cx="268560" cy="1800"/>
          </a:xfrm>
          <a:prstGeom prst="line">
            <a:avLst/>
          </a:prstGeom>
          <a:ln w="12600">
            <a:solidFill>
              <a:srgbClr val="e17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Freeform 42"/>
          <p:cNvSpPr/>
          <p:nvPr/>
        </p:nvSpPr>
        <p:spPr>
          <a:xfrm>
            <a:off x="5818320" y="5653080"/>
            <a:ext cx="215640" cy="135000"/>
          </a:xfrm>
          <a:prstGeom prst="pie">
            <a:avLst/>
          </a:prstGeom>
          <a:solidFill>
            <a:srgbClr val="e17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Line 43"/>
          <p:cNvSpPr/>
          <p:nvPr/>
        </p:nvSpPr>
        <p:spPr>
          <a:xfrm>
            <a:off x="5603760" y="6110280"/>
            <a:ext cx="268560" cy="1440"/>
          </a:xfrm>
          <a:prstGeom prst="line">
            <a:avLst/>
          </a:prstGeom>
          <a:ln w="12600">
            <a:solidFill>
              <a:srgbClr val="75bc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Freeform 44"/>
          <p:cNvSpPr/>
          <p:nvPr/>
        </p:nvSpPr>
        <p:spPr>
          <a:xfrm>
            <a:off x="5818320" y="6041880"/>
            <a:ext cx="215640" cy="135000"/>
          </a:xfrm>
          <a:prstGeom prst="pie">
            <a:avLst/>
          </a:prstGeom>
          <a:solidFill>
            <a:srgbClr val="75b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45"/>
          <p:cNvSpPr/>
          <p:nvPr/>
        </p:nvSpPr>
        <p:spPr>
          <a:xfrm>
            <a:off x="5642640" y="1600200"/>
            <a:ext cx="73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Gasto (=PIB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46"/>
          <p:cNvGrpSpPr/>
          <p:nvPr/>
        </p:nvGrpSpPr>
        <p:grpSpPr>
          <a:xfrm>
            <a:off x="5538960" y="2062080"/>
            <a:ext cx="583920" cy="478080"/>
            <a:chOff x="5538960" y="2062080"/>
            <a:chExt cx="583920" cy="478080"/>
          </a:xfrm>
        </p:grpSpPr>
        <p:sp>
          <p:nvSpPr>
            <p:cNvPr id="255" name="Rectangle 47"/>
            <p:cNvSpPr/>
            <p:nvPr/>
          </p:nvSpPr>
          <p:spPr>
            <a:xfrm>
              <a:off x="5538960" y="206208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5538960" y="222408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5540040" y="2387520"/>
              <a:ext cx="58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adquirid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8" name="Rectangle 50"/>
          <p:cNvSpPr/>
          <p:nvPr/>
        </p:nvSpPr>
        <p:spPr>
          <a:xfrm>
            <a:off x="2823480" y="160020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9" name="Group 51"/>
          <p:cNvGrpSpPr/>
          <p:nvPr/>
        </p:nvGrpSpPr>
        <p:grpSpPr>
          <a:xfrm>
            <a:off x="2999880" y="2070000"/>
            <a:ext cx="594720" cy="478080"/>
            <a:chOff x="2999880" y="2070000"/>
            <a:chExt cx="594720" cy="478080"/>
          </a:xfrm>
        </p:grpSpPr>
        <p:sp>
          <p:nvSpPr>
            <p:cNvPr id="260" name="Rectangle 52"/>
            <p:cNvSpPr/>
            <p:nvPr/>
          </p:nvSpPr>
          <p:spPr>
            <a:xfrm>
              <a:off x="2999880" y="2070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3000960" y="2232000"/>
              <a:ext cx="59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3000240" y="239544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did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3" name="Group 55"/>
          <p:cNvGrpSpPr/>
          <p:nvPr/>
        </p:nvGrpSpPr>
        <p:grpSpPr>
          <a:xfrm>
            <a:off x="5338080" y="4648320"/>
            <a:ext cx="821880" cy="316080"/>
            <a:chOff x="5338080" y="4648320"/>
            <a:chExt cx="821880" cy="316080"/>
          </a:xfrm>
        </p:grpSpPr>
        <p:sp>
          <p:nvSpPr>
            <p:cNvPr id="264" name="Rectangle 56"/>
            <p:cNvSpPr/>
            <p:nvPr/>
          </p:nvSpPr>
          <p:spPr>
            <a:xfrm>
              <a:off x="5338080" y="4648320"/>
              <a:ext cx="82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bajo, tierr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5364360" y="4811760"/>
              <a:ext cx="49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apit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.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66" name="Rectangle 58"/>
          <p:cNvSpPr/>
          <p:nvPr/>
        </p:nvSpPr>
        <p:spPr>
          <a:xfrm>
            <a:off x="5626800" y="535608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Rectangle 59"/>
          <p:cNvSpPr/>
          <p:nvPr/>
        </p:nvSpPr>
        <p:spPr>
          <a:xfrm>
            <a:off x="6128280" y="5621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6163920" y="5653080"/>
            <a:ext cx="100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factores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Rectangle 61"/>
          <p:cNvSpPr/>
          <p:nvPr/>
        </p:nvSpPr>
        <p:spPr>
          <a:xfrm>
            <a:off x="6023520" y="5784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Rectangle 62"/>
          <p:cNvSpPr/>
          <p:nvPr/>
        </p:nvSpPr>
        <p:spPr>
          <a:xfrm>
            <a:off x="6271920" y="581652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y productos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63"/>
          <p:cNvSpPr/>
          <p:nvPr/>
        </p:nvSpPr>
        <p:spPr>
          <a:xfrm>
            <a:off x="6128280" y="5979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Rectangle 64"/>
          <p:cNvSpPr/>
          <p:nvPr/>
        </p:nvSpPr>
        <p:spPr>
          <a:xfrm>
            <a:off x="6165000" y="6012000"/>
            <a:ext cx="90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diner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3" name="Group 65"/>
          <p:cNvGrpSpPr/>
          <p:nvPr/>
        </p:nvGrpSpPr>
        <p:grpSpPr>
          <a:xfrm>
            <a:off x="2897640" y="4648320"/>
            <a:ext cx="685080" cy="314280"/>
            <a:chOff x="2897640" y="4648320"/>
            <a:chExt cx="685080" cy="314280"/>
          </a:xfrm>
        </p:grpSpPr>
        <p:sp>
          <p:nvSpPr>
            <p:cNvPr id="274" name="Rectangle 66"/>
            <p:cNvSpPr/>
            <p:nvPr/>
          </p:nvSpPr>
          <p:spPr>
            <a:xfrm>
              <a:off x="2913120" y="464832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Rectangle 67"/>
            <p:cNvSpPr/>
            <p:nvPr/>
          </p:nvSpPr>
          <p:spPr>
            <a:xfrm>
              <a:off x="2897640" y="480996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6" name="Group 68"/>
          <p:cNvGrpSpPr/>
          <p:nvPr/>
        </p:nvGrpSpPr>
        <p:grpSpPr>
          <a:xfrm>
            <a:off x="2625120" y="5356080"/>
            <a:ext cx="1101960" cy="314640"/>
            <a:chOff x="2625120" y="5356080"/>
            <a:chExt cx="1101960" cy="314640"/>
          </a:xfrm>
        </p:grpSpPr>
        <p:sp>
          <p:nvSpPr>
            <p:cNvPr id="277" name="Rectangle 69"/>
            <p:cNvSpPr/>
            <p:nvPr/>
          </p:nvSpPr>
          <p:spPr>
            <a:xfrm>
              <a:off x="2626200" y="5356080"/>
              <a:ext cx="110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alarios, alquilere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8" name="Rectangle 70"/>
            <p:cNvSpPr/>
            <p:nvPr/>
          </p:nvSpPr>
          <p:spPr>
            <a:xfrm>
              <a:off x="2625120" y="5518080"/>
              <a:ext cx="106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beneficios (=PIB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9" name="Rectangle 71"/>
          <p:cNvSpPr/>
          <p:nvPr/>
        </p:nvSpPr>
        <p:spPr>
          <a:xfrm>
            <a:off x="224352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72"/>
          <p:cNvSpPr/>
          <p:nvPr/>
        </p:nvSpPr>
        <p:spPr>
          <a:xfrm>
            <a:off x="219924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73"/>
          <p:cNvSpPr/>
          <p:nvPr/>
        </p:nvSpPr>
        <p:spPr>
          <a:xfrm>
            <a:off x="224352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74"/>
          <p:cNvSpPr/>
          <p:nvPr/>
        </p:nvSpPr>
        <p:spPr>
          <a:xfrm>
            <a:off x="219924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3" name="Group 75"/>
          <p:cNvGrpSpPr/>
          <p:nvPr/>
        </p:nvGrpSpPr>
        <p:grpSpPr>
          <a:xfrm>
            <a:off x="1816200" y="3071880"/>
            <a:ext cx="1652400" cy="1035000"/>
            <a:chOff x="1816200" y="3071880"/>
            <a:chExt cx="1652400" cy="1035000"/>
          </a:xfrm>
        </p:grpSpPr>
        <p:sp>
          <p:nvSpPr>
            <p:cNvPr id="284" name="Rectangle 76"/>
            <p:cNvSpPr/>
            <p:nvPr/>
          </p:nvSpPr>
          <p:spPr>
            <a:xfrm>
              <a:off x="1816200" y="3071880"/>
              <a:ext cx="165240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Rectangle 77"/>
            <p:cNvSpPr/>
            <p:nvPr/>
          </p:nvSpPr>
          <p:spPr>
            <a:xfrm>
              <a:off x="2288520" y="312408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Rectangle 78"/>
            <p:cNvSpPr/>
            <p:nvPr/>
          </p:nvSpPr>
          <p:spPr>
            <a:xfrm>
              <a:off x="2067120" y="3286080"/>
              <a:ext cx="113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en y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7" name="Rectangle 79"/>
            <p:cNvSpPr/>
            <p:nvPr/>
          </p:nvSpPr>
          <p:spPr>
            <a:xfrm>
              <a:off x="210744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8" name="Rectangle 80"/>
            <p:cNvSpPr/>
            <p:nvPr/>
          </p:nvSpPr>
          <p:spPr>
            <a:xfrm>
              <a:off x="2060640" y="3581280"/>
              <a:ext cx="10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tratan y usa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Rectangle 81"/>
            <p:cNvSpPr/>
            <p:nvPr/>
          </p:nvSpPr>
          <p:spPr>
            <a:xfrm>
              <a:off x="2115360" y="3733920"/>
              <a:ext cx="132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0" name="Rectangle 82"/>
          <p:cNvSpPr/>
          <p:nvPr/>
        </p:nvSpPr>
        <p:spPr>
          <a:xfrm>
            <a:off x="562824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83"/>
          <p:cNvSpPr/>
          <p:nvPr/>
        </p:nvSpPr>
        <p:spPr>
          <a:xfrm>
            <a:off x="558360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84"/>
          <p:cNvSpPr/>
          <p:nvPr/>
        </p:nvSpPr>
        <p:spPr>
          <a:xfrm>
            <a:off x="562824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ctangle 85"/>
          <p:cNvSpPr/>
          <p:nvPr/>
        </p:nvSpPr>
        <p:spPr>
          <a:xfrm>
            <a:off x="558360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94" name="Group 86"/>
          <p:cNvGrpSpPr/>
          <p:nvPr/>
        </p:nvGrpSpPr>
        <p:grpSpPr>
          <a:xfrm>
            <a:off x="5537160" y="3071880"/>
            <a:ext cx="1650960" cy="1035000"/>
            <a:chOff x="5537160" y="3071880"/>
            <a:chExt cx="1650960" cy="1035000"/>
          </a:xfrm>
        </p:grpSpPr>
        <p:sp>
          <p:nvSpPr>
            <p:cNvPr id="295" name="Rectangle 87"/>
            <p:cNvSpPr/>
            <p:nvPr/>
          </p:nvSpPr>
          <p:spPr>
            <a:xfrm>
              <a:off x="5537160" y="3071880"/>
              <a:ext cx="165096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6" name="Rectangle 88"/>
            <p:cNvSpPr/>
            <p:nvPr/>
          </p:nvSpPr>
          <p:spPr>
            <a:xfrm>
              <a:off x="5720760" y="3276720"/>
              <a:ext cx="13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pran y consum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Rectangle 89"/>
            <p:cNvSpPr/>
            <p:nvPr/>
          </p:nvSpPr>
          <p:spPr>
            <a:xfrm>
              <a:off x="579528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8" name="Rectangle 90"/>
            <p:cNvSpPr/>
            <p:nvPr/>
          </p:nvSpPr>
          <p:spPr>
            <a:xfrm>
              <a:off x="5718240" y="3581280"/>
              <a:ext cx="101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ienen y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9" name="Rectangle 91"/>
            <p:cNvSpPr/>
            <p:nvPr/>
          </p:nvSpPr>
          <p:spPr>
            <a:xfrm>
              <a:off x="5719680" y="3733920"/>
              <a:ext cx="139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0" name="Rectangle 92"/>
            <p:cNvSpPr/>
            <p:nvPr/>
          </p:nvSpPr>
          <p:spPr>
            <a:xfrm>
              <a:off x="6097320" y="312408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mili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1" name="Rectangle 93"/>
          <p:cNvSpPr/>
          <p:nvPr/>
        </p:nvSpPr>
        <p:spPr>
          <a:xfrm>
            <a:off x="4115160" y="5348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Rectangle 94"/>
          <p:cNvSpPr/>
          <p:nvPr/>
        </p:nvSpPr>
        <p:spPr>
          <a:xfrm>
            <a:off x="4115160" y="5511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3" name="Group 95"/>
          <p:cNvGrpSpPr/>
          <p:nvPr/>
        </p:nvGrpSpPr>
        <p:grpSpPr>
          <a:xfrm>
            <a:off x="3656160" y="4591080"/>
            <a:ext cx="1827000" cy="1290600"/>
            <a:chOff x="3656160" y="4591080"/>
            <a:chExt cx="1827000" cy="1290600"/>
          </a:xfrm>
        </p:grpSpPr>
        <p:sp>
          <p:nvSpPr>
            <p:cNvPr id="304" name="Oval 96"/>
            <p:cNvSpPr/>
            <p:nvPr/>
          </p:nvSpPr>
          <p:spPr>
            <a:xfrm>
              <a:off x="3656160" y="4591080"/>
              <a:ext cx="1827000" cy="12906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5" name="Rectangle 97"/>
            <p:cNvSpPr/>
            <p:nvPr/>
          </p:nvSpPr>
          <p:spPr>
            <a:xfrm>
              <a:off x="4120200" y="5334120"/>
              <a:ext cx="96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6" name="Rectangle 98"/>
            <p:cNvSpPr/>
            <p:nvPr/>
          </p:nvSpPr>
          <p:spPr>
            <a:xfrm>
              <a:off x="4119840" y="5486400"/>
              <a:ext cx="114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compra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307" name="Group 99"/>
            <p:cNvGrpSpPr/>
            <p:nvPr/>
          </p:nvGrpSpPr>
          <p:grpSpPr>
            <a:xfrm>
              <a:off x="3891960" y="4876920"/>
              <a:ext cx="1294560" cy="457560"/>
              <a:chOff x="3891960" y="4876920"/>
              <a:chExt cx="1294560" cy="457560"/>
            </a:xfrm>
          </p:grpSpPr>
          <p:sp>
            <p:nvSpPr>
              <p:cNvPr id="308" name="Rectangle 100"/>
              <p:cNvSpPr/>
              <p:nvPr/>
            </p:nvSpPr>
            <p:spPr>
              <a:xfrm>
                <a:off x="4270680" y="4876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Mercados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309" name="Rectangle 101"/>
              <p:cNvSpPr/>
              <p:nvPr/>
            </p:nvSpPr>
            <p:spPr>
              <a:xfrm>
                <a:off x="4496040" y="50292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310" name="Rectangle 102"/>
              <p:cNvSpPr/>
              <p:nvPr/>
            </p:nvSpPr>
            <p:spPr>
              <a:xfrm>
                <a:off x="3891960" y="5181840"/>
                <a:ext cx="1294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Factores Productivos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11" name="Rectangle 103"/>
          <p:cNvSpPr/>
          <p:nvPr/>
        </p:nvSpPr>
        <p:spPr>
          <a:xfrm>
            <a:off x="4115160" y="2343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Rectangle 104"/>
          <p:cNvSpPr/>
          <p:nvPr/>
        </p:nvSpPr>
        <p:spPr>
          <a:xfrm>
            <a:off x="4115160" y="2505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3" name="Group 105"/>
          <p:cNvGrpSpPr/>
          <p:nvPr/>
        </p:nvGrpSpPr>
        <p:grpSpPr>
          <a:xfrm>
            <a:off x="3656160" y="1309680"/>
            <a:ext cx="1827000" cy="1278000"/>
            <a:chOff x="3656160" y="1309680"/>
            <a:chExt cx="1827000" cy="1278000"/>
          </a:xfrm>
        </p:grpSpPr>
        <p:sp>
          <p:nvSpPr>
            <p:cNvPr id="314" name="Oval 106"/>
            <p:cNvSpPr/>
            <p:nvPr/>
          </p:nvSpPr>
          <p:spPr>
            <a:xfrm>
              <a:off x="3656160" y="1309680"/>
              <a:ext cx="1827000" cy="12780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5" name="Rectangle 107"/>
            <p:cNvSpPr/>
            <p:nvPr/>
          </p:nvSpPr>
          <p:spPr>
            <a:xfrm>
              <a:off x="4119120" y="2057400"/>
              <a:ext cx="106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6" name="Rectangle 108"/>
            <p:cNvSpPr/>
            <p:nvPr/>
          </p:nvSpPr>
          <p:spPr>
            <a:xfrm>
              <a:off x="4120920" y="22096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compra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7" name="Rectangle 109"/>
            <p:cNvSpPr/>
            <p:nvPr/>
          </p:nvSpPr>
          <p:spPr>
            <a:xfrm>
              <a:off x="4270320" y="15238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ercad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8" name="Rectangle 110"/>
            <p:cNvSpPr/>
            <p:nvPr/>
          </p:nvSpPr>
          <p:spPr>
            <a:xfrm>
              <a:off x="4496040" y="16765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9" name="Rectangle 111"/>
            <p:cNvSpPr/>
            <p:nvPr/>
          </p:nvSpPr>
          <p:spPr>
            <a:xfrm>
              <a:off x="4038480" y="182880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3:29:00Z</dcterms:created>
  <dc:creator> </dc:creator>
  <dc:description/>
  <dc:language>en-US</dc:language>
  <cp:lastModifiedBy> </cp:lastModifiedBy>
  <dcterms:modified xsi:type="dcterms:W3CDTF">2009-09-08T22:28:16Z</dcterms:modified>
  <cp:revision>51</cp:revision>
  <dc:subject/>
  <dc:title>Slide 1</dc:title>
</cp:coreProperties>
</file>