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22AC-D357-4BB5-AEC6-FB13C6638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6E71-3175-4917-978E-A8DEA0753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5EC08-C6DE-4371-BC61-F063A269A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2084-C3EE-4084-9041-3970FF407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C8A7C-8245-4E4B-9734-EA367B26E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CBC17-DB38-4451-9DF5-7820C1C9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2E071-6687-4158-A223-A23EA9F04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27FC6-C008-4FA2-A09F-E9B9B146D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7E29B-025D-4189-AFB4-03E0958D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09A02-12AC-4DF5-A7CC-9724D4C54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0DAE8-21B8-47C9-BCF9-5437FB77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52AD-D756-456F-B510-8FBBB40D6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DF965-ED5E-45C8-94F4-3DC48E1D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876A3-8359-4A5D-9882-80CA4031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11BC1-BB6D-44C1-8145-5BAA11328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F458-03EC-4BC9-8313-D8BD0ACBD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1445-2944-4A50-B70F-A431BAB41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938D-EBDD-4BD6-91E9-CA47C0809F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A44DE4-5225-43BD-825E-4AC4CFC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20E6E-B38F-46D2-820C-F9886063C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889374-BB84-48A5-BAEF-15327F6F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9BB630-165B-4CFB-BC48-31C13BA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F074-5AEF-49E4-B2DA-C247A75B7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C01B8-7031-4563-AEDC-9C4F9B41B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20484C-E702-4F69-8339-9989BA47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C7490E-D558-4036-8F84-99F25F6F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989B81-6CA2-450E-BA75-74B5D43C2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D3530C-9025-4854-999A-D8D6A173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E0923-2638-491A-AAC0-B187FF640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029109-7EC3-47A2-9C9B-3924B4CD7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FEBC76-C8A7-4FE3-8D69-09A14820A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782975-50F8-4B44-B3F8-F48CA42DF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1AD94-E7E4-4518-ACD4-38733BDF5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9230-4DC3-4910-A436-360BAF4B9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5DA61-A22D-4280-B383-671701936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AD7DA8-F304-4D54-A5C5-CA6B95A4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1BD736-7284-476D-9C55-3DBB2FEE3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895C6-C9D5-4D67-8B6D-389FC4A95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FF27E8-2006-4378-B92C-1EDE1F6A1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D10C2-1B30-4CEA-A3F0-A9EC5F26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7F01AC-7BEA-4ABC-9F7A-3933B1C85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98504-EBF0-49A2-9F7D-88CDC3507A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C6886-7258-406D-86BC-A62856F0B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BFB1-21D4-4F73-9D36-169DFDE9A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756D-F2EC-47E0-ADC5-F0C53CA1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7D77-0BF1-4345-BBD1-32444283D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39766-1CDA-4702-A83F-76DA25CCB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F4E-C2FD-4C5E-9D73-52D65E220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275A4-64D8-4655-A679-6C8D49D2EBB4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5BDC-9AE1-4006-A22F-170BB98B1B5A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96AB6-3F83-4528-829F-C77B181897D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1BBBB-A477-4A34-9287-C46241EB2399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786456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ffffff"/>
                </a:solidFill>
                <a:latin typeface="Constantia"/>
              </a:rPr>
              <a:t>Segundo Semestre 2009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roducto Interno Bruto (PIB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roducto Interno Bruto (PIB)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valor de mercado de todos los bienes y servicios finales producidos en un país durante un período de tiempo determinado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la práctica es la medida de los ingresos y gastos de una economía y constituye una herramienta que permite medir el bienestar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1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valor de mercado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unidad de comparación es la unidad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e to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rata de ser exhaustivo e incluir todos los bienes y servicios que están </a:t>
            </a:r>
            <a:r>
              <a:rPr b="0" lang="es-CL" sz="2400" spc="-1" strike="noStrike" u="sng">
                <a:solidFill>
                  <a:srgbClr val="000000"/>
                </a:solidFill>
                <a:uFillTx/>
                <a:latin typeface="Constantia"/>
              </a:rPr>
              <a:t>en el mercado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Se excluyen bienes y servicios producidos o prestados para consumo propio o de la familia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Igualmente se excluyen bienes comercializados ilegalmente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os bienes y servici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Bienes físicos e intangib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Desglose de la definición de PIB (2/2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7200" y="17524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finale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or oposición a los intermedio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do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o se cuentan las existencias de arrast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n un país…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dependientemente de la nacionalidad del product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“…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durante un período de tiempo determinado.”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eneralmente trimestral o anualmen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mponentes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15235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a ecuación del PIB es la siguient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100" spc="-1" strike="noStrike">
                <a:solidFill>
                  <a:srgbClr val="000000"/>
                </a:solidFill>
                <a:latin typeface="Constantia"/>
              </a:rPr>
              <a:t>Y= C+I+G+NX</a:t>
            </a: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90000"/>
              </a:lnSpc>
              <a:spcBef>
                <a:spcPts val="10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Y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PIB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nsumo privado.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 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nversión.</a:t>
            </a:r>
            <a:br>
              <a:rPr sz="2400"/>
            </a:b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del Gobierno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NX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xportaciones net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Consumo privad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os hogares en bienes y servicios con la excepción de las compras de nuevas vivienda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Inversión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en equipos de capital, existencia y estructuras, incluidas las compras de viviendas nuevas por parte de los hogar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Gasto del Gobierno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 el gasto de la administración central y de las administraciones regionales y locales en bienes y servici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Constantia"/>
              </a:rPr>
              <a:t>Exportaciones netas 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son las compras hechas en el extranjero de bienes o servicios producidos en Chile (exportaciones) menos las compras hechas en Chile de bienes o servicios producidos en el extranjero (Importacione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Nominal </a:t>
            </a:r>
            <a:r>
              <a:rPr b="1" lang="en-US" sz="3600" spc="-1" strike="noStrike">
                <a:solidFill>
                  <a:srgbClr val="04617b"/>
                </a:solidFill>
                <a:latin typeface="Calibri"/>
              </a:rPr>
              <a:t>v/s </a:t>
            </a:r>
            <a:r>
              <a:rPr b="1" i="1" lang="en-US" sz="3600" spc="-1" strike="noStrike">
                <a:solidFill>
                  <a:srgbClr val="04617b"/>
                </a:solidFill>
                <a:latin typeface="Calibri"/>
              </a:rPr>
              <a:t>PIB Re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Un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aumento del PIB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uede deberse a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oducto (mas bienes y servicios transados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umento del precio del produc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Nominal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vigentes o corrie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PIB Real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orresponde a la producción de bienes y servicios valorada a </a:t>
            </a:r>
            <a:r>
              <a:rPr b="0" i="1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recios constante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Precios y Cantidades Producida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recio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Q del bien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Nominal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935000"/>
          <a:ext cx="8229600" cy="148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  <p:sp>
        <p:nvSpPr>
          <p:cNvPr id="335" name="Rectangle 6"/>
          <p:cNvSpPr/>
          <p:nvPr/>
        </p:nvSpPr>
        <p:spPr>
          <a:xfrm>
            <a:off x="838080" y="3733920"/>
            <a:ext cx="7010640" cy="2209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f6f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hora que tenemos el PIB Nominal…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omo determinamos el PIB Real a partir de estos datos?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enemos que determinar un año base (de referencia) para saber  cuales serán nuestros “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precios constantes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”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4617b"/>
                </a:solidFill>
                <a:latin typeface="Calibri"/>
              </a:rPr>
              <a:t>Cálculo del PIB Real (año base 2001)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457200" y="1935000"/>
          <a:ext cx="8229600" cy="175284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A (2001) x Q de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7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deflactor del PIB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</a:t>
            </a:r>
            <a:r>
              <a:rPr b="1" i="1" lang="es-CL" sz="2600" spc="-1" strike="noStrike">
                <a:solidFill>
                  <a:srgbClr val="000000"/>
                </a:solidFill>
                <a:latin typeface="Constantia"/>
              </a:rPr>
              <a:t>deflactor del PIB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un indicador del precios que se calcula dividiendo el PIB nominal por el PIB real y multiplicando el resultado por 100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ide el nivel actual de precios en relación con el nivel de precios del año bas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533520" y="4267080"/>
          <a:ext cx="7924680" cy="1905120"/>
        </p:xfrm>
        <a:graphic>
          <a:graphicData uri="http://schemas.openxmlformats.org/drawingml/2006/table">
            <a:tbl>
              <a:tblPr/>
              <a:tblGrid>
                <a:gridCol w="2641320"/>
                <a:gridCol w="2641680"/>
                <a:gridCol w="2641680"/>
              </a:tblGrid>
              <a:tr h="695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Añ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 u="sng">
                          <a:solidFill>
                            <a:srgbClr val="ffffff"/>
                          </a:solidFill>
                          <a:uFillTx/>
                          <a:latin typeface="Constantia"/>
                        </a:rPr>
                        <a:t>PIB Nominal</a:t>
                      </a: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IB Re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P de B  (2001) x Q de 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200/2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600/35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7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(1200/500) x 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4617b"/>
                </a:solidFill>
                <a:latin typeface="Calibri"/>
              </a:rPr>
              <a:t>Microeconomía vs. Macroeconomía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icroeconomí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es el estudio de la forma en que los hogares y las empresas toman sus decisiones e interactúan en mercados específic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Macroeconomía 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 el estudio de los fenómenos que afectan al conjunto de la economía, tales como la inflación, el desempleo y el crecimiento económic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El PIB y el bienestar económic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el mejor indicador del bienestar económico de un paí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ividido por el número de habitantes nos da el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PIB per cápit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y nos permite conocer, por tanto, el ingreso y gasto del hombre medio de una socie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Un PIB per cápita mas alto, significa un estándar de vida mas alt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Cosas que no mide el PIB…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bienestar derivado del oci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ctividades que se realizan fuera de los mercados formal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ilegale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Actividades en el hog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Obras de caridad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alidad del medio ambien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as ren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590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Resumen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gasto total de la sociedad debe ser igual a su renta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de la sociedad se divide en cuatro componentes esenciales: Consumo, Inversión, Gasto y Exportaciones Neta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nominal es distinto del PIB real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l PIB es un buen indicador del bienestar económico pero no es perfect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Macroeconómicos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Crecimiento económico sostenido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Estabilidad en el nivel de precio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lto nivel de empleabilida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Preguntas que intenta responder la macro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que hay países en que el ingreso per cápita es mayor que 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que hay períodos en que los precios se incrementan rápidamente y otros en que los precios se mantienen estable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or que la producción y el empleo se expanden algunos años y se contraen otros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Instrumentos de la política económic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fisca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stablecimiento de tributo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Gasto públic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L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política monetari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Masa monetaria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Tasas de interés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4617b"/>
                </a:solidFill>
                <a:latin typeface="Calibri"/>
              </a:rPr>
              <a:t>Formas de intervención del Estado en la Economía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duci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duct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Empresas del estado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roveye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Provee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Licitaciones, Concesiones, </a:t>
            </a: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Outsourcing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Regulando.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Rol Regulador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Impuestos, subsidios, cuotas de producción, fijación de precios, reglamentos, etc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66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Objetivos del Estado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ficiencia productiv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600" spc="-1" strike="noStrike">
                <a:solidFill>
                  <a:srgbClr val="000000"/>
                </a:solidFill>
                <a:latin typeface="Constantia"/>
              </a:rPr>
              <a:t>Equidad en la distribución de los recursos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Funciones del Estado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Asign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Cuando hay fallas de mercado y, por lo mismo, el mercado no es capaz de lograr una asignación eficiente de recursos.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Distribu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524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Constantia"/>
              </a:rPr>
              <a:t>Esencialmente resolver el problema de la pobreza</a:t>
            </a:r>
            <a:endParaRPr b="0" lang="en-US" sz="21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Constantia"/>
              </a:rPr>
              <a:t>Estabilización</a:t>
            </a: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743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04617b"/>
                </a:solidFill>
                <a:latin typeface="Calibri"/>
              </a:rPr>
              <a:t>La renta y el gasto de la economía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Para saber como le va a una economía determinada uno mira </a:t>
            </a:r>
            <a:r>
              <a:rPr b="1" lang="es-CL" sz="2600" spc="-1" strike="noStrike">
                <a:solidFill>
                  <a:srgbClr val="000000"/>
                </a:solidFill>
                <a:latin typeface="Constantia"/>
              </a:rPr>
              <a:t>la renta total que ganan todos los miembros de la misma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Ahora bien, en una economía en su conjunto, </a:t>
            </a:r>
            <a:r>
              <a:rPr b="0" lang="es-CL" sz="2600" spc="-1" strike="noStrike" u="sng">
                <a:solidFill>
                  <a:srgbClr val="000000"/>
                </a:solidFill>
                <a:uFillTx/>
                <a:latin typeface="Constantia"/>
              </a:rPr>
              <a:t>la renta debe ser igual al gasto</a:t>
            </a:r>
            <a:r>
              <a:rPr b="0" lang="es-CL" sz="2600" spc="-1" strike="noStrike">
                <a:solidFill>
                  <a:srgbClr val="000000"/>
                </a:solidFill>
                <a:latin typeface="Constantia"/>
              </a:rPr>
              <a:t> por las siguientes razones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operación tiene dos partes interesada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Constantia"/>
              </a:rPr>
              <a:t>Cada peso que gana un vendedor es un peso que gasta un comprado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2" descr="E:\Mankiw\Mankiw PPT\narrow aqua button bckgrd.jpg"/>
          <p:cNvPicPr/>
          <p:nvPr/>
        </p:nvPicPr>
        <p:blipFill>
          <a:blip r:embed="rId1"/>
          <a:srcRect l="0" t="0" r="169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Rectangle 3" descr=""/>
          <p:cNvPicPr/>
          <p:nvPr/>
        </p:nvPicPr>
        <p:blipFill>
          <a:blip r:embed="rId2"/>
          <a:stretch/>
        </p:blipFill>
        <p:spPr>
          <a:xfrm>
            <a:off x="603360" y="42840"/>
            <a:ext cx="8242200" cy="70020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3f6f9"/>
          </a:solidFill>
          <a:ln w="147600">
            <a:solidFill>
              <a:srgbClr val="f3f6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Rectangle 6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2f4f8"/>
          </a:solidFill>
          <a:ln w="135000">
            <a:solidFill>
              <a:srgbClr val="f2f4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1f4f7"/>
          </a:solidFill>
          <a:ln w="120600">
            <a:solidFill>
              <a:srgbClr val="f1f4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f0f2f5"/>
          </a:solidFill>
          <a:ln w="108000">
            <a:solidFill>
              <a:srgbClr val="f0f2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ef1f4"/>
          </a:solidFill>
          <a:ln w="93600">
            <a:solidFill>
              <a:srgbClr val="eef1f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deff3"/>
          </a:solidFill>
          <a:ln w="81000">
            <a:solidFill>
              <a:srgbClr val="edeff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beef2"/>
          </a:solidFill>
          <a:ln w="66600">
            <a:solidFill>
              <a:srgbClr val="ebee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Rectangle 12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aecf1"/>
          </a:solidFill>
          <a:ln w="54000">
            <a:solidFill>
              <a:srgbClr val="eaec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Rectangle 13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9ebf0"/>
          </a:solidFill>
          <a:ln w="39600">
            <a:solidFill>
              <a:srgbClr val="e9eb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Rectangle 14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7eaef"/>
          </a:solidFill>
          <a:ln w="27000">
            <a:solidFill>
              <a:srgbClr val="e7ea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Rectangle 15"/>
          <p:cNvSpPr/>
          <p:nvPr/>
        </p:nvSpPr>
        <p:spPr>
          <a:xfrm>
            <a:off x="1681200" y="1201680"/>
            <a:ext cx="5802120" cy="5270400"/>
          </a:xfrm>
          <a:prstGeom prst="rect">
            <a:avLst/>
          </a:prstGeom>
          <a:solidFill>
            <a:srgbClr val="e6e9ef"/>
          </a:solidFill>
          <a:ln w="12600">
            <a:solidFill>
              <a:srgbClr val="e6e9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Rectangle 16"/>
          <p:cNvSpPr/>
          <p:nvPr/>
        </p:nvSpPr>
        <p:spPr>
          <a:xfrm>
            <a:off x="1676520" y="1219320"/>
            <a:ext cx="5803920" cy="528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25" name="Group 17"/>
          <p:cNvGrpSpPr/>
          <p:nvPr/>
        </p:nvGrpSpPr>
        <p:grpSpPr>
          <a:xfrm>
            <a:off x="2460600" y="1847880"/>
            <a:ext cx="1195560" cy="1224000"/>
            <a:chOff x="2460600" y="1847880"/>
            <a:chExt cx="1195560" cy="1224000"/>
          </a:xfrm>
        </p:grpSpPr>
        <p:sp>
          <p:nvSpPr>
            <p:cNvPr id="226" name="Freeform 18"/>
            <p:cNvSpPr/>
            <p:nvPr/>
          </p:nvSpPr>
          <p:spPr>
            <a:xfrm>
              <a:off x="2527200" y="1847880"/>
              <a:ext cx="1128960" cy="10620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27" name="Freeform 19"/>
            <p:cNvSpPr/>
            <p:nvPr/>
          </p:nvSpPr>
          <p:spPr>
            <a:xfrm>
              <a:off x="2460600" y="2855880"/>
              <a:ext cx="135000" cy="2160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28" name="Group 20"/>
          <p:cNvGrpSpPr/>
          <p:nvPr/>
        </p:nvGrpSpPr>
        <p:grpSpPr>
          <a:xfrm>
            <a:off x="2743200" y="1995480"/>
            <a:ext cx="925560" cy="1076400"/>
            <a:chOff x="2743200" y="1995480"/>
            <a:chExt cx="925560" cy="1076400"/>
          </a:xfrm>
        </p:grpSpPr>
        <p:sp>
          <p:nvSpPr>
            <p:cNvPr id="229" name="Freeform 21"/>
            <p:cNvSpPr/>
            <p:nvPr/>
          </p:nvSpPr>
          <p:spPr>
            <a:xfrm>
              <a:off x="2743200" y="2062080"/>
              <a:ext cx="765000" cy="1009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0" name="Freeform 22"/>
            <p:cNvSpPr/>
            <p:nvPr/>
          </p:nvSpPr>
          <p:spPr>
            <a:xfrm>
              <a:off x="3454560" y="1995480"/>
              <a:ext cx="214200" cy="1350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1" name="Group 23"/>
          <p:cNvGrpSpPr/>
          <p:nvPr/>
        </p:nvGrpSpPr>
        <p:grpSpPr>
          <a:xfrm>
            <a:off x="2527200" y="4106880"/>
            <a:ext cx="1128960" cy="1303200"/>
            <a:chOff x="2527200" y="4106880"/>
            <a:chExt cx="1128960" cy="1303200"/>
          </a:xfrm>
        </p:grpSpPr>
        <p:sp>
          <p:nvSpPr>
            <p:cNvPr id="232" name="Freeform 24"/>
            <p:cNvSpPr/>
            <p:nvPr/>
          </p:nvSpPr>
          <p:spPr>
            <a:xfrm>
              <a:off x="2527200" y="4106880"/>
              <a:ext cx="981000" cy="12366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3" name="Freeform 25"/>
            <p:cNvSpPr/>
            <p:nvPr/>
          </p:nvSpPr>
          <p:spPr>
            <a:xfrm>
              <a:off x="3441600" y="5276880"/>
              <a:ext cx="214560" cy="1332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4" name="Group 26"/>
          <p:cNvGrpSpPr/>
          <p:nvPr/>
        </p:nvGrpSpPr>
        <p:grpSpPr>
          <a:xfrm>
            <a:off x="2674800" y="4133880"/>
            <a:ext cx="981360" cy="995400"/>
            <a:chOff x="2674800" y="4133880"/>
            <a:chExt cx="981360" cy="995400"/>
          </a:xfrm>
        </p:grpSpPr>
        <p:sp>
          <p:nvSpPr>
            <p:cNvPr id="235" name="Freeform 27"/>
            <p:cNvSpPr/>
            <p:nvPr/>
          </p:nvSpPr>
          <p:spPr>
            <a:xfrm>
              <a:off x="2743200" y="4281480"/>
              <a:ext cx="912960" cy="847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6" name="Freeform 28"/>
            <p:cNvSpPr/>
            <p:nvPr/>
          </p:nvSpPr>
          <p:spPr>
            <a:xfrm>
              <a:off x="2674800" y="4133880"/>
              <a:ext cx="135000" cy="2142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37" name="Group 29"/>
          <p:cNvGrpSpPr/>
          <p:nvPr/>
        </p:nvGrpSpPr>
        <p:grpSpPr>
          <a:xfrm>
            <a:off x="5468760" y="1781280"/>
            <a:ext cx="1008360" cy="1290600"/>
            <a:chOff x="5468760" y="1781280"/>
            <a:chExt cx="1008360" cy="1290600"/>
          </a:xfrm>
        </p:grpSpPr>
        <p:sp>
          <p:nvSpPr>
            <p:cNvPr id="238" name="Freeform 30"/>
            <p:cNvSpPr/>
            <p:nvPr/>
          </p:nvSpPr>
          <p:spPr>
            <a:xfrm>
              <a:off x="5630760" y="1847880"/>
              <a:ext cx="846360" cy="12240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39" name="Freeform 31"/>
            <p:cNvSpPr/>
            <p:nvPr/>
          </p:nvSpPr>
          <p:spPr>
            <a:xfrm>
              <a:off x="5468760" y="1781280"/>
              <a:ext cx="216000" cy="1332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0" name="Group 32"/>
          <p:cNvGrpSpPr/>
          <p:nvPr/>
        </p:nvGrpSpPr>
        <p:grpSpPr>
          <a:xfrm>
            <a:off x="5456160" y="2062080"/>
            <a:ext cx="858960" cy="1009800"/>
            <a:chOff x="5456160" y="2062080"/>
            <a:chExt cx="858960" cy="1009800"/>
          </a:xfrm>
        </p:grpSpPr>
        <p:sp>
          <p:nvSpPr>
            <p:cNvPr id="241" name="Freeform 33"/>
            <p:cNvSpPr/>
            <p:nvPr/>
          </p:nvSpPr>
          <p:spPr>
            <a:xfrm>
              <a:off x="5456160" y="2062080"/>
              <a:ext cx="804960" cy="847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2" name="Freeform 34"/>
            <p:cNvSpPr/>
            <p:nvPr/>
          </p:nvSpPr>
          <p:spPr>
            <a:xfrm>
              <a:off x="6194520" y="2855880"/>
              <a:ext cx="120600" cy="2160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3" name="Group 35"/>
          <p:cNvGrpSpPr/>
          <p:nvPr/>
        </p:nvGrpSpPr>
        <p:grpSpPr>
          <a:xfrm>
            <a:off x="5468760" y="4119480"/>
            <a:ext cx="1062360" cy="1224000"/>
            <a:chOff x="5468760" y="4119480"/>
            <a:chExt cx="1062360" cy="1224000"/>
          </a:xfrm>
        </p:grpSpPr>
        <p:sp>
          <p:nvSpPr>
            <p:cNvPr id="244" name="Freeform 36"/>
            <p:cNvSpPr/>
            <p:nvPr/>
          </p:nvSpPr>
          <p:spPr>
            <a:xfrm>
              <a:off x="5468760" y="4281480"/>
              <a:ext cx="1008360" cy="1062000"/>
            </a:xfrm>
            <a:prstGeom prst="pie">
              <a:avLst/>
            </a:prstGeom>
            <a:noFill/>
            <a:ln w="12600">
              <a:solidFill>
                <a:srgbClr val="75bc4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5" name="Freeform 37"/>
            <p:cNvSpPr/>
            <p:nvPr/>
          </p:nvSpPr>
          <p:spPr>
            <a:xfrm>
              <a:off x="6408720" y="4119480"/>
              <a:ext cx="122400" cy="216000"/>
            </a:xfrm>
            <a:prstGeom prst="pie">
              <a:avLst/>
            </a:prstGeom>
            <a:solidFill>
              <a:srgbClr val="75bc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46" name="Group 38"/>
          <p:cNvGrpSpPr/>
          <p:nvPr/>
        </p:nvGrpSpPr>
        <p:grpSpPr>
          <a:xfrm>
            <a:off x="5468760" y="4119480"/>
            <a:ext cx="792360" cy="1076400"/>
            <a:chOff x="5468760" y="4119480"/>
            <a:chExt cx="792360" cy="1076400"/>
          </a:xfrm>
        </p:grpSpPr>
        <p:sp>
          <p:nvSpPr>
            <p:cNvPr id="247" name="Freeform 39"/>
            <p:cNvSpPr/>
            <p:nvPr/>
          </p:nvSpPr>
          <p:spPr>
            <a:xfrm>
              <a:off x="5630760" y="4119480"/>
              <a:ext cx="630360" cy="1009800"/>
            </a:xfrm>
            <a:prstGeom prst="pie">
              <a:avLst/>
            </a:prstGeom>
            <a:noFill/>
            <a:ln w="12600">
              <a:solidFill>
                <a:srgbClr val="e17e2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48" name="Freeform 40"/>
            <p:cNvSpPr/>
            <p:nvPr/>
          </p:nvSpPr>
          <p:spPr>
            <a:xfrm>
              <a:off x="5468760" y="5060880"/>
              <a:ext cx="216000" cy="135000"/>
            </a:xfrm>
            <a:prstGeom prst="pie">
              <a:avLst/>
            </a:prstGeom>
            <a:solidFill>
              <a:srgbClr val="e17e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49" name="Line 41"/>
          <p:cNvSpPr/>
          <p:nvPr/>
        </p:nvSpPr>
        <p:spPr>
          <a:xfrm>
            <a:off x="5603760" y="5719680"/>
            <a:ext cx="268560" cy="1800"/>
          </a:xfrm>
          <a:prstGeom prst="line">
            <a:avLst/>
          </a:prstGeom>
          <a:ln w="12600">
            <a:solidFill>
              <a:srgbClr val="e17e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Freeform 42"/>
          <p:cNvSpPr/>
          <p:nvPr/>
        </p:nvSpPr>
        <p:spPr>
          <a:xfrm>
            <a:off x="5818320" y="5653080"/>
            <a:ext cx="215640" cy="135000"/>
          </a:xfrm>
          <a:prstGeom prst="pie">
            <a:avLst/>
          </a:prstGeom>
          <a:solidFill>
            <a:srgbClr val="e17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1" name="Line 43"/>
          <p:cNvSpPr/>
          <p:nvPr/>
        </p:nvSpPr>
        <p:spPr>
          <a:xfrm>
            <a:off x="5603760" y="6110280"/>
            <a:ext cx="268560" cy="1440"/>
          </a:xfrm>
          <a:prstGeom prst="line">
            <a:avLst/>
          </a:prstGeom>
          <a:ln w="12600">
            <a:solidFill>
              <a:srgbClr val="75bc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Freeform 44"/>
          <p:cNvSpPr/>
          <p:nvPr/>
        </p:nvSpPr>
        <p:spPr>
          <a:xfrm>
            <a:off x="5818320" y="6041880"/>
            <a:ext cx="215640" cy="135000"/>
          </a:xfrm>
          <a:prstGeom prst="pie">
            <a:avLst/>
          </a:prstGeom>
          <a:solidFill>
            <a:srgbClr val="75bc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Rectangle 45"/>
          <p:cNvSpPr/>
          <p:nvPr/>
        </p:nvSpPr>
        <p:spPr>
          <a:xfrm>
            <a:off x="5642640" y="1600200"/>
            <a:ext cx="73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Gasto (=PIB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4" name="Group 46"/>
          <p:cNvGrpSpPr/>
          <p:nvPr/>
        </p:nvGrpSpPr>
        <p:grpSpPr>
          <a:xfrm>
            <a:off x="5538960" y="2062080"/>
            <a:ext cx="583920" cy="478080"/>
            <a:chOff x="5538960" y="2062080"/>
            <a:chExt cx="583920" cy="478080"/>
          </a:xfrm>
        </p:grpSpPr>
        <p:sp>
          <p:nvSpPr>
            <p:cNvPr id="255" name="Rectangle 47"/>
            <p:cNvSpPr/>
            <p:nvPr/>
          </p:nvSpPr>
          <p:spPr>
            <a:xfrm>
              <a:off x="5538960" y="2062080"/>
              <a:ext cx="48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6" name="Rectangle 48"/>
            <p:cNvSpPr/>
            <p:nvPr/>
          </p:nvSpPr>
          <p:spPr>
            <a:xfrm>
              <a:off x="5538960" y="222408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57" name="Rectangle 49"/>
            <p:cNvSpPr/>
            <p:nvPr/>
          </p:nvSpPr>
          <p:spPr>
            <a:xfrm>
              <a:off x="5540040" y="2387520"/>
              <a:ext cx="58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adquirid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58" name="Rectangle 50"/>
          <p:cNvSpPr/>
          <p:nvPr/>
        </p:nvSpPr>
        <p:spPr>
          <a:xfrm>
            <a:off x="2823480" y="160020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59" name="Group 51"/>
          <p:cNvGrpSpPr/>
          <p:nvPr/>
        </p:nvGrpSpPr>
        <p:grpSpPr>
          <a:xfrm>
            <a:off x="2999880" y="2070000"/>
            <a:ext cx="594720" cy="478080"/>
            <a:chOff x="2999880" y="2070000"/>
            <a:chExt cx="594720" cy="478080"/>
          </a:xfrm>
        </p:grpSpPr>
        <p:sp>
          <p:nvSpPr>
            <p:cNvPr id="260" name="Rectangle 52"/>
            <p:cNvSpPr/>
            <p:nvPr/>
          </p:nvSpPr>
          <p:spPr>
            <a:xfrm>
              <a:off x="2999880" y="207000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1" name="Rectangle 53"/>
            <p:cNvSpPr/>
            <p:nvPr/>
          </p:nvSpPr>
          <p:spPr>
            <a:xfrm>
              <a:off x="3000960" y="2232000"/>
              <a:ext cx="59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2" name="Rectangle 54"/>
            <p:cNvSpPr/>
            <p:nvPr/>
          </p:nvSpPr>
          <p:spPr>
            <a:xfrm>
              <a:off x="3000240" y="239544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vendid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63" name="Group 55"/>
          <p:cNvGrpSpPr/>
          <p:nvPr/>
        </p:nvGrpSpPr>
        <p:grpSpPr>
          <a:xfrm>
            <a:off x="5338080" y="4648320"/>
            <a:ext cx="821880" cy="316080"/>
            <a:chOff x="5338080" y="4648320"/>
            <a:chExt cx="821880" cy="316080"/>
          </a:xfrm>
        </p:grpSpPr>
        <p:sp>
          <p:nvSpPr>
            <p:cNvPr id="264" name="Rectangle 56"/>
            <p:cNvSpPr/>
            <p:nvPr/>
          </p:nvSpPr>
          <p:spPr>
            <a:xfrm>
              <a:off x="5338080" y="4648320"/>
              <a:ext cx="821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rabajo, tierr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65" name="Rectangle 57"/>
            <p:cNvSpPr/>
            <p:nvPr/>
          </p:nvSpPr>
          <p:spPr>
            <a:xfrm>
              <a:off x="5364360" y="4811760"/>
              <a:ext cx="499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capita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l.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66" name="Rectangle 58"/>
          <p:cNvSpPr/>
          <p:nvPr/>
        </p:nvSpPr>
        <p:spPr>
          <a:xfrm>
            <a:off x="5626800" y="5356080"/>
            <a:ext cx="819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Ingreso (=PIB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Rectangle 59"/>
          <p:cNvSpPr/>
          <p:nvPr/>
        </p:nvSpPr>
        <p:spPr>
          <a:xfrm>
            <a:off x="6128280" y="56214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8" name="Rectangle 60"/>
          <p:cNvSpPr/>
          <p:nvPr/>
        </p:nvSpPr>
        <p:spPr>
          <a:xfrm>
            <a:off x="6163920" y="5653080"/>
            <a:ext cx="100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factores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Rectangle 61"/>
          <p:cNvSpPr/>
          <p:nvPr/>
        </p:nvSpPr>
        <p:spPr>
          <a:xfrm>
            <a:off x="6023520" y="57848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Rectangle 62"/>
          <p:cNvSpPr/>
          <p:nvPr/>
        </p:nvSpPr>
        <p:spPr>
          <a:xfrm>
            <a:off x="6271920" y="5816520"/>
            <a:ext cx="65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y productos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Rectangle 63"/>
          <p:cNvSpPr/>
          <p:nvPr/>
        </p:nvSpPr>
        <p:spPr>
          <a:xfrm>
            <a:off x="6128280" y="5979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2" name="Rectangle 64"/>
          <p:cNvSpPr/>
          <p:nvPr/>
        </p:nvSpPr>
        <p:spPr>
          <a:xfrm>
            <a:off x="6165000" y="6012000"/>
            <a:ext cx="900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flujo de dinero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73" name="Group 65"/>
          <p:cNvGrpSpPr/>
          <p:nvPr/>
        </p:nvGrpSpPr>
        <p:grpSpPr>
          <a:xfrm>
            <a:off x="2897640" y="4648320"/>
            <a:ext cx="685080" cy="314280"/>
            <a:chOff x="2897640" y="4648320"/>
            <a:chExt cx="685080" cy="314280"/>
          </a:xfrm>
        </p:grpSpPr>
        <p:sp>
          <p:nvSpPr>
            <p:cNvPr id="274" name="Rectangle 66"/>
            <p:cNvSpPr/>
            <p:nvPr/>
          </p:nvSpPr>
          <p:spPr>
            <a:xfrm>
              <a:off x="2913120" y="4648320"/>
              <a:ext cx="669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5" name="Rectangle 67"/>
            <p:cNvSpPr/>
            <p:nvPr/>
          </p:nvSpPr>
          <p:spPr>
            <a:xfrm>
              <a:off x="2897640" y="4809960"/>
              <a:ext cx="619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ció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276" name="Group 68"/>
          <p:cNvGrpSpPr/>
          <p:nvPr/>
        </p:nvGrpSpPr>
        <p:grpSpPr>
          <a:xfrm>
            <a:off x="2625120" y="5356080"/>
            <a:ext cx="1101960" cy="314640"/>
            <a:chOff x="2625120" y="5356080"/>
            <a:chExt cx="1101960" cy="314640"/>
          </a:xfrm>
        </p:grpSpPr>
        <p:sp>
          <p:nvSpPr>
            <p:cNvPr id="277" name="Rectangle 69"/>
            <p:cNvSpPr/>
            <p:nvPr/>
          </p:nvSpPr>
          <p:spPr>
            <a:xfrm>
              <a:off x="2626200" y="5356080"/>
              <a:ext cx="1100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Salarios, alquileres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,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78" name="Rectangle 70"/>
            <p:cNvSpPr/>
            <p:nvPr/>
          </p:nvSpPr>
          <p:spPr>
            <a:xfrm>
              <a:off x="2625120" y="5518080"/>
              <a:ext cx="1064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y beneficios (=PIB)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79" name="Rectangle 71"/>
          <p:cNvSpPr/>
          <p:nvPr/>
        </p:nvSpPr>
        <p:spPr>
          <a:xfrm>
            <a:off x="224352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0" name="Rectangle 72"/>
          <p:cNvSpPr/>
          <p:nvPr/>
        </p:nvSpPr>
        <p:spPr>
          <a:xfrm>
            <a:off x="219924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1" name="Rectangle 73"/>
          <p:cNvSpPr/>
          <p:nvPr/>
        </p:nvSpPr>
        <p:spPr>
          <a:xfrm>
            <a:off x="224352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Rectangle 74"/>
          <p:cNvSpPr/>
          <p:nvPr/>
        </p:nvSpPr>
        <p:spPr>
          <a:xfrm>
            <a:off x="219924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83" name="Group 75"/>
          <p:cNvGrpSpPr/>
          <p:nvPr/>
        </p:nvGrpSpPr>
        <p:grpSpPr>
          <a:xfrm>
            <a:off x="1816200" y="3071880"/>
            <a:ext cx="1652400" cy="1035000"/>
            <a:chOff x="1816200" y="3071880"/>
            <a:chExt cx="1652400" cy="1035000"/>
          </a:xfrm>
        </p:grpSpPr>
        <p:sp>
          <p:nvSpPr>
            <p:cNvPr id="284" name="Rectangle 76"/>
            <p:cNvSpPr/>
            <p:nvPr/>
          </p:nvSpPr>
          <p:spPr>
            <a:xfrm>
              <a:off x="1816200" y="3071880"/>
              <a:ext cx="165240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5" name="Rectangle 77"/>
            <p:cNvSpPr/>
            <p:nvPr/>
          </p:nvSpPr>
          <p:spPr>
            <a:xfrm>
              <a:off x="2288520" y="3124080"/>
              <a:ext cx="604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Empres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6" name="Rectangle 78"/>
            <p:cNvSpPr/>
            <p:nvPr/>
          </p:nvSpPr>
          <p:spPr>
            <a:xfrm>
              <a:off x="2067120" y="3286080"/>
              <a:ext cx="1134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Producen y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7" name="Rectangle 79"/>
            <p:cNvSpPr/>
            <p:nvPr/>
          </p:nvSpPr>
          <p:spPr>
            <a:xfrm>
              <a:off x="210744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8" name="Rectangle 80"/>
            <p:cNvSpPr/>
            <p:nvPr/>
          </p:nvSpPr>
          <p:spPr>
            <a:xfrm>
              <a:off x="2060640" y="3581280"/>
              <a:ext cx="1007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ntratan y usa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89" name="Rectangle 81"/>
            <p:cNvSpPr/>
            <p:nvPr/>
          </p:nvSpPr>
          <p:spPr>
            <a:xfrm>
              <a:off x="2115360" y="3733920"/>
              <a:ext cx="132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290" name="Rectangle 82"/>
          <p:cNvSpPr/>
          <p:nvPr/>
        </p:nvSpPr>
        <p:spPr>
          <a:xfrm>
            <a:off x="5628240" y="3535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Rectangle 83"/>
          <p:cNvSpPr/>
          <p:nvPr/>
        </p:nvSpPr>
        <p:spPr>
          <a:xfrm>
            <a:off x="5583600" y="369720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Rectangle 84"/>
          <p:cNvSpPr/>
          <p:nvPr/>
        </p:nvSpPr>
        <p:spPr>
          <a:xfrm>
            <a:off x="5628240" y="3860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Rectangle 85"/>
          <p:cNvSpPr/>
          <p:nvPr/>
        </p:nvSpPr>
        <p:spPr>
          <a:xfrm>
            <a:off x="5583600" y="40226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294" name="Group 86"/>
          <p:cNvGrpSpPr/>
          <p:nvPr/>
        </p:nvGrpSpPr>
        <p:grpSpPr>
          <a:xfrm>
            <a:off x="5537160" y="3071880"/>
            <a:ext cx="1650960" cy="1035000"/>
            <a:chOff x="5537160" y="3071880"/>
            <a:chExt cx="1650960" cy="1035000"/>
          </a:xfrm>
        </p:grpSpPr>
        <p:sp>
          <p:nvSpPr>
            <p:cNvPr id="295" name="Rectangle 87"/>
            <p:cNvSpPr/>
            <p:nvPr/>
          </p:nvSpPr>
          <p:spPr>
            <a:xfrm>
              <a:off x="5537160" y="3071880"/>
              <a:ext cx="1650960" cy="1035000"/>
            </a:xfrm>
            <a:prstGeom prst="rect">
              <a:avLst/>
            </a:prstGeom>
            <a:solidFill>
              <a:srgbClr val="b4d9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6" name="Rectangle 88"/>
            <p:cNvSpPr/>
            <p:nvPr/>
          </p:nvSpPr>
          <p:spPr>
            <a:xfrm>
              <a:off x="5720760" y="3276720"/>
              <a:ext cx="1316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Compran y consum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7" name="Rectangle 89"/>
            <p:cNvSpPr/>
            <p:nvPr/>
          </p:nvSpPr>
          <p:spPr>
            <a:xfrm>
              <a:off x="5795280" y="3429000"/>
              <a:ext cx="1014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8" name="Rectangle 90"/>
            <p:cNvSpPr/>
            <p:nvPr/>
          </p:nvSpPr>
          <p:spPr>
            <a:xfrm>
              <a:off x="5718240" y="3581280"/>
              <a:ext cx="1013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Tienen y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299" name="Rectangle 91"/>
            <p:cNvSpPr/>
            <p:nvPr/>
          </p:nvSpPr>
          <p:spPr>
            <a:xfrm>
              <a:off x="5719680" y="3733920"/>
              <a:ext cx="1393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ctores de producció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0" name="Rectangle 92"/>
            <p:cNvSpPr/>
            <p:nvPr/>
          </p:nvSpPr>
          <p:spPr>
            <a:xfrm>
              <a:off x="6097320" y="3124080"/>
              <a:ext cx="506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Familia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301" name="Rectangle 93"/>
          <p:cNvSpPr/>
          <p:nvPr/>
        </p:nvSpPr>
        <p:spPr>
          <a:xfrm>
            <a:off x="4115160" y="53481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2" name="Rectangle 94"/>
          <p:cNvSpPr/>
          <p:nvPr/>
        </p:nvSpPr>
        <p:spPr>
          <a:xfrm>
            <a:off x="4115160" y="551196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03" name="Group 95"/>
          <p:cNvGrpSpPr/>
          <p:nvPr/>
        </p:nvGrpSpPr>
        <p:grpSpPr>
          <a:xfrm>
            <a:off x="3656160" y="4591080"/>
            <a:ext cx="1827000" cy="1290600"/>
            <a:chOff x="3656160" y="4591080"/>
            <a:chExt cx="1827000" cy="1290600"/>
          </a:xfrm>
        </p:grpSpPr>
        <p:sp>
          <p:nvSpPr>
            <p:cNvPr id="304" name="Oval 96"/>
            <p:cNvSpPr/>
            <p:nvPr/>
          </p:nvSpPr>
          <p:spPr>
            <a:xfrm>
              <a:off x="3656160" y="4591080"/>
              <a:ext cx="1827000" cy="12906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5" name="Rectangle 97"/>
            <p:cNvSpPr/>
            <p:nvPr/>
          </p:nvSpPr>
          <p:spPr>
            <a:xfrm>
              <a:off x="4120200" y="5334120"/>
              <a:ext cx="963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06" name="Rectangle 98"/>
            <p:cNvSpPr/>
            <p:nvPr/>
          </p:nvSpPr>
          <p:spPr>
            <a:xfrm>
              <a:off x="4119840" y="5486400"/>
              <a:ext cx="1141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compra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grpSp>
          <p:nvGrpSpPr>
            <p:cNvPr id="307" name="Group 99"/>
            <p:cNvGrpSpPr/>
            <p:nvPr/>
          </p:nvGrpSpPr>
          <p:grpSpPr>
            <a:xfrm>
              <a:off x="3891960" y="4876920"/>
              <a:ext cx="1294560" cy="457560"/>
              <a:chOff x="3891960" y="4876920"/>
              <a:chExt cx="1294560" cy="457560"/>
            </a:xfrm>
          </p:grpSpPr>
          <p:sp>
            <p:nvSpPr>
              <p:cNvPr id="308" name="Rectangle 100"/>
              <p:cNvSpPr/>
              <p:nvPr/>
            </p:nvSpPr>
            <p:spPr>
              <a:xfrm>
                <a:off x="4270680" y="4876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Mercados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309" name="Rectangle 101"/>
              <p:cNvSpPr/>
              <p:nvPr/>
            </p:nvSpPr>
            <p:spPr>
              <a:xfrm>
                <a:off x="4496040" y="5029200"/>
                <a:ext cx="148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de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  <p:sp>
            <p:nvSpPr>
              <p:cNvPr id="310" name="Rectangle 102"/>
              <p:cNvSpPr/>
              <p:nvPr/>
            </p:nvSpPr>
            <p:spPr>
              <a:xfrm>
                <a:off x="3891960" y="5181840"/>
                <a:ext cx="1294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CL" sz="1000" spc="-1" strike="noStrike">
                    <a:solidFill>
                      <a:srgbClr val="000000"/>
                    </a:solidFill>
                    <a:latin typeface="Arial"/>
                  </a:rPr>
                  <a:t>Factores Productivos</a:t>
                </a:r>
                <a:endParaRPr b="0" lang="en-US" sz="10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311" name="Rectangle 103"/>
          <p:cNvSpPr/>
          <p:nvPr/>
        </p:nvSpPr>
        <p:spPr>
          <a:xfrm>
            <a:off x="4115160" y="2343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Rectangle 104"/>
          <p:cNvSpPr/>
          <p:nvPr/>
        </p:nvSpPr>
        <p:spPr>
          <a:xfrm>
            <a:off x="4115160" y="2505240"/>
            <a:ext cx="35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313" name="Group 105"/>
          <p:cNvGrpSpPr/>
          <p:nvPr/>
        </p:nvGrpSpPr>
        <p:grpSpPr>
          <a:xfrm>
            <a:off x="3656160" y="1309680"/>
            <a:ext cx="1827000" cy="1278000"/>
            <a:chOff x="3656160" y="1309680"/>
            <a:chExt cx="1827000" cy="1278000"/>
          </a:xfrm>
        </p:grpSpPr>
        <p:sp>
          <p:nvSpPr>
            <p:cNvPr id="314" name="Oval 106"/>
            <p:cNvSpPr/>
            <p:nvPr/>
          </p:nvSpPr>
          <p:spPr>
            <a:xfrm>
              <a:off x="3656160" y="1309680"/>
              <a:ext cx="1827000" cy="1278000"/>
            </a:xfrm>
            <a:prstGeom prst="ellipse">
              <a:avLst/>
            </a:prstGeom>
            <a:solidFill>
              <a:srgbClr val="faf1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5" name="Rectangle 107"/>
            <p:cNvSpPr/>
            <p:nvPr/>
          </p:nvSpPr>
          <p:spPr>
            <a:xfrm>
              <a:off x="4119120" y="2057400"/>
              <a:ext cx="1064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Empresas vende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6" name="Rectangle 108"/>
            <p:cNvSpPr/>
            <p:nvPr/>
          </p:nvSpPr>
          <p:spPr>
            <a:xfrm>
              <a:off x="4120920" y="2209680"/>
              <a:ext cx="1041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buClr>
                  <a:srgbClr val="000000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000000"/>
                  </a:solidFill>
                  <a:latin typeface="Arial"/>
                </a:rPr>
                <a:t>Familias compran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7" name="Rectangle 109"/>
            <p:cNvSpPr/>
            <p:nvPr/>
          </p:nvSpPr>
          <p:spPr>
            <a:xfrm>
              <a:off x="4270320" y="152388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Mercad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8" name="Rectangle 110"/>
            <p:cNvSpPr/>
            <p:nvPr/>
          </p:nvSpPr>
          <p:spPr>
            <a:xfrm>
              <a:off x="4496040" y="16765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de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  <p:sp>
          <p:nvSpPr>
            <p:cNvPr id="319" name="Rectangle 111"/>
            <p:cNvSpPr/>
            <p:nvPr/>
          </p:nvSpPr>
          <p:spPr>
            <a:xfrm>
              <a:off x="4038480" y="1828800"/>
              <a:ext cx="114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CL" sz="1000" spc="-1" strike="noStrike">
                  <a:solidFill>
                    <a:srgbClr val="000000"/>
                  </a:solidFill>
                  <a:latin typeface="Arial"/>
                </a:rPr>
                <a:t>Bienes y servicios</a:t>
              </a:r>
              <a:endParaRPr b="0" lang="en-US" sz="10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7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2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31T03:29:00Z</dcterms:created>
  <dc:creator> </dc:creator>
  <dc:description/>
  <dc:language>en-US</dc:language>
  <cp:lastModifiedBy> </cp:lastModifiedBy>
  <dcterms:modified xsi:type="dcterms:W3CDTF">2009-09-08T22:28:16Z</dcterms:modified>
  <cp:revision>51</cp:revision>
  <dc:subject/>
  <dc:title>Slide 1</dc:title>
</cp:coreProperties>
</file>