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9DF41-7AAE-4DC8-A760-69E599195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B14F0-3E5C-4239-B57B-897E0C1A7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4D2DA-B870-4371-8E0D-21B7C124A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700FE-393B-44BF-ACE3-69CC95E12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81439-ABD4-41DA-8715-DCC6A8388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9483F-7361-4F9B-B61E-B1A967CEA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E61F7-6E06-4D30-97A9-B3C5FB05C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DD77A-5984-40EC-9409-BDC6DC3EB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B3D4B-F61F-4EFD-B135-EAF34EC40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07E34-8D11-4F0A-B267-F986C33AE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3B173-CCCF-4525-9717-7998FFF3A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4512C-447C-44AA-AEAC-5EB9BC9A5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99466-644C-412D-A4DA-C870BB265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4F186-EF17-4797-B6CD-AFBC560A7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F0118-FA51-47D0-A59E-522DDEF84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3032E-A0FE-46F7-AA63-86795BF29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832E4-CCAB-4307-877C-47B7C42ED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6A7DE-4849-4AB8-86A1-489B1FD0B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8B850-3F0F-4BC4-AEE5-3B5C476DD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51337-2A54-45A3-8110-6C1F3D5C9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286AC-72B4-44E7-A7E2-D17D9C86A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A527A-E2B3-46D6-BF81-F96814B9F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B1840-8BD0-4F34-8AF1-8A5E18794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F2AA7-FBD5-4D36-8EF9-CF89EF0A3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187D-D1A5-401F-B077-35EC8E3A4A57}"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9CFA-DFB7-4911-90EE-9B38B924CCA9}"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Arial"/>
              </a:rPr>
              <a:t>Seguridad ciudadana y control de armas</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vío de cartas explosivas (</a:t>
            </a:r>
            <a:r>
              <a:rPr b="0" lang="es-CL" sz="2400" spc="-1" strike="noStrike">
                <a:solidFill>
                  <a:srgbClr val="000000"/>
                </a:solidFill>
                <a:latin typeface="Arial"/>
              </a:rPr>
              <a:t>LEY 19047)</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Art. 403 bis.- El que enviare cartas o encomiendas explosivas de cualquier tipo que afecten o puedan la vida o integridad corporal de las personas, será penado con presidio mayor en su grado míni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1" lang="es-CL" sz="1900" spc="-1" strike="noStrike">
                <a:solidFill>
                  <a:srgbClr val="000000"/>
                </a:solidFill>
                <a:latin typeface="Arial"/>
              </a:rPr>
              <a:t>Art. 450</a:t>
            </a:r>
            <a:r>
              <a:rPr b="0" lang="es-CL" sz="1900" spc="-1" strike="noStrike">
                <a:solidFill>
                  <a:srgbClr val="000000"/>
                </a:solidFill>
                <a:latin typeface="Arial"/>
              </a:rPr>
              <a:t>. Los delitos a que se refiere el Párrafo 2 y el artículo 440 del Párrafo 3 de este Título se castigarán como consumados desde que se encuentren en N° 9 grado de tentativ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En los delitos de robo y hurto, la pena correspondiente será elevada en un grado cuando los culpables hagan uso de armas o sean portadores de ell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En el caso del delito de hurto, el aumento de la pena contemplado en el inciso anterior se producirá si las armas que se portan son de fuego, cortantes o punzantes. Tratándose de otras armas, la mera circunstancia de portarlas no aumentará la pena si, a juicio del tribunal, fueren llevadas por el delincuente con un propósito ajeno a la comisión del delito.</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Para determinar cuando el robo o hurto se comete con armas, se estará a lo dispuesto en el artículo 132.</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FALTA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 494. Sufrirán la pena de multa de una a cuatro unidades tributarias mensuales: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 El que amenazare a otro con armas blancas o de fuego y el que riñendo con otro las sacare, como no sea con motivo just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 496. Sufrirán la pena de multa de una a cuatro unidades tributarias mensuales: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2. El que dentro de las poblaciones y en contravención a los reglamentos disparare armas de fuego, cohetes, petardos u otros proyecti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TULO I</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de armas y elementos similare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tículo 1°- El Ministerio de Defensa Nacional a través de la Dirección General de Movilización Nacional estará a cargo de la supervigilancia y control de las armas, explosivos, fuegos artificiales y artículos pirotécnicos y otros elementos similares de que trata esta le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7" name="PlaceHolder 2"/>
          <p:cNvSpPr>
            <a:spLocks noGrp="1"/>
          </p:cNvSpPr>
          <p:nvPr>
            <p:ph/>
          </p:nvPr>
        </p:nvSpPr>
        <p:spPr>
          <a:xfrm>
            <a:off x="1523880" y="1412640"/>
            <a:ext cx="7010640" cy="4606920"/>
          </a:xfrm>
          <a:prstGeom prst="rect">
            <a:avLst/>
          </a:prstGeom>
          <a:noFill/>
          <a:ln w="0">
            <a:noFill/>
          </a:ln>
        </p:spPr>
        <p:txBody>
          <a:bodyPr lIns="90000" rIns="90000" tIns="46800" bIns="46800" anchor="t">
            <a:normAutofit fontScale="97000"/>
          </a:bodyPr>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rtículo 2</a:t>
            </a:r>
            <a:r>
              <a:rPr b="0" lang="en-US" sz="1800" spc="-1" strike="noStrike">
                <a:solidFill>
                  <a:srgbClr val="000000"/>
                </a:solidFill>
                <a:latin typeface="Arial"/>
              </a:rPr>
              <a:t>°. Quedan sometidos a este control: </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El </a:t>
            </a:r>
            <a:r>
              <a:rPr b="1" lang="en-US" sz="1800" spc="-1" strike="noStrike">
                <a:solidFill>
                  <a:srgbClr val="000000"/>
                </a:solidFill>
                <a:latin typeface="Arial"/>
              </a:rPr>
              <a:t>material de uso bélico</a:t>
            </a:r>
            <a:r>
              <a:rPr b="0" lang="en-US" sz="1800" spc="-1" strike="noStrike">
                <a:solidFill>
                  <a:srgbClr val="000000"/>
                </a:solidFill>
                <a:latin typeface="Arial"/>
              </a:rPr>
              <a:t>, entendiéndose por tal, las armas cualquiera sea su naturaleza, construidas para ser utilizadas en la guerra por las fuerzas armadas, y los medios de combate terrestre, navales y aéreos, fabricados o acondicionados especialmente para esta finalidad;</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b)</a:t>
            </a:r>
            <a:r>
              <a:rPr b="0" lang="en-US" sz="1800" spc="-1" strike="noStrike">
                <a:solidFill>
                  <a:srgbClr val="000000"/>
                </a:solidFill>
                <a:latin typeface="Arial"/>
              </a:rPr>
              <a:t>.- Las </a:t>
            </a:r>
            <a:r>
              <a:rPr b="1" lang="en-US" sz="1800" spc="-1" strike="noStrike">
                <a:solidFill>
                  <a:srgbClr val="000000"/>
                </a:solidFill>
                <a:latin typeface="Arial"/>
              </a:rPr>
              <a:t>armas de fuego</a:t>
            </a:r>
            <a:r>
              <a:rPr b="0" lang="en-US" sz="1800" spc="-1" strike="noStrike">
                <a:solidFill>
                  <a:srgbClr val="000000"/>
                </a:solidFill>
                <a:latin typeface="Arial"/>
              </a:rPr>
              <a:t>, sea cual fuere su calibre, y sus partes y piezas;</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Las </a:t>
            </a:r>
            <a:r>
              <a:rPr b="1" lang="en-US" sz="1800" spc="-1" strike="noStrike">
                <a:solidFill>
                  <a:srgbClr val="000000"/>
                </a:solidFill>
                <a:latin typeface="Arial"/>
              </a:rPr>
              <a:t>municiones y cartuchos</a:t>
            </a:r>
            <a:r>
              <a:rPr b="0" lang="en-US" sz="1800" spc="-1" strike="noStrike">
                <a:solidFill>
                  <a:srgbClr val="000000"/>
                </a:solidFill>
                <a:latin typeface="Arial"/>
              </a:rPr>
              <a:t>;</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a:t>
            </a:r>
            <a:r>
              <a:rPr b="0" lang="en-US" sz="1800" spc="-1" strike="noStrike">
                <a:solidFill>
                  <a:srgbClr val="000000"/>
                </a:solidFill>
                <a:latin typeface="Arial"/>
              </a:rPr>
              <a:t>.- Los </a:t>
            </a:r>
            <a:r>
              <a:rPr b="1" lang="en-US" sz="1800" spc="-1" strike="noStrike">
                <a:solidFill>
                  <a:srgbClr val="000000"/>
                </a:solidFill>
                <a:latin typeface="Arial"/>
              </a:rPr>
              <a:t>explosivos, bombas y otros artefactos </a:t>
            </a:r>
            <a:r>
              <a:rPr b="0" lang="en-US" sz="1800" spc="-1" strike="noStrike">
                <a:solidFill>
                  <a:srgbClr val="000000"/>
                </a:solidFill>
                <a:latin typeface="Arial"/>
              </a:rPr>
              <a:t>de similar naturaleza, y sus partes y piezas; </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e)</a:t>
            </a:r>
            <a:r>
              <a:rPr b="0" lang="en-US" sz="1800" spc="-1" strike="noStrike">
                <a:solidFill>
                  <a:srgbClr val="000000"/>
                </a:solidFill>
                <a:latin typeface="Arial"/>
              </a:rPr>
              <a:t>.- Las </a:t>
            </a:r>
            <a:r>
              <a:rPr b="1" lang="en-US" sz="1800" spc="-1" strike="noStrike">
                <a:solidFill>
                  <a:srgbClr val="000000"/>
                </a:solidFill>
                <a:latin typeface="Arial"/>
              </a:rPr>
              <a:t>sustancias químicas </a:t>
            </a:r>
            <a:r>
              <a:rPr b="0" lang="en-US" sz="1800" spc="-1" strike="noStrike">
                <a:solidFill>
                  <a:srgbClr val="000000"/>
                </a:solidFill>
                <a:latin typeface="Arial"/>
              </a:rPr>
              <a:t>que esencialmente son susceptibles de ser usadas o empleadas para la fabricación de explosivos, o que sirven de base para la elaboración de municiones, proyectiles, misiles o cohetes, bombas, cartuchos, y los elementos lacrimógenos o de efecto fisiológico;</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f)</a:t>
            </a:r>
            <a:r>
              <a:rPr b="0" lang="en-US" sz="1800" spc="-1" strike="noStrike">
                <a:solidFill>
                  <a:srgbClr val="000000"/>
                </a:solidFill>
                <a:latin typeface="Arial"/>
              </a:rPr>
              <a:t> Los </a:t>
            </a:r>
            <a:r>
              <a:rPr b="1" lang="en-US" sz="1800" spc="-1" strike="noStrike">
                <a:solidFill>
                  <a:srgbClr val="000000"/>
                </a:solidFill>
                <a:latin typeface="Arial"/>
              </a:rPr>
              <a:t>fuegos artificiales</a:t>
            </a:r>
            <a:r>
              <a:rPr b="0" lang="en-US" sz="1800" spc="-1" strike="noStrike">
                <a:solidFill>
                  <a:srgbClr val="000000"/>
                </a:solidFill>
                <a:latin typeface="Arial"/>
              </a:rPr>
              <a:t>, […] y</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 Las </a:t>
            </a:r>
            <a:r>
              <a:rPr b="1" lang="en-US" sz="1800" spc="-1" strike="noStrike">
                <a:solidFill>
                  <a:srgbClr val="000000"/>
                </a:solidFill>
                <a:latin typeface="Arial"/>
              </a:rPr>
              <a:t>instalaciones </a:t>
            </a:r>
            <a:r>
              <a:rPr b="0" lang="en-US" sz="1800" spc="-1" strike="noStrike">
                <a:solidFill>
                  <a:srgbClr val="000000"/>
                </a:solidFill>
                <a:latin typeface="Arial"/>
              </a:rPr>
              <a:t>destinadas a la fabricación, armaduría, prueba, almacenamiento o depósito de estos eleme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Armas prohibid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1" lang="en-US" sz="1900" spc="-1" strike="noStrike">
                <a:solidFill>
                  <a:srgbClr val="000000"/>
                </a:solidFill>
                <a:latin typeface="Arial"/>
              </a:rPr>
              <a:t>Art. 3º</a:t>
            </a:r>
            <a:r>
              <a:rPr b="0" lang="en-US" sz="1900" spc="-1" strike="noStrike">
                <a:solidFill>
                  <a:srgbClr val="000000"/>
                </a:solidFill>
                <a:latin typeface="Arial"/>
              </a:rPr>
              <a:t>.- Ninguna persona podrá poseer o tener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largas cuyos cañones hayan sido recortad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cortas de cualquier calibre que funcionen en forma totalmente automática,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de fantasía, entendiéndose por tales aquellas que se esconden bajo una apariencia inofensiva;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cuyos números de serie se encuentren adulterados o borrad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etralladoras, subametralladora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tralletas o cualquiera otra arma automática y semiautomática de mayor poder destructor o efectividad, sea por su potencia, por el calibre de sus proyectiles o por sus dispositivos de punterí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rmas prohibid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simismo, ninguna persona podrá poseer o tener artefactos fabricados sobre la base de gases asfixiantes, paralizantes o venenosos, de sustancias corrosivas o de metales que por la expansión de los gases producen esquirlas, ni los implementos destinados a su lanzamiento o activación, así como tampoco bombas o artefactos incendiari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demás, ninguna persona podrá poseer o tener armas b y c) de fabricación artesanal ni armas transformadas respecto de su condición original, sin autorización de la Dirección General de Movilización Nacional.</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Autorización.</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Art. 4°</a:t>
            </a:r>
            <a:r>
              <a:rPr b="0" lang="en-US" sz="1700" spc="-1" strike="noStrike">
                <a:solidFill>
                  <a:srgbClr val="000000"/>
                </a:solidFill>
                <a:latin typeface="Arial"/>
              </a:rPr>
              <a:t>.- Para fabricar, armar, transformar, importar o exportar las armas o elementos indicados en el artículo 2° y para hacer instalaciones destinadas a su fabricación, armaduría, almacenamiento o depósito, se requerirá autorización de la Dirección General de Movilización Nacional, la que se otorgará en la forma y condiciones que determine el reglamento.</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Ninguna persona, natural o jurídica, podrá poseer o tener las armas, elementos o instalaciones indicados en el artículo 2º, ni transportar, almacenar, distribuir o celebrar convenciones sobre dichas armas y elementos sin la autorización de la misma Dirección o de las autoridades a que se refiere el inciso siguiente dada en la forma que determine el reglamento. Sin embargo, tratándose de las armas y elementos establecidos en la letra a) del artículo 2°, esta autorización sólo podrá ser otorgada por la Dirección General de Movilización Nacion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	</a:t>
            </a:r>
            <a:r>
              <a:rPr b="1" lang="es-ES_tradnl" sz="2100" spc="-1" strike="noStrike">
                <a:solidFill>
                  <a:srgbClr val="000000"/>
                </a:solidFill>
                <a:latin typeface="Arial"/>
              </a:rPr>
              <a:t>	</a:t>
            </a:r>
            <a:r>
              <a:rPr b="1" lang="es-ES_tradnl" sz="2100" spc="-1" strike="noStrike">
                <a:solidFill>
                  <a:srgbClr val="000000"/>
                </a:solidFill>
                <a:latin typeface="Arial"/>
              </a:rPr>
              <a:t>Inscripción</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	</a:t>
            </a:r>
            <a:r>
              <a:rPr b="1" lang="es-CL" sz="2100" spc="-1" strike="noStrike">
                <a:solidFill>
                  <a:srgbClr val="000000"/>
                </a:solidFill>
                <a:latin typeface="Arial"/>
              </a:rPr>
              <a:t>	</a:t>
            </a:r>
            <a:r>
              <a:rPr b="1" lang="es-CL" sz="2100" spc="-1" strike="noStrike">
                <a:solidFill>
                  <a:srgbClr val="000000"/>
                </a:solidFill>
                <a:latin typeface="Arial"/>
              </a:rPr>
              <a:t>ARTICULO 5°.- Toda arma de fuego que no sea de las señaladas en el artículo 3° deberá ser inscrita a nombre de su poseedor o tenedor ante las autoridades indicadas en el artículo anterior. En el caso de las personas naturales, la autoridad competente será la que corresponda a la residencia del interesado, y en el caso de las personas jurídicas, la del lugar en que se guarden las arma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tículo 6º.-</a:t>
            </a:r>
            <a:r>
              <a:rPr b="0" lang="en-US" sz="2600" spc="-1" strike="noStrike">
                <a:solidFill>
                  <a:srgbClr val="000000"/>
                </a:solidFill>
                <a:latin typeface="Arial"/>
              </a:rPr>
              <a:t> Ninguna persona podrá portar armas de fuego fuera de los lugares indicados en el artículo 5º sin permiso de las autoridades señaladas en el artículo 4º, las que podrán otorgarlo en casos calificados y en virtud de una resolución fundada, de acuerdo con los requisitos y modalidades que establezca la Dirección General de Movilización Nac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bre el control de las armas</a:t>
            </a:r>
            <a:endParaRPr b="0" lang="en-US" sz="36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roducción.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olítica criminal respecto de la adquisición, tenencia, porte y uso de armas. Violencia armada.</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Modelos comparados: EE.U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ículo 8°</a:t>
            </a:r>
            <a:r>
              <a:rPr b="0" lang="en-US" sz="1700" spc="-1" strike="noStrike">
                <a:solidFill>
                  <a:srgbClr val="000000"/>
                </a:solidFill>
                <a:latin typeface="Arial"/>
              </a:rPr>
              <a:t>.- Los que organizaren, pertenecieren, financiaren, dotaren, instruyeren, incitaren o indujeren a la creación y funcionamiento de milicias privadas, grupos de combate o partidas militarmente organizadas, armadas con algunos de los elementos indicados en el artículo 3°, serán sancionados con la pena de presidio mayor en cualquiera de sus grado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Incurrirán en la misma pena, disminuida en un grado, los que a sabiendas ayudaren a la creación y funcionamiento de milicias privadas, grupos de combate o partidas militarmente organizadas, armados con algunos de los elementos indicados en el artículo 3°.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os que cometieren alguno de los actos a que se refiere el inciso primero con algunos de los elementos indicados en el artículo 2°, y no mencionados en el artículo 3°, serán sancionados con la pena de presidio o relegación menores en su grado máximo a presidio o relegación mayores en su grado mínimo, cuando amenacen la seguridad de las persona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1"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Artículo 9°- Los que </a:t>
            </a:r>
            <a:r>
              <a:rPr b="1" lang="es-CL" sz="2400" spc="-1" strike="noStrike">
                <a:solidFill>
                  <a:srgbClr val="000000"/>
                </a:solidFill>
                <a:latin typeface="Arial"/>
              </a:rPr>
              <a:t>poseyeren o tuvieren</a:t>
            </a:r>
            <a:r>
              <a:rPr b="0" lang="es-CL" sz="2400" spc="-1" strike="noStrike">
                <a:solidFill>
                  <a:srgbClr val="000000"/>
                </a:solidFill>
                <a:latin typeface="Arial"/>
              </a:rPr>
              <a:t> algunas de las armas o elementos señalados en las letras b), c), d) y e) del artículo 2°, sin las autorizaciones a que se refiere el artículo 4°, o sin la inscripción establecida en el artículo 5°, serán sancionados con presidio menor en su grado medio a presidio mayor en su grado mínimo.</a:t>
            </a:r>
            <a:r>
              <a:rPr b="0" lang="es-CL"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No obstante, si de los antecedentes o b y c)circunstancias del proceso pudiera presumirse fundadamente que la posesión o tenencia de las armas o elementos a que se refiere el inciso anterior estaba destinada a fines distintos que los de alterar el orden público, atacar a las Fuerzas Armadas o a las de Orden y Seguridad Pública o perpetrar otros delitos, se aplicará únicamente la multa de once a cincuenta y siete unidades tributarias mensual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En tiempo de guerra la pena será presidio mayor en cualquiera de sus grados, siempre que las circunstancias o antecedentes permitan presumir al Tribunal que la posesión o tenencia de armas, estaba destinada a alterar el orden público o a atacar a las Fuerzas Armadas, a las Fuerzas de Orden y Seguridad Pública o a civil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3"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Código Penal.</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199</a:t>
            </a:r>
            <a:r>
              <a:rPr b="0" lang="en-US" sz="1700" spc="-1" strike="noStrike">
                <a:solidFill>
                  <a:srgbClr val="000000"/>
                </a:solidFill>
                <a:latin typeface="Arial"/>
              </a:rPr>
              <a:t>. El empleado público que </a:t>
            </a:r>
            <a:r>
              <a:rPr b="1" lang="en-US" sz="1700" spc="-1" strike="noStrike">
                <a:solidFill>
                  <a:srgbClr val="000000"/>
                </a:solidFill>
                <a:latin typeface="Arial"/>
              </a:rPr>
              <a:t>expidiere</a:t>
            </a:r>
            <a:r>
              <a:rPr b="0" lang="en-US" sz="1700" spc="-1" strike="noStrike">
                <a:solidFill>
                  <a:srgbClr val="000000"/>
                </a:solidFill>
                <a:latin typeface="Arial"/>
              </a:rPr>
              <a:t> un pasaporte o porte de armas bajo nombre supuesto o lo diere en blanco, sufrirá las penas de reclusión menor en sus grados mínimo a medio e inhabilitación absoluta temporal para cargos y oficios públicos en los mismos grado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00</a:t>
            </a:r>
            <a:r>
              <a:rPr b="0" lang="en-US" sz="1700" spc="-1" strike="noStrike">
                <a:solidFill>
                  <a:srgbClr val="000000"/>
                </a:solidFill>
                <a:latin typeface="Arial"/>
              </a:rPr>
              <a:t>. El que </a:t>
            </a:r>
            <a:r>
              <a:rPr b="1" lang="en-US" sz="1700" spc="-1" strike="noStrike">
                <a:solidFill>
                  <a:srgbClr val="000000"/>
                </a:solidFill>
                <a:latin typeface="Arial"/>
              </a:rPr>
              <a:t>hiciere </a:t>
            </a:r>
            <a:r>
              <a:rPr b="0" lang="en-US" sz="1700" spc="-1" strike="noStrike">
                <a:solidFill>
                  <a:srgbClr val="000000"/>
                </a:solidFill>
                <a:latin typeface="Arial"/>
              </a:rPr>
              <a:t>un pasaporte o porte de armas falso, será castigado con reclusión menor en su grado medio y multa de seis a diez unidades tributarias mensuale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as mismas penas se impondrán al que en un pasaporte o porte de armas verdadero mudare el nombre de la persona a cuyo se halle expedido, o el de la autoridad que lo expidió, o que altere en él alguna otra circunstancia esencial.</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01</a:t>
            </a:r>
            <a:r>
              <a:rPr b="0" lang="en-US" sz="1700" spc="-1" strike="noStrike">
                <a:solidFill>
                  <a:srgbClr val="000000"/>
                </a:solidFill>
                <a:latin typeface="Arial"/>
              </a:rPr>
              <a:t>. El que hiciere </a:t>
            </a:r>
            <a:r>
              <a:rPr b="1" lang="en-US" sz="1700" spc="-1" strike="noStrike">
                <a:solidFill>
                  <a:srgbClr val="000000"/>
                </a:solidFill>
                <a:latin typeface="Arial"/>
              </a:rPr>
              <a:t>uso</a:t>
            </a:r>
            <a:r>
              <a:rPr b="0" lang="en-US" sz="1700" spc="-1" strike="noStrike">
                <a:solidFill>
                  <a:srgbClr val="000000"/>
                </a:solidFill>
                <a:latin typeface="Arial"/>
              </a:rPr>
              <a:t> del pasaporte o porte de armas falso a que se refiere el artículo anterior, incurrirá en una multa de seis a diez unidades tributarias mensuale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a misma pena se impondrá al que hiciere uso de un pasaporte o porte de armas verdadero expedido a favor de otra person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 </a:t>
            </a:r>
            <a:br>
              <a:rPr sz="3200"/>
            </a:br>
            <a:r>
              <a:rPr b="0" lang="es-ES_tradnl" sz="3200" spc="-1" strike="noStrike">
                <a:solidFill>
                  <a:srgbClr val="000000"/>
                </a:solidFill>
                <a:latin typeface="Arial"/>
              </a:rPr>
              <a:t>Problemas concursales.</a:t>
            </a:r>
            <a:endParaRPr b="0" lang="en-US" sz="3200" spc="-1" strike="noStrike">
              <a:solidFill>
                <a:srgbClr val="000000"/>
              </a:solidFill>
              <a:latin typeface="Arial"/>
            </a:endParaRPr>
          </a:p>
        </p:txBody>
      </p:sp>
      <p:sp>
        <p:nvSpPr>
          <p:cNvPr id="135"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Sentencia dictada por la 5ª Sala de la I. Corte de Apelaciones de Santiago, con fecha 15/11/07. Rol Corte: 2389-2007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	</a:t>
            </a:r>
            <a:r>
              <a:rPr b="0" lang="es-ES" sz="1900" spc="-1" strike="noStrike">
                <a:solidFill>
                  <a:srgbClr val="000000"/>
                </a:solidFill>
                <a:latin typeface="Arial"/>
              </a:rPr>
              <a:t>“</a:t>
            </a:r>
            <a:r>
              <a:rPr b="0" lang="es-ES" sz="1900" spc="-1" strike="noStrike">
                <a:solidFill>
                  <a:srgbClr val="000000"/>
                </a:solidFill>
                <a:latin typeface="Arial"/>
              </a:rPr>
              <a:t>Vist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	</a:t>
            </a:r>
            <a:r>
              <a:rPr b="0" lang="es-ES" sz="1900" spc="-1" strike="noStrike">
                <a:solidFill>
                  <a:srgbClr val="000000"/>
                </a:solidFill>
                <a:latin typeface="Arial"/>
              </a:rPr>
              <a:t>En estos autos, […] se condenó a Danilo Orlando Leyton Palma, a la pena de veinte años de presidio mayor en su grado máximo, como autor de delitos reiterados de robo de especies cometidos con intimidación, en grado consumado, por 13 hechos perpetrados en distintas fechas, entre febrero y agosto de 2006 […] y a Juan Daniel Lazcano Martínez, a la pena de trece años de presidio mayor en su grado medio, como autor de delitos reiterados de robo de especies cometidos con intimidación, en grado de consumados, dos hechos perpetrados el 22 y 30 de agosto de 2006 […] y además se condenó a cada uno de los sentenciados, ya individualizados, </a:t>
            </a:r>
            <a:r>
              <a:rPr b="1" lang="es-ES" sz="1900" spc="-1" strike="noStrike">
                <a:solidFill>
                  <a:srgbClr val="000000"/>
                </a:solidFill>
                <a:latin typeface="Arial"/>
              </a:rPr>
              <a:t>como autores del delito de porte ilegal de arma de fuego, a la pena de tres años y un día</a:t>
            </a:r>
            <a:r>
              <a:rPr b="0" lang="es-ES" sz="1900" spc="-1" strike="noStrike">
                <a:solidFill>
                  <a:srgbClr val="000000"/>
                </a:solidFill>
                <a:latin typeface="Arial"/>
              </a:rPr>
              <a:t> de presidio menor en su grado máximo […].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7"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entencia dictada por la 5ª Sala de la I. Corte de Apelaciones de Santiago, con fecha 15/11/07. Rol Corte: 2389-2007   </a:t>
            </a:r>
            <a:endParaRPr b="0" lang="en-US" sz="9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	</a:t>
            </a:r>
            <a:r>
              <a:rPr b="0" lang="es-ES" sz="1500" spc="-1" strike="noStrike">
                <a:solidFill>
                  <a:srgbClr val="000000"/>
                </a:solidFill>
                <a:latin typeface="Arial"/>
              </a:rPr>
              <a:t>Que la defensora penal público funda el recurso de nulidad en la causal prevista en el artículo 373 letra b) del Código Procesal Penal, en relación con el inciso 2° del artículo 63 del Código Penal, toda vez que se consideró dos veces una misma acción, al decidir el tribunal condenar a sus defendidos como autores del delito de robo con intimidación y además, por el delito de porte ilegal de arma de fuego, infringiendo con ello el principio de non bis in idem, lo que hace que la sentencia incurra en una errónea interpretación y aplicación del Derecho, que influyó sustancialmente en lo dispositivo del fallo. […]</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La defensa expone que, junto al voto de minoría, discrepa de esa interpretación, debido a que entre los delitos de robo con intimidación y de porte de arma de fuego prohibida existe claramente un concurso aparente de leyes penales, el cual debe resolverse por el principio de subsunción o de absorción, en el cual el desvalor del primero, absorve el desvalor del segundo. De ese modo, estima que siendo la intimidación un elemento del tipo penal del delito de robo con intimidación, el uso del arma en cuestión ya fue considerado para configurar dicha figura, de suerte que no puede volver a ser utilizado para configurar un tipo penal distinto, sin infringir con ello el principio de non bis in ídem “que prohíbe el doble juzgamiento por un mismo hecho” […].</a:t>
            </a:r>
            <a:endParaRPr b="0" lang="en-US" sz="15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	</a:t>
            </a:r>
            <a:br>
              <a:rPr sz="1500"/>
            </a:br>
            <a:br>
              <a:rPr sz="900"/>
            </a:b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9"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ntencia dictada por la 5ª Sala de la I. Corte de Apelaciones de Santiago, con fecha 15/11/07. Rol Corte: 2389-2007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El porte y uso de armas, en ese contexto, se realizó con el único fin de amenazar a los dependientes, para obtener el dinero de las cajas, por lo que existiendo una sola acción o unidad conductual, ésta no puede ser objeto de doble reproche o sanción, de lo contrario, podría llegar a sostenerse que hay que sancionarlos por el delito de amenazas, ya que éste también resguarda bienes jurídicos distintos al robo con intimidación.”</a:t>
            </a:r>
            <a:endParaRPr b="0" lang="en-US" sz="24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1"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Sentencia dictada por la 5ª Sala de la I. Corte de Apelaciones de Santiago, con fecha 15/11/07. Rol Corte: 2389-2007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Sexto: Que el recurrente estima que la sentencia ha infringido, el artículo 63 del Código Penal, norma que consagra el principio y prohibición de la doble persecución en los siguientes términos: No producen en el efecto de aumentar la pena las circunstancias agravantes que por sí mismas constituyen un delito especialmente penado por la ley, o que ésta haya expresado al describirlo y penarlo.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Tampoco lo producen aquellas circunstancias agravantes de tal manera inherentes al delito que sin la concurrencia de ellas no puede cometerse.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br>
              <a:rPr sz="2100"/>
            </a:b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3"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200" spc="-1" strike="noStrike">
                <a:solidFill>
                  <a:srgbClr val="000000"/>
                </a:solidFill>
                <a:latin typeface="Arial"/>
              </a:rPr>
              <a:t>Sentencia dictada por la 5ª Sala de la I. Corte de Apelaciones de Santiago, con fecha 15/11/07. Rol Corte: 2389-2007   </a:t>
            </a:r>
            <a:endParaRPr b="0" lang="en-US" sz="12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Noveno: Que si bien el uso de armas de fuego constituye claramente un acto idóneo para intimidar a la víctima del robo, de manera de forzarla a la entrega o manifestación de las cosas, ésta no es una circunstancia que sea posible de encuadrar en las hipótesis previstas en el artículo 63 del Código Penal, supuestamente infringido por la sentencia, toda vez que ella no constituye por sí misma un delito especialmente penado por la ley - o que ésta haya expresado al describirlo o penarlo - dado que el </a:t>
            </a:r>
            <a:r>
              <a:rPr b="1" lang="es-ES" sz="1700" spc="-1" strike="noStrike">
                <a:solidFill>
                  <a:srgbClr val="000000"/>
                </a:solidFill>
                <a:latin typeface="Arial"/>
              </a:rPr>
              <a:t>arma con que se intimida puede ser perfectamente un arma inscrita</a:t>
            </a:r>
            <a:r>
              <a:rPr b="0" lang="es-ES" sz="1700" spc="-1" strike="noStrike">
                <a:solidFill>
                  <a:srgbClr val="000000"/>
                </a:solidFill>
                <a:latin typeface="Arial"/>
              </a:rPr>
              <a:t>. </a:t>
            </a:r>
            <a:r>
              <a:rPr b="1" lang="es-ES" sz="1700" spc="-1" strike="noStrike">
                <a:solidFill>
                  <a:srgbClr val="000000"/>
                </a:solidFill>
                <a:latin typeface="Arial"/>
              </a:rPr>
              <a:t>Tampoco es una circunstancia de tal manera inherente al delito de robo con intimidación, que sin su concurrencia no pueda éste cometerse, porque, tal como se ha referido, la intimidación o la violencia puede estar constituida por cualquier acto que tenga suficiente aptitud - en términos de gravedad o intensidad coercitiva - para forzar la entrega de las cosas, como lo pueden ser las amenazas, o los malos tratamientos de obra a que alude el artículo 439 antes citado</a:t>
            </a: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	</a:t>
            </a:r>
            <a:br>
              <a:rPr sz="1700"/>
            </a:br>
            <a:r>
              <a:rPr b="0" lang="es-E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5"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ntencia I. Corte de Apelaciones de Santiago, de fecha 11/7/07.    Novena Sala  Rol Corte: 1429-2007   Ruc: 0600448399-3   2º Juzgado de Garantía de Santiag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1º Que de acuerdo al merito de la acusación que aparece transcrita en el fundamento 2º) del fallo que se revisa, son dos los ilícitos penales que se le han imputado al acusado: el de </a:t>
            </a:r>
            <a:r>
              <a:rPr b="1" lang="es-ES" sz="1600" spc="-1" strike="noStrike">
                <a:solidFill>
                  <a:srgbClr val="000000"/>
                </a:solidFill>
                <a:latin typeface="Arial"/>
              </a:rPr>
              <a:t>lesiones graves y el porte ilegal de arma de fuego</a:t>
            </a:r>
            <a:r>
              <a:rPr b="0" lang="es-ES" sz="1600" spc="-1" strike="noStrike">
                <a:solidFill>
                  <a:srgbClr val="000000"/>
                </a:solidFill>
                <a:latin typeface="Arial"/>
              </a:rPr>
              <a:t>. </a:t>
            </a:r>
            <a:br>
              <a:rPr sz="1600"/>
            </a:br>
            <a:r>
              <a:rPr b="0" lang="es-ES" sz="1600" spc="-1" strike="noStrike">
                <a:solidFill>
                  <a:srgbClr val="000000"/>
                </a:solidFill>
                <a:latin typeface="Arial"/>
              </a:rPr>
              <a:t>	</a:t>
            </a:r>
            <a:r>
              <a:rPr b="0" lang="es-ES" sz="1600" spc="-1" strike="noStrike">
                <a:solidFill>
                  <a:srgbClr val="000000"/>
                </a:solidFill>
                <a:latin typeface="Arial"/>
              </a:rPr>
              <a:t> 2º Que </a:t>
            </a:r>
            <a:r>
              <a:rPr b="1" lang="es-ES" sz="1600" spc="-1" strike="noStrike">
                <a:solidFill>
                  <a:srgbClr val="000000"/>
                </a:solidFill>
                <a:latin typeface="Arial"/>
              </a:rPr>
              <a:t>ambos ilícitos tienen bienes jurídicos protegidos distintos</a:t>
            </a:r>
            <a:r>
              <a:rPr b="0" lang="es-ES" sz="1600" spc="-1" strike="noStrike">
                <a:solidFill>
                  <a:srgbClr val="000000"/>
                </a:solidFill>
                <a:latin typeface="Arial"/>
              </a:rPr>
              <a:t>. El de lesiones, es la salud y la integridad física, en cambio el delito de porte de arma de fuego es un delito de peligro, en el que el bien jurídico protegido es la seguridad de los ciudadanos, entendiendo por tal el potencial peligro que ellos corren en el caso de que estas se utilicen indebidamente.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º Que en el caso de autos si bien es cierto que para producir las lesiones se utilizó un arma de fuego que era transportada por el victimario en la vía pública sin estar autorizado para ello, lo cierto es que se está en presencia de dos tipos penales independientes, puesto que uno no es el medio para cometer el otro.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7"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ntencia I. Corte de Apelaciones de Santiago, de fecha 11/7/07.    Novena Sala  </a:t>
            </a:r>
            <a:r>
              <a:rPr b="1" lang="es-ES" sz="1200" spc="-1" strike="noStrike" u="sng">
                <a:solidFill>
                  <a:srgbClr val="000000"/>
                </a:solidFill>
                <a:uFillTx/>
                <a:latin typeface="Arial"/>
              </a:rPr>
              <a:t>Rol Corte: 1429-2007</a:t>
            </a:r>
            <a:r>
              <a:rPr b="0" lang="es-ES" sz="1200" spc="-1" strike="noStrike">
                <a:solidFill>
                  <a:srgbClr val="000000"/>
                </a:solidFill>
                <a:latin typeface="Arial"/>
              </a:rPr>
              <a:t>   Ruc: 0600448399-3   2º Juzgado de Garantía de Santiago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sde el momento en que un sujeto transita por la vía publica portando un arma de fuego, sin contar con la debida autorización, está cometiendo el delito de porte de arma de fuego. No necesita utilizarla materialmente para que se configure el ilícito. Basta portarla sin autorización para que instantáneamente se cometa el ilícito.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Si en las circunstancias antes señaladas, cuando ya se había cometido el delito de porte de arma de fuego, se procede a utilizar esta, disparando contra un tercero, provocándole lesiones graves, como lo es el presente caso, constituye este segundo hecho un hecho ilícito independiente del primer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bre el control de las armas</a:t>
            </a:r>
            <a:endParaRPr b="0" lang="en-US" sz="36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ontrol de armas en Chile.</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onstitución Política de la Repúblic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Art. 92. Ninguna persona, grupo u organización podrá poseer o tener armas u otros elementos similares que señale una ley aprobada con quórum calificado, sin autorización otorgada en conformidad a ésta.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ódigo Penal.</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Ley sobre Control de Armas, Nº 17.798</a:t>
            </a:r>
            <a:r>
              <a:rPr b="0" lang="es-ES_tradnl" sz="2100" spc="-1" strike="noStrike">
                <a:solidFill>
                  <a:srgbClr val="000000"/>
                </a:solidFill>
                <a:latin typeface="Arial"/>
              </a:rPr>
              <a:t>	</a:t>
            </a:r>
            <a:r>
              <a:rPr b="0" lang="es-ES_tradnl" sz="2100" spc="-1" strike="noStrike">
                <a:solidFill>
                  <a:srgbClr val="000000"/>
                </a:solidFill>
                <a:latin typeface="Arial"/>
              </a:rPr>
              <a:t>Ley 12.927, sobre Seguridad del Estad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Proyectos de ley.</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9"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4º Que a lo anterior cabe agregar que es perfectamente posible que el autor de las lesiones que portaba un arma de fuego entre sus vestimentas decida no disparar en contra de la víctima, sino que utilizar el arma de fuego como un elemento contundente y golpear hiriendo de gravedad al tercero. Se estaría en este caso igual ante la presencia de dos hechos punibles independientes.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5º Que tratándose en la especie, tal como se ha explicitado precedentemente, de dos hechos punibles independientes, cabe imponerles una sanción por separado, conforme lo dispone el artículo 74 del Código Penal, y por ser esta la forma más beneficiosa para imponer la sanción.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Artículo 9º A.- Será sancionado con la pena de presidio menor en cualquiera de sus grados, el que, a sabienda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1º No siendo poseedor, tenedor o portador de un arma de fuego inscrita, adquiriere las municiones o cartuchos a que se refiere la letra c) del artículo 2º.</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2º Siendo poseedor, tenedor o portador de un arma de fuego inscrita, adquiriere municiones o cartuchos que no correspondan al calibre de ést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3º Vendiere municiones o cartuchos sin contar con la autorización respectiv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4º Estando autorizado para vender municiones o cartuchos, omitiere registrar la venta con la individualización completa del comprador y del arma respectiv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Porte con tenencia autoriza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Artículo 11°-</a:t>
            </a:r>
            <a:r>
              <a:rPr b="0" lang="en-US" sz="2100" spc="-1" strike="noStrike">
                <a:solidFill>
                  <a:srgbClr val="000000"/>
                </a:solidFill>
                <a:latin typeface="Arial"/>
              </a:rPr>
              <a:t> Los que portaren armas de fuego sin el permiso establecido en el artículo 6º serán sancionados con la pena de presidio menor en su grado medio a presidio mayor en su grado mínim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Sin embargo, si de las circunstancias o antecedentes del proceso pudiera presumirse fundadamente que la posesión o porte del arma estaba destinado a fines distintos que los de alterar el orden público, atacar a las Fuerzas Armadas o de Orden y Seguridad Pública o perpetrar otros delitos, se aplicará únicamente la pena de multa de once a cincuenta y siete unidades tributarias mensu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2°-</a:t>
            </a:r>
            <a:r>
              <a:rPr b="0" lang="en-US" sz="2100" spc="-1" strike="noStrike">
                <a:solidFill>
                  <a:srgbClr val="000000"/>
                </a:solidFill>
                <a:latin typeface="Arial"/>
              </a:rPr>
              <a:t> Los que cometieren los delitos sancionados en los artículos 9°, 10° y 11°, con más de dos armas de fuego, sufrirán la pena superior en uno o dos grados a la señalada en dichos artículos.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3°-</a:t>
            </a:r>
            <a:r>
              <a:rPr b="0" lang="en-US" sz="2100" spc="-1" strike="noStrike">
                <a:solidFill>
                  <a:srgbClr val="000000"/>
                </a:solidFill>
                <a:latin typeface="Arial"/>
              </a:rPr>
              <a:t> Los que </a:t>
            </a:r>
            <a:r>
              <a:rPr b="1" lang="en-US" sz="2100" spc="-1" strike="noStrike">
                <a:solidFill>
                  <a:srgbClr val="000000"/>
                </a:solidFill>
                <a:latin typeface="Arial"/>
              </a:rPr>
              <a:t>poseyeren o tuvieren</a:t>
            </a:r>
            <a:r>
              <a:rPr b="0" lang="en-US" sz="2100" spc="-1" strike="noStrike">
                <a:solidFill>
                  <a:srgbClr val="000000"/>
                </a:solidFill>
                <a:latin typeface="Arial"/>
              </a:rPr>
              <a:t> alguna de las armas o elementos señalados en los incisos primero, segundo o tercero del artículo 3º serán sancionados con presidio menor en su grado máximo a presidio mayor en su grado mínimo.</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º.-</a:t>
            </a:r>
            <a:r>
              <a:rPr b="0" lang="en-US" sz="2100" spc="-1" strike="noStrike">
                <a:solidFill>
                  <a:srgbClr val="000000"/>
                </a:solidFill>
                <a:latin typeface="Arial"/>
              </a:rPr>
              <a:t> Los que </a:t>
            </a:r>
            <a:r>
              <a:rPr b="1" lang="en-US" sz="2100" spc="-1" strike="noStrike">
                <a:solidFill>
                  <a:srgbClr val="000000"/>
                </a:solidFill>
                <a:latin typeface="Arial"/>
              </a:rPr>
              <a:t>portaren</a:t>
            </a:r>
            <a:r>
              <a:rPr b="0" lang="en-US" sz="2100" spc="-1" strike="noStrike">
                <a:solidFill>
                  <a:srgbClr val="000000"/>
                </a:solidFill>
                <a:latin typeface="Arial"/>
              </a:rPr>
              <a:t> alguna de las armas o elementos señalados en los incisos primero, segundo o tercero del artículo 3º serán sancionados con presidio menor en su grado máximo a presidio mayor en su grado mínim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 B.-</a:t>
            </a:r>
            <a:r>
              <a:rPr b="0" lang="en-US" sz="2100" spc="-1" strike="noStrike">
                <a:solidFill>
                  <a:srgbClr val="000000"/>
                </a:solidFill>
                <a:latin typeface="Arial"/>
              </a:rPr>
              <a:t> Constituye circunstancia </a:t>
            </a:r>
            <a:r>
              <a:rPr b="1" lang="en-US" sz="2100" spc="-1" strike="noStrike">
                <a:solidFill>
                  <a:srgbClr val="000000"/>
                </a:solidFill>
                <a:latin typeface="Arial"/>
              </a:rPr>
              <a:t>agravante</a:t>
            </a:r>
            <a:r>
              <a:rPr b="0" lang="en-US" sz="2100" spc="-1" strike="noStrike">
                <a:solidFill>
                  <a:srgbClr val="000000"/>
                </a:solidFill>
                <a:latin typeface="Arial"/>
              </a:rPr>
              <a:t> de los delitos de que trata esta ley dotar las armas o municiones, que se posean o tengan, de dispositivos, implementos o características que tengan por finalidad hacerlas más eficaces, ocasionar más daño o facilitar la impunidad del causante.</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 C.-</a:t>
            </a:r>
            <a:r>
              <a:rPr b="0" lang="en-US" sz="2100" spc="-1" strike="noStrike">
                <a:solidFill>
                  <a:srgbClr val="000000"/>
                </a:solidFill>
                <a:latin typeface="Arial"/>
              </a:rPr>
              <a:t> En los delitos previstos en los artículos 9º y 13º, constituye circunstancia </a:t>
            </a:r>
            <a:r>
              <a:rPr b="1" lang="en-US" sz="2100" spc="-1" strike="noStrike">
                <a:solidFill>
                  <a:srgbClr val="000000"/>
                </a:solidFill>
                <a:latin typeface="Arial"/>
              </a:rPr>
              <a:t>eximente</a:t>
            </a:r>
            <a:r>
              <a:rPr b="0" lang="en-US" sz="2100" spc="-1" strike="noStrike">
                <a:solidFill>
                  <a:srgbClr val="000000"/>
                </a:solidFill>
                <a:latin typeface="Arial"/>
              </a:rPr>
              <a:t> la entrega voluntaria de las armas o elementos a las autoridades señaladas en el artículo 1º, sin que haya mediado actuación policial, judicial o del Ministerio Público de ninguna especi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ITULO III</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risdicción, competencia y procedimiento</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rtículo 18.-</a:t>
            </a:r>
            <a:r>
              <a:rPr b="0" lang="en-US" sz="1900" spc="-1" strike="noStrike">
                <a:solidFill>
                  <a:srgbClr val="000000"/>
                </a:solidFill>
                <a:latin typeface="Arial"/>
              </a:rPr>
              <a:t> Los delitos tipificados en los artículos 9º, 9º A, 11 y 14 A de esta ley serán conocidos por los jueces de garantía y tribunales orales en lo penal, con arreglo al Código Procesal Penal. Los mismos tribunales conocerán de los delitos tipificados en los artículos 13 y 14 cuando se cometan con bombas o artefactos incendiarios, con armas de fabricación artesanal o transformadas respecto de su condición original, o bien con armas cuyos números de serie se encuentren adulterados o borrados.</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demás delitos sancionados en el Título anterior serán de conocimiento, por regla general, de los tribunales militares, de acuerdo con las normas que a continuación se señalan: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CL" sz="1400" spc="-1" strike="noStrike">
                <a:solidFill>
                  <a:srgbClr val="000000"/>
                </a:solidFill>
                <a:latin typeface="Arial"/>
              </a:rPr>
              <a:t>Código Penal</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Art. 12. Son circunstancias agravant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11a. Ejecutarlo con auxilio de gente armada o de personas que aseguren o proporcionen la impunidad.</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20.ª Ejecutarlo portando armas de fuego o de aquellas referidas en el artículo 132.</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Ley. 20.000</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rtículo 19.- Tratándose de los delitos anteriormente descritos, la pena deberá ser aumentada en un grado si concurre alguna de las circunstancias siguient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b) Si se utilizó violencia, armas o engaño en su comisión.</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Moción Senador Escalona (Boletín Nº 5362.02)</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rtículo 147 bis. "El que con motivo u ocasión de un espectáculo público o en una reunión en lugares públicos o de acceso publico, causare lesiones a las personas o daños a bienes en el recinto en que tiene lugar o en sus inmediaciones, antes, durante o después de su desarrollo, será castigado con presidio mayor en su grado medio, salvo que el hecho delictual merezca una pena superior</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Constituirá una circunstancia agravante el porte de armas, elementos u objetos idóneos para perpetrarlos, o cuando se incitare o promoviere la ejecución de alguna de las conductas descri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21</a:t>
            </a:r>
            <a:r>
              <a:rPr b="0" lang="en-US" sz="1700" spc="-1" strike="noStrike">
                <a:solidFill>
                  <a:srgbClr val="000000"/>
                </a:solidFill>
                <a:latin typeface="Arial"/>
              </a:rPr>
              <a:t>. Los que se alzaren a mano armada contra el Gobierno legalmente constituido con el objeto de promover la guerra civil, de cambiar la Constitución del Estado o su forma de gobierno, de privar de sus funciones o impedir que entren en el ejercicio de ellas al Presidente de la República o al que haga sus veces, a los miembros del Congreso Nacional o de los Tribunales Superiores de Justicia, sufrirán la pena de reclusión mayor, o bien la de confinamiento mayor o la de extrañamiento mayor, en cualesquiera de sus grado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32.</a:t>
            </a:r>
            <a:r>
              <a:rPr b="0" lang="en-US" sz="1700" spc="-1" strike="noStrike">
                <a:solidFill>
                  <a:srgbClr val="000000"/>
                </a:solidFill>
                <a:latin typeface="Arial"/>
              </a:rPr>
              <a:t> </a:t>
            </a:r>
            <a:r>
              <a:rPr b="0" lang="en-US" sz="2000" spc="-1" strike="noStrike">
                <a:solidFill>
                  <a:srgbClr val="000000"/>
                </a:solidFill>
                <a:latin typeface="Arial"/>
              </a:rPr>
              <a:t>Cuando en las sublevaciones de que trata este título se supone uso de armas, se comprenderá bajo esta palabra toda máquina, instrumento, utensilio u objeto cortante, punzante o contundente que se haya tomado para matar, herir o golpear, aun cuando no se haya hecho uso de é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Título VI DE LOS CRIMENES Y SIMPLES DELITOS CONTRA EL ORDEN Y LA SEGURIDAD PUBLICOS COMETIDOS POR PARTICULARE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 Atentados contra la autoridad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61</a:t>
            </a:r>
            <a:r>
              <a:rPr b="0" lang="en-US" sz="1700" spc="-1" strike="noStrike">
                <a:solidFill>
                  <a:srgbClr val="000000"/>
                </a:solidFill>
                <a:latin typeface="Arial"/>
              </a:rPr>
              <a:t>. Cometen atentado contra la autoridad:</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 Los que sin alzarse públicamente emplean fuerza o intimidación para algunos de los objetos señalados en los artículos 121 y 126.</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2° Los que acometen o resisten con violencia, emplean fuerza o intimidación contra la autoridad pública o sus agentes, cuando aquélla o éstos ejercieren funciones de su cargo.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62</a:t>
            </a:r>
            <a:r>
              <a:rPr b="0" lang="en-US" sz="1700" spc="-1" strike="noStrike">
                <a:solidFill>
                  <a:srgbClr val="000000"/>
                </a:solidFill>
                <a:latin typeface="Arial"/>
              </a:rPr>
              <a:t>. Los atentados a que se refiere el artículo anterior serán castigados con la pena de reclusión menor en su grado medio o multa de once a quince unidades tributarias mensuales, siempre que concurra alguna de las circunstancias siguient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a. Si la agresión se verifica a mano armada.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8. De las infracciones de las leyes y reglamentos relativos a las armas prohibida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1" lang="es-CL" sz="1700" spc="-1" strike="noStrike">
                <a:solidFill>
                  <a:srgbClr val="000000"/>
                </a:solidFill>
                <a:latin typeface="Arial"/>
              </a:rPr>
              <a:t>Art. 288</a:t>
            </a:r>
            <a:r>
              <a:rPr b="0" lang="es-CL" sz="1700" spc="-1" strike="noStrike">
                <a:solidFill>
                  <a:srgbClr val="000000"/>
                </a:solidFill>
                <a:latin typeface="Arial"/>
              </a:rPr>
              <a:t>. El que fabricare, vendiere o distribuyere armas absolutamente prohibidas por la ley o por los reglamentos generales que dicte el Presidente de la República, sufrirá la pena de reclusión menor en su grado mínimo o multa de seis a diez unidades tributarias mensual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NOTA: Este artículo ha sido parcialmente derogado por el artículo 24 de la ley N° 17798, de 21 de octubre de 1972, sobre control de armas de fuego, y que dispone: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Deróganse el Artículo 288 del Código Penal y la letra e) del artículo 6° de la ley N° 12.927, sólo en cuanto se refiere a armas de fuego, explosivos y demás elementos contemplados en la presente le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PORTA DE ARMAS CORTANTES O PUNZANTES (LEY 19975, 05.10.2004)</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1" lang="es-CL" sz="1600" spc="-1" strike="noStrike">
                <a:solidFill>
                  <a:srgbClr val="000000"/>
                </a:solidFill>
                <a:latin typeface="Arial"/>
              </a:rPr>
              <a:t>Artículo 288 bis</a:t>
            </a:r>
            <a:r>
              <a:rPr b="0" lang="es-CL" sz="1600" spc="-1" strike="noStrike">
                <a:solidFill>
                  <a:srgbClr val="000000"/>
                </a:solidFill>
                <a:latin typeface="Arial"/>
              </a:rPr>
              <a:t>.- El que portare armas cortantes o punzantes en recintos de expendio de bebidas alcohólicas que deban consumirse en el mismo local, sufrirá la pena de presidio menor en su grado mínimo o multa de 1 a 4 UTM.</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gual sanción se aplicará al que en espectáculos públicos, en establecimientos de enseñanza o en vías o espacios públicos en áreas urbanas portare dichas armas, cuando no pueda justificar razonablemente su porte.</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1" lang="es-ES_tradnl" sz="1600" spc="-1" strike="noStrike">
                <a:solidFill>
                  <a:srgbClr val="000000"/>
                </a:solidFill>
                <a:latin typeface="Arial"/>
              </a:rPr>
              <a:t>Ley 12.927 sobre Seguridad del Estad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Art. 10</a:t>
            </a:r>
            <a:r>
              <a:rPr b="0" lang="es-ES_tradnl" sz="1600" spc="-1" strike="noStrike">
                <a:solidFill>
                  <a:srgbClr val="000000"/>
                </a:solidFill>
                <a:latin typeface="Arial"/>
              </a:rPr>
              <a:t>. Prohíbese, salvo permiso de la autoridad competente, el uso de armas cortantes, punzantes y contundentes a todos los que no pertenezcan a las Fuerzas Armadas, al Cuerpo de Carabineros, al Servicio de Investigaciones, Al Servicio de Vigilancia de Prisiones o a los demás organismos estatales autorizados por la ley.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Pena: presidio menor en su grado mínimo y multa “cuyo monto guarde relación con las facultades económicas del infractor, pero no excederá de un cuarto de sueldo vital mensua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402</a:t>
            </a:r>
            <a:r>
              <a:rPr b="0" lang="en-US" sz="1700" spc="-1" strike="noStrike">
                <a:solidFill>
                  <a:srgbClr val="000000"/>
                </a:solidFill>
                <a:latin typeface="Arial"/>
              </a:rPr>
              <a:t>. Si resultaren lesiones graves de una riña o pelea y no constare su autor, pero sí los que causaron lesiones menos graves, se impondrán a todos éstos las penas inmediatamente inferiores en grado a las que les hubieren correspondido por aquellas lesion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No constando tampoco los que causaron lesiones menos graves, se impondrán las penas inferiores en dos grados a los que aparezca que hicieron uso en la riña o pelea de armas que pudieron causar esas lesiones graves.</a:t>
            </a: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403</a:t>
            </a:r>
            <a:r>
              <a:rPr b="0" lang="en-US" sz="1700" spc="-1" strike="noStrike">
                <a:solidFill>
                  <a:srgbClr val="000000"/>
                </a:solidFill>
                <a:latin typeface="Arial"/>
              </a:rPr>
              <a:t>. Cuando sólo hubieren resultado lesiones menos graves sin conocerse a los autores de ellas, pero sí a los que hicieron uso de armas capaces de producirlas, se impondrá a todos éstos las penas inmediatamente inferiores en grado a las que les hubieran correspondido por tales lesione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En los casos de este artículo y del anterior, se estará a lo dispuesto en el 304 para la aplicación de la pen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01:09:07Z</dcterms:created>
  <dc:creator>Tomas Ramirez</dc:creator>
  <dc:description/>
  <dc:language>en-US</dc:language>
  <cp:lastModifiedBy>Tomas Ramirez</cp:lastModifiedBy>
  <dcterms:modified xsi:type="dcterms:W3CDTF">2009-11-03T17:48:39Z</dcterms:modified>
  <cp:revision>28</cp:revision>
  <dc:subject/>
  <dc:title>Ley de control de armas</dc:title>
</cp:coreProperties>
</file>